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32.wmf" ContentType="image/x-wmf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30.wmf" ContentType="image/x-wmf"/>
  <Override PartName="/ppt/media/image4.png" ContentType="image/png"/>
  <Override PartName="/ppt/media/image3.jpeg" ContentType="image/jpeg"/>
  <Override PartName="/ppt/media/image1.jpeg" ContentType="image/jpeg"/>
  <Override PartName="/ppt/media/image15.wmf" ContentType="image/x-wmf"/>
  <Override PartName="/ppt/media/image27.gif" ContentType="image/gif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982-4089-4AA0-810C-776B84B25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4E2-775D-4E96-A897-16DA619B0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97A6-576D-4F36-A818-F2CBCD6E7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87E-2FB6-4FC1-8E4F-08DBE516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16F-C171-4B2D-AC43-65D020FB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EC2-75D8-4E43-91B1-9359E349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31D-F779-4D7D-9D2B-9FDE10C9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C64-2C59-4077-B116-FE052AC1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002-8935-4046-89C7-DFF318A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335-8807-47BF-A0A9-34C59C2D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240-254D-4BB6-B5F8-66D9DEE4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EF7-21EB-4324-9C6D-6B8D051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89A-EFCC-4DAB-B33E-8331D50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EEC-F4E5-4459-9EFA-CA5926F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B60-C250-4245-901A-D0C5DEC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1F8-1035-4A37-A325-7D39F1E5831B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3.png"/><Relationship Id="rId7" Type="http://schemas.openxmlformats.org/officeDocument/2006/relationships/package" Target="../embeddings/oleObject3.xlsx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6.png"/><Relationship Id="rId7" Type="http://schemas.openxmlformats.org/officeDocument/2006/relationships/package" Target="../embeddings/oleObject3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9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package" Target="../embeddings/oleObject4.xlsx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0480" y="2982600"/>
            <a:ext cx="10880640" cy="20574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3645000"/>
            <a:ext cx="12801600" cy="40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ПАСПОРТ ТЕРРИТОРИИ</a:t>
            </a:r>
            <a:br>
              <a:rPr sz="4300"/>
            </a:b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СЕЛЬСКОГО ПОСЕЛЕНИЯ СУРКОВСКИЙ СЕЛЬСОВ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ТОГУЧИНСКОГО РАЙОНА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НОВОСИБИРСКОЙ ОБЛАСТИ</a:t>
            </a:r>
            <a:br>
              <a:rPr sz="4300"/>
            </a:br>
            <a:r>
              <a:rPr b="1" lang="ru-RU" sz="4300" spc="-1" strike="noStrike">
                <a:solidFill>
                  <a:srgbClr val="ffff66"/>
                </a:solidFill>
                <a:latin typeface="Arial"/>
                <a:ea typeface="Arial"/>
              </a:rPr>
              <a:t>СИБИРСКОГО ФЕДЕРАЛЬНОГО ОКРУГ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94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27"/>
          <p:cNvSpPr/>
          <p:nvPr/>
        </p:nvSpPr>
        <p:spPr>
          <a:xfrm>
            <a:off x="7696080" y="717696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подтоплен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 flipV="1">
            <a:off x="3094200" y="-360"/>
            <a:ext cx="13730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0"/>
          <p:cNvSpPr/>
          <p:nvPr/>
        </p:nvSpPr>
        <p:spPr>
          <a:xfrm>
            <a:off x="-7920" y="-23760"/>
            <a:ext cx="12817440" cy="132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объектах морского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40"/>
          <p:cNvGrpSpPr/>
          <p:nvPr/>
        </p:nvGrpSpPr>
        <p:grpSpPr>
          <a:xfrm>
            <a:off x="136440" y="6313320"/>
            <a:ext cx="3240000" cy="3240360"/>
            <a:chOff x="136440" y="6313320"/>
            <a:chExt cx="3240000" cy="3240360"/>
          </a:xfrm>
        </p:grpSpPr>
        <p:sp>
          <p:nvSpPr>
            <p:cNvPr id="337" name="Rectangle 112"/>
            <p:cNvSpPr/>
            <p:nvPr/>
          </p:nvSpPr>
          <p:spPr>
            <a:xfrm>
              <a:off x="136440" y="6313320"/>
              <a:ext cx="324000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5"/>
            <p:cNvSpPr/>
            <p:nvPr/>
          </p:nvSpPr>
          <p:spPr>
            <a:xfrm>
              <a:off x="1292760" y="6935760"/>
              <a:ext cx="1380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морской пор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9" name="Object 143"/>
            <p:cNvGraphicFramePr/>
            <p:nvPr/>
          </p:nvGraphicFramePr>
          <p:xfrm>
            <a:off x="423720" y="6935760"/>
            <a:ext cx="255600" cy="33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Object 14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3720" y="6935760"/>
                      <a:ext cx="2556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113"/>
            <p:cNvSpPr/>
            <p:nvPr/>
          </p:nvSpPr>
          <p:spPr>
            <a:xfrm>
              <a:off x="423720" y="6504120"/>
              <a:ext cx="27367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440" rIns="127440" tIns="63720" bIns="6372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16"/>
            <p:cNvSpPr/>
            <p:nvPr/>
          </p:nvSpPr>
          <p:spPr>
            <a:xfrm>
              <a:off x="280800" y="7440480"/>
              <a:ext cx="55404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17"/>
            <p:cNvSpPr/>
            <p:nvPr/>
          </p:nvSpPr>
          <p:spPr>
            <a:xfrm>
              <a:off x="1292400" y="7224840"/>
              <a:ext cx="1371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морские пу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63"/>
            <p:cNvSpPr/>
            <p:nvPr/>
          </p:nvSpPr>
          <p:spPr>
            <a:xfrm>
              <a:off x="280800" y="7656480"/>
              <a:ext cx="488880" cy="1587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47"/>
            <p:cNvSpPr/>
            <p:nvPr/>
          </p:nvSpPr>
          <p:spPr>
            <a:xfrm>
              <a:off x="1360440" y="7512120"/>
              <a:ext cx="1728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аварийно-опасные участки на мор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3"/>
            <p:cNvGrpSpPr/>
            <p:nvPr/>
          </p:nvGrpSpPr>
          <p:grpSpPr>
            <a:xfrm>
              <a:off x="423720" y="8161200"/>
              <a:ext cx="225000" cy="209160"/>
              <a:chOff x="423720" y="8161200"/>
              <a:chExt cx="225000" cy="209160"/>
            </a:xfrm>
          </p:grpSpPr>
          <p:sp>
            <p:nvSpPr>
              <p:cNvPr id="347" name="Oval 4"/>
              <p:cNvSpPr/>
              <p:nvPr/>
            </p:nvSpPr>
            <p:spPr>
              <a:xfrm>
                <a:off x="423720" y="8161200"/>
                <a:ext cx="225000" cy="20916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440" rIns="127440" tIns="63720" bIns="6372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"/>
              <p:cNvSpPr/>
              <p:nvPr/>
            </p:nvSpPr>
            <p:spPr>
              <a:xfrm>
                <a:off x="509040" y="8161200"/>
                <a:ext cx="57960" cy="209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440" rIns="127440" tIns="63720" bIns="6372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64"/>
            <p:cNvSpPr/>
            <p:nvPr/>
          </p:nvSpPr>
          <p:spPr>
            <a:xfrm>
              <a:off x="1360440" y="7943760"/>
              <a:ext cx="1714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ертолетные площадк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53"/>
            <p:cNvGrpSpPr/>
            <p:nvPr/>
          </p:nvGrpSpPr>
          <p:grpSpPr>
            <a:xfrm>
              <a:off x="352080" y="8594640"/>
              <a:ext cx="722520" cy="358560"/>
              <a:chOff x="352080" y="8594640"/>
              <a:chExt cx="722520" cy="358560"/>
            </a:xfrm>
          </p:grpSpPr>
          <p:sp>
            <p:nvSpPr>
              <p:cNvPr id="351" name="Rectangle 54"/>
              <p:cNvSpPr/>
              <p:nvPr/>
            </p:nvSpPr>
            <p:spPr>
              <a:xfrm>
                <a:off x="716400" y="8645760"/>
                <a:ext cx="35820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№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7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55"/>
              <p:cNvGrpSpPr/>
              <p:nvPr/>
            </p:nvGrpSpPr>
            <p:grpSpPr>
              <a:xfrm>
                <a:off x="352080" y="8594640"/>
                <a:ext cx="481680" cy="240480"/>
                <a:chOff x="352080" y="8594640"/>
                <a:chExt cx="481680" cy="240480"/>
              </a:xfrm>
            </p:grpSpPr>
            <p:grpSp>
              <p:nvGrpSpPr>
                <p:cNvPr id="353" name="Group 56"/>
                <p:cNvGrpSpPr/>
                <p:nvPr/>
              </p:nvGrpSpPr>
              <p:grpSpPr>
                <a:xfrm>
                  <a:off x="352080" y="8594640"/>
                  <a:ext cx="318960" cy="240480"/>
                  <a:chOff x="352080" y="8594640"/>
                  <a:chExt cx="318960" cy="240480"/>
                </a:xfrm>
              </p:grpSpPr>
              <p:sp>
                <p:nvSpPr>
                  <p:cNvPr id="354" name="Rectangle 57"/>
                  <p:cNvSpPr/>
                  <p:nvPr/>
                </p:nvSpPr>
                <p:spPr>
                  <a:xfrm>
                    <a:off x="352080" y="8687880"/>
                    <a:ext cx="318960" cy="147240"/>
                  </a:xfrm>
                  <a:prstGeom prst="rect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58"/>
                  <p:cNvSpPr/>
                  <p:nvPr/>
                </p:nvSpPr>
                <p:spPr>
                  <a:xfrm flipV="1">
                    <a:off x="354600" y="8594640"/>
                    <a:ext cx="162360" cy="93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59"/>
                  <p:cNvSpPr/>
                  <p:nvPr/>
                </p:nvSpPr>
                <p:spPr>
                  <a:xfrm>
                    <a:off x="519120" y="8594640"/>
                    <a:ext cx="149400" cy="87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60"/>
                  <p:cNvGrpSpPr/>
                  <p:nvPr/>
                </p:nvGrpSpPr>
                <p:grpSpPr>
                  <a:xfrm>
                    <a:off x="495000" y="8630640"/>
                    <a:ext cx="37080" cy="40680"/>
                    <a:chOff x="495000" y="8630640"/>
                    <a:chExt cx="37080" cy="40680"/>
                  </a:xfrm>
                </p:grpSpPr>
                <p:sp>
                  <p:nvSpPr>
                    <p:cNvPr id="358" name="Line 61"/>
                    <p:cNvSpPr/>
                    <p:nvPr/>
                  </p:nvSpPr>
                  <p:spPr>
                    <a:xfrm>
                      <a:off x="513000" y="8630640"/>
                      <a:ext cx="0" cy="4068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2"/>
                    <p:cNvSpPr/>
                    <p:nvPr/>
                  </p:nvSpPr>
                  <p:spPr>
                    <a:xfrm>
                      <a:off x="495000" y="8654400"/>
                      <a:ext cx="3708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0" name="Line 63"/>
                <p:cNvSpPr/>
                <p:nvPr/>
              </p:nvSpPr>
              <p:spPr>
                <a:xfrm>
                  <a:off x="735480" y="874836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Text Box 55"/>
            <p:cNvSpPr/>
            <p:nvPr/>
          </p:nvSpPr>
          <p:spPr>
            <a:xfrm>
              <a:off x="1288800" y="8377200"/>
              <a:ext cx="1943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районная (городская  больница)  с указанием номера и кол. кое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58"/>
          <p:cNvSpPr/>
          <p:nvPr/>
        </p:nvSpPr>
        <p:spPr>
          <a:xfrm>
            <a:off x="63360" y="3287880"/>
            <a:ext cx="12241440" cy="140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ки возникновения аварий на объектах морского транспорта отсутствуют в связи с отсутствием в области морских магистралей и объектов мо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2800" y="1776240"/>
          <a:ext cx="10009080" cy="1024200"/>
        </p:xfrm>
        <a:graphic>
          <a:graphicData uri="http://schemas.openxmlformats.org/drawingml/2006/table">
            <a:tbl>
              <a:tblPr/>
              <a:tblGrid>
                <a:gridCol w="1219320"/>
                <a:gridCol w="1224000"/>
                <a:gridCol w="1220760"/>
                <a:gridCol w="1225440"/>
                <a:gridCol w="1227240"/>
                <a:gridCol w="3892320"/>
              </a:tblGrid>
              <a:tr h="341640">
                <a:tc gridSpan="5"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 возникновения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1280"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7080" rIns="12708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 возникновения ЧС отсутс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080" marR="12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4" name="Rectangle 293"/>
          <p:cNvSpPr/>
          <p:nvPr/>
        </p:nvSpPr>
        <p:spPr>
          <a:xfrm>
            <a:off x="6256440" y="7824960"/>
            <a:ext cx="6554520" cy="180000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связи с отсутствием рис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ликвидации Ч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эвакуации населе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эвакуации из зон возможного воздействия поражающих факторов (характеристика маршрута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авиационной разведки на территории муниципального района не определя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18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27"/>
          <p:cNvSpPr/>
          <p:nvPr/>
        </p:nvSpPr>
        <p:spPr>
          <a:xfrm>
            <a:off x="6977160" y="7321680"/>
            <a:ext cx="201600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подтоплен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"/>
          <p:cNvSpPr/>
          <p:nvPr/>
        </p:nvSpPr>
        <p:spPr>
          <a:xfrm flipH="1" flipV="1">
            <a:off x="3094200" y="-360"/>
            <a:ext cx="13730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0" y="-23760"/>
            <a:ext cx="12812760" cy="132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объектах речного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84"/>
          <p:cNvGrpSpPr/>
          <p:nvPr/>
        </p:nvGrpSpPr>
        <p:grpSpPr>
          <a:xfrm>
            <a:off x="9280440" y="6313320"/>
            <a:ext cx="3240000" cy="3240360"/>
            <a:chOff x="9280440" y="6313320"/>
            <a:chExt cx="3240000" cy="3240360"/>
          </a:xfrm>
        </p:grpSpPr>
        <p:sp>
          <p:nvSpPr>
            <p:cNvPr id="371" name="Rectangle 112"/>
            <p:cNvSpPr/>
            <p:nvPr/>
          </p:nvSpPr>
          <p:spPr>
            <a:xfrm>
              <a:off x="9280440" y="6313320"/>
              <a:ext cx="324000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15"/>
            <p:cNvSpPr/>
            <p:nvPr/>
          </p:nvSpPr>
          <p:spPr>
            <a:xfrm>
              <a:off x="10436760" y="6935760"/>
              <a:ext cx="1380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морской пор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3" name="Object 187"/>
            <p:cNvGraphicFramePr/>
            <p:nvPr/>
          </p:nvGraphicFramePr>
          <p:xfrm>
            <a:off x="9567720" y="6935760"/>
            <a:ext cx="255600" cy="33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4" name="Object 18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567720" y="6935760"/>
                      <a:ext cx="2556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113"/>
            <p:cNvSpPr/>
            <p:nvPr/>
          </p:nvSpPr>
          <p:spPr>
            <a:xfrm>
              <a:off x="9567720" y="6504120"/>
              <a:ext cx="27367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440" rIns="127440" tIns="63720" bIns="6372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16"/>
            <p:cNvSpPr/>
            <p:nvPr/>
          </p:nvSpPr>
          <p:spPr>
            <a:xfrm>
              <a:off x="9424800" y="7440480"/>
              <a:ext cx="55404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17"/>
            <p:cNvSpPr/>
            <p:nvPr/>
          </p:nvSpPr>
          <p:spPr>
            <a:xfrm>
              <a:off x="10436400" y="7224840"/>
              <a:ext cx="1371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морские пу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63"/>
            <p:cNvSpPr/>
            <p:nvPr/>
          </p:nvSpPr>
          <p:spPr>
            <a:xfrm>
              <a:off x="9424800" y="7656480"/>
              <a:ext cx="488880" cy="1587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7"/>
            <p:cNvSpPr/>
            <p:nvPr/>
          </p:nvSpPr>
          <p:spPr>
            <a:xfrm>
              <a:off x="10504440" y="7512120"/>
              <a:ext cx="1728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аварийно-опасные участки на мор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3"/>
            <p:cNvGrpSpPr/>
            <p:nvPr/>
          </p:nvGrpSpPr>
          <p:grpSpPr>
            <a:xfrm>
              <a:off x="9567720" y="8161200"/>
              <a:ext cx="225000" cy="209160"/>
              <a:chOff x="9567720" y="8161200"/>
              <a:chExt cx="225000" cy="209160"/>
            </a:xfrm>
          </p:grpSpPr>
          <p:sp>
            <p:nvSpPr>
              <p:cNvPr id="381" name="Oval 4"/>
              <p:cNvSpPr/>
              <p:nvPr/>
            </p:nvSpPr>
            <p:spPr>
              <a:xfrm>
                <a:off x="9567720" y="8161200"/>
                <a:ext cx="225000" cy="20916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440" rIns="127440" tIns="63720" bIns="6372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5"/>
              <p:cNvSpPr/>
              <p:nvPr/>
            </p:nvSpPr>
            <p:spPr>
              <a:xfrm>
                <a:off x="9653040" y="8161200"/>
                <a:ext cx="57960" cy="209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440" rIns="127440" tIns="63720" bIns="6372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64"/>
            <p:cNvSpPr/>
            <p:nvPr/>
          </p:nvSpPr>
          <p:spPr>
            <a:xfrm>
              <a:off x="10504440" y="7943760"/>
              <a:ext cx="1714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ертолетные площадк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53"/>
            <p:cNvGrpSpPr/>
            <p:nvPr/>
          </p:nvGrpSpPr>
          <p:grpSpPr>
            <a:xfrm>
              <a:off x="9496080" y="8594640"/>
              <a:ext cx="722520" cy="358560"/>
              <a:chOff x="9496080" y="8594640"/>
              <a:chExt cx="722520" cy="358560"/>
            </a:xfrm>
          </p:grpSpPr>
          <p:sp>
            <p:nvSpPr>
              <p:cNvPr id="385" name="Rectangle 54"/>
              <p:cNvSpPr/>
              <p:nvPr/>
            </p:nvSpPr>
            <p:spPr>
              <a:xfrm>
                <a:off x="9860400" y="8645760"/>
                <a:ext cx="35820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№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7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55"/>
              <p:cNvGrpSpPr/>
              <p:nvPr/>
            </p:nvGrpSpPr>
            <p:grpSpPr>
              <a:xfrm>
                <a:off x="9496080" y="8594640"/>
                <a:ext cx="481680" cy="240480"/>
                <a:chOff x="9496080" y="8594640"/>
                <a:chExt cx="481680" cy="240480"/>
              </a:xfrm>
            </p:grpSpPr>
            <p:grpSp>
              <p:nvGrpSpPr>
                <p:cNvPr id="387" name="Group 56"/>
                <p:cNvGrpSpPr/>
                <p:nvPr/>
              </p:nvGrpSpPr>
              <p:grpSpPr>
                <a:xfrm>
                  <a:off x="9496080" y="8594640"/>
                  <a:ext cx="318960" cy="240480"/>
                  <a:chOff x="9496080" y="8594640"/>
                  <a:chExt cx="318960" cy="240480"/>
                </a:xfrm>
              </p:grpSpPr>
              <p:sp>
                <p:nvSpPr>
                  <p:cNvPr id="388" name="Rectangle 57"/>
                  <p:cNvSpPr/>
                  <p:nvPr/>
                </p:nvSpPr>
                <p:spPr>
                  <a:xfrm>
                    <a:off x="9496080" y="8687880"/>
                    <a:ext cx="318960" cy="147240"/>
                  </a:xfrm>
                  <a:prstGeom prst="rect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58"/>
                  <p:cNvSpPr/>
                  <p:nvPr/>
                </p:nvSpPr>
                <p:spPr>
                  <a:xfrm flipV="1">
                    <a:off x="9498600" y="8594640"/>
                    <a:ext cx="162360" cy="93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59"/>
                  <p:cNvSpPr/>
                  <p:nvPr/>
                </p:nvSpPr>
                <p:spPr>
                  <a:xfrm>
                    <a:off x="9663120" y="8594640"/>
                    <a:ext cx="149400" cy="87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1" name="Group 60"/>
                  <p:cNvGrpSpPr/>
                  <p:nvPr/>
                </p:nvGrpSpPr>
                <p:grpSpPr>
                  <a:xfrm>
                    <a:off x="9639000" y="8630640"/>
                    <a:ext cx="37080" cy="40680"/>
                    <a:chOff x="9639000" y="8630640"/>
                    <a:chExt cx="37080" cy="40680"/>
                  </a:xfrm>
                </p:grpSpPr>
                <p:sp>
                  <p:nvSpPr>
                    <p:cNvPr id="392" name="Line 61"/>
                    <p:cNvSpPr/>
                    <p:nvPr/>
                  </p:nvSpPr>
                  <p:spPr>
                    <a:xfrm>
                      <a:off x="9657000" y="8630640"/>
                      <a:ext cx="0" cy="4068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62"/>
                    <p:cNvSpPr/>
                    <p:nvPr/>
                  </p:nvSpPr>
                  <p:spPr>
                    <a:xfrm>
                      <a:off x="9639000" y="8654400"/>
                      <a:ext cx="3708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4" name="Line 63"/>
                <p:cNvSpPr/>
                <p:nvPr/>
              </p:nvSpPr>
              <p:spPr>
                <a:xfrm>
                  <a:off x="9879480" y="874836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" name="Text Box 55"/>
            <p:cNvSpPr/>
            <p:nvPr/>
          </p:nvSpPr>
          <p:spPr>
            <a:xfrm>
              <a:off x="10432800" y="8377200"/>
              <a:ext cx="1943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районная (городская  больница)  с указанием номера и кол. кое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303"/>
          <p:cNvSpPr/>
          <p:nvPr/>
        </p:nvSpPr>
        <p:spPr>
          <a:xfrm>
            <a:off x="496800" y="2784600"/>
            <a:ext cx="11017440" cy="121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объектах речного транспорта отсутствуют в связи с отсутствием в районе речных магистралей и объектов речного транспор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7"/>
          <p:cNvSpPr/>
          <p:nvPr/>
        </p:nvSpPr>
        <p:spPr>
          <a:xfrm>
            <a:off x="0" y="7800840"/>
            <a:ext cx="6554880" cy="180036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связи с отсутствием рис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ликвидации Ч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эвакуации населе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эвакуации из зон возможного воздействия поражающих факторов (характеристика маршрута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авиационной разведки на территории муниципального района не определя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9"/>
          <p:cNvSpPr/>
          <p:nvPr/>
        </p:nvSpPr>
        <p:spPr>
          <a:xfrm>
            <a:off x="7782120" y="5616720"/>
            <a:ext cx="37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920960" y="5440320"/>
            <a:ext cx="8959680" cy="245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0" y="3122280"/>
            <a:ext cx="12801600" cy="33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РИСКИ ВОЗНИКНОВЕНИЯ ЧС НА ПОТЕНЦИАЛЬНО ОПАСНЫХ ОБЪЕКТА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04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27"/>
          <p:cNvSpPr/>
          <p:nvPr/>
        </p:nvSpPr>
        <p:spPr>
          <a:xfrm>
            <a:off x="7264440" y="7608960"/>
            <a:ext cx="201600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8777160" y="2135160"/>
            <a:ext cx="40244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возникновения аварий на ХОО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0" y="-23760"/>
            <a:ext cx="12809520" cy="14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3480" rIns="213480" tIns="106920" bIns="106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Х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1414160" y="7421400"/>
            <a:ext cx="2556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9785520" y="6600960"/>
            <a:ext cx="2972880" cy="2987280"/>
            <a:chOff x="9785520" y="6600960"/>
            <a:chExt cx="2972880" cy="2987280"/>
          </a:xfrm>
        </p:grpSpPr>
        <p:sp>
          <p:nvSpPr>
            <p:cNvPr id="409" name="Rectangle 6"/>
            <p:cNvSpPr/>
            <p:nvPr/>
          </p:nvSpPr>
          <p:spPr>
            <a:xfrm>
              <a:off x="9785520" y="6865560"/>
              <a:ext cx="2972880" cy="27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987480" y="6600960"/>
              <a:ext cx="25776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10338480" y="6905160"/>
              <a:ext cx="2419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Условные обознач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9987480" y="7308000"/>
              <a:ext cx="402120" cy="2019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10517040" y="7105320"/>
              <a:ext cx="22161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зона действия локальных сист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оповещения насел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"/>
            <p:cNvSpPr/>
            <p:nvPr/>
          </p:nvSpPr>
          <p:spPr>
            <a:xfrm>
              <a:off x="10087560" y="7812360"/>
              <a:ext cx="301680" cy="301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8"/>
            <p:cNvSpPr/>
            <p:nvPr/>
          </p:nvSpPr>
          <p:spPr>
            <a:xfrm>
              <a:off x="10522080" y="7610040"/>
              <a:ext cx="221472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расчетная зона воздействи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оражающих факторов в случа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аварии на ХО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"/>
            <p:cNvGrpSpPr/>
            <p:nvPr/>
          </p:nvGrpSpPr>
          <p:grpSpPr>
            <a:xfrm>
              <a:off x="10087560" y="8317080"/>
              <a:ext cx="315000" cy="292320"/>
              <a:chOff x="10087560" y="8317080"/>
              <a:chExt cx="315000" cy="292320"/>
            </a:xfrm>
          </p:grpSpPr>
          <p:sp>
            <p:nvSpPr>
              <p:cNvPr id="417" name="Oval 4"/>
              <p:cNvSpPr/>
              <p:nvPr/>
            </p:nvSpPr>
            <p:spPr>
              <a:xfrm>
                <a:off x="10087560" y="8317080"/>
                <a:ext cx="315000" cy="29232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8560" rIns="178560" tIns="89280" bIns="892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"/>
              <p:cNvSpPr/>
              <p:nvPr/>
            </p:nvSpPr>
            <p:spPr>
              <a:xfrm>
                <a:off x="10206720" y="8317080"/>
                <a:ext cx="81000" cy="292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8560" rIns="178560" tIns="89280" bIns="892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22"/>
            <p:cNvSpPr/>
            <p:nvPr/>
          </p:nvSpPr>
          <p:spPr>
            <a:xfrm>
              <a:off x="10590120" y="8317080"/>
              <a:ext cx="16462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вертолетные площад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16"/>
            <p:cNvGrpSpPr/>
            <p:nvPr/>
          </p:nvGrpSpPr>
          <p:grpSpPr>
            <a:xfrm>
              <a:off x="9887760" y="8818920"/>
              <a:ext cx="1054080" cy="504360"/>
              <a:chOff x="9887760" y="8818920"/>
              <a:chExt cx="1054080" cy="504360"/>
            </a:xfrm>
          </p:grpSpPr>
          <p:grpSp>
            <p:nvGrpSpPr>
              <p:cNvPr id="421" name="Group 17"/>
              <p:cNvGrpSpPr/>
              <p:nvPr/>
            </p:nvGrpSpPr>
            <p:grpSpPr>
              <a:xfrm>
                <a:off x="10180440" y="9136800"/>
                <a:ext cx="761400" cy="186480"/>
                <a:chOff x="10180440" y="9136800"/>
                <a:chExt cx="761400" cy="186480"/>
              </a:xfrm>
            </p:grpSpPr>
            <p:sp>
              <p:nvSpPr>
                <p:cNvPr id="422" name="Rectangle 18"/>
                <p:cNvSpPr/>
                <p:nvPr/>
              </p:nvSpPr>
              <p:spPr>
                <a:xfrm>
                  <a:off x="10180440" y="9136800"/>
                  <a:ext cx="761400" cy="186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64080" bIns="640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19"/>
                <p:cNvSpPr/>
                <p:nvPr/>
              </p:nvSpPr>
              <p:spPr>
                <a:xfrm>
                  <a:off x="10180440" y="9136800"/>
                  <a:ext cx="761400" cy="186480"/>
                </a:xfrm>
                <a:prstGeom prst="rect">
                  <a:avLst/>
                </a:prstGeom>
                <a:noFill/>
                <a:ln cap="rnd"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64080" bIns="640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0"/>
              <p:cNvGrpSpPr/>
              <p:nvPr/>
            </p:nvGrpSpPr>
            <p:grpSpPr>
              <a:xfrm>
                <a:off x="9887760" y="8977680"/>
                <a:ext cx="525600" cy="344160"/>
                <a:chOff x="9887760" y="8977680"/>
                <a:chExt cx="525600" cy="344160"/>
              </a:xfrm>
            </p:grpSpPr>
            <p:sp>
              <p:nvSpPr>
                <p:cNvPr id="425" name="Freeform 21"/>
                <p:cNvSpPr/>
                <p:nvPr/>
              </p:nvSpPr>
              <p:spPr>
                <a:xfrm>
                  <a:off x="9887760" y="8977680"/>
                  <a:ext cx="525600" cy="344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64080" bIns="640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2"/>
                <p:cNvSpPr/>
                <p:nvPr/>
              </p:nvSpPr>
              <p:spPr>
                <a:xfrm>
                  <a:off x="9887760" y="8977680"/>
                  <a:ext cx="525600" cy="344160"/>
                </a:xfrm>
                <a:prstGeom prst="pie">
                  <a:avLst/>
                </a:prstGeom>
                <a:noFill/>
                <a:ln cap="rnd"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64080" bIns="640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3"/>
              <p:cNvGrpSpPr/>
              <p:nvPr/>
            </p:nvGrpSpPr>
            <p:grpSpPr>
              <a:xfrm>
                <a:off x="10650240" y="9083880"/>
                <a:ext cx="58320" cy="52560"/>
                <a:chOff x="10650240" y="9083880"/>
                <a:chExt cx="58320" cy="52560"/>
              </a:xfrm>
            </p:grpSpPr>
            <p:sp>
              <p:nvSpPr>
                <p:cNvPr id="428" name="Rectangle 24"/>
                <p:cNvSpPr/>
                <p:nvPr/>
              </p:nvSpPr>
              <p:spPr>
                <a:xfrm>
                  <a:off x="10650240" y="9083880"/>
                  <a:ext cx="58320" cy="52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-11520" bIns="-1152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25"/>
                <p:cNvSpPr/>
                <p:nvPr/>
              </p:nvSpPr>
              <p:spPr>
                <a:xfrm>
                  <a:off x="10650240" y="9083880"/>
                  <a:ext cx="58320" cy="52560"/>
                </a:xfrm>
                <a:prstGeom prst="rect">
                  <a:avLst/>
                </a:prstGeom>
                <a:noFill/>
                <a:ln cap="rnd"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-11520" bIns="-1152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Freeform 26"/>
              <p:cNvSpPr/>
              <p:nvPr/>
            </p:nvSpPr>
            <p:spPr>
              <a:xfrm>
                <a:off x="10629360" y="8923680"/>
                <a:ext cx="135720" cy="140400"/>
              </a:xfrm>
              <a:prstGeom prst="pie">
                <a:avLst/>
              </a:prstGeom>
              <a:noFill/>
              <a:ln cap="rnd"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800" rIns="127800" tIns="64080" bIns="6408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7"/>
              <p:cNvSpPr/>
              <p:nvPr/>
            </p:nvSpPr>
            <p:spPr>
              <a:xfrm>
                <a:off x="10062000" y="8818920"/>
                <a:ext cx="135720" cy="140400"/>
              </a:xfrm>
              <a:prstGeom prst="pie">
                <a:avLst/>
              </a:prstGeom>
              <a:noFill/>
              <a:ln cap="rnd"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800" rIns="127800" tIns="64080" bIns="6408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35"/>
            <p:cNvSpPr/>
            <p:nvPr/>
          </p:nvSpPr>
          <p:spPr>
            <a:xfrm>
              <a:off x="11097360" y="9021600"/>
              <a:ext cx="6404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- ХО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254"/>
          <p:cNvSpPr/>
          <p:nvPr/>
        </p:nvSpPr>
        <p:spPr>
          <a:xfrm>
            <a:off x="712800" y="2208240"/>
            <a:ext cx="1093644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ХОО отсу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язи с отсутствием ХОО на территории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94"/>
          <p:cNvSpPr/>
          <p:nvPr/>
        </p:nvSpPr>
        <p:spPr>
          <a:xfrm>
            <a:off x="568440" y="6600960"/>
            <a:ext cx="6688080" cy="237636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связи с отсутствием рис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ликвидации Ч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эвакуации населе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эвакуации из зон возможного воздействия поражающих факторов (характеристика маршрута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авиационной разведки на территории сельского поселения не определя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50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27"/>
          <p:cNvSpPr/>
          <p:nvPr/>
        </p:nvSpPr>
        <p:spPr>
          <a:xfrm>
            <a:off x="7408800" y="688824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возникновения аварий на РОО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0" y="-23760"/>
            <a:ext cx="12801600" cy="143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4560" rIns="214560" tIns="107280" bIns="107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Р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784080" y="2424240"/>
            <a:ext cx="10723680" cy="93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РОО отсу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язи с отсутствием РОО на территории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229"/>
          <p:cNvGrpSpPr/>
          <p:nvPr/>
        </p:nvGrpSpPr>
        <p:grpSpPr>
          <a:xfrm>
            <a:off x="9425160" y="7367760"/>
            <a:ext cx="3170160" cy="2233080"/>
            <a:chOff x="9425160" y="7367760"/>
            <a:chExt cx="3170160" cy="2233080"/>
          </a:xfrm>
        </p:grpSpPr>
        <p:sp>
          <p:nvSpPr>
            <p:cNvPr id="441" name="Rectangle 230"/>
            <p:cNvSpPr/>
            <p:nvPr/>
          </p:nvSpPr>
          <p:spPr>
            <a:xfrm>
              <a:off x="9425160" y="7367760"/>
              <a:ext cx="3170160" cy="22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31"/>
            <p:cNvSpPr/>
            <p:nvPr/>
          </p:nvSpPr>
          <p:spPr>
            <a:xfrm>
              <a:off x="9450720" y="7799760"/>
              <a:ext cx="47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70"/>
            <p:cNvSpPr/>
            <p:nvPr/>
          </p:nvSpPr>
          <p:spPr>
            <a:xfrm>
              <a:off x="9483840" y="8476200"/>
              <a:ext cx="8892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720" rIns="126720" tIns="63360" bIns="6336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33"/>
            <p:cNvSpPr/>
            <p:nvPr/>
          </p:nvSpPr>
          <p:spPr>
            <a:xfrm>
              <a:off x="10053720" y="7655040"/>
              <a:ext cx="23274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Граница гарнизон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234"/>
            <p:cNvSpPr/>
            <p:nvPr/>
          </p:nvSpPr>
          <p:spPr>
            <a:xfrm>
              <a:off x="10122120" y="8160480"/>
              <a:ext cx="246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Больница с указанием количества мест (ЦРБ – центральная районная; УБ – участковая; ГБ – городская);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35"/>
            <p:cNvSpPr/>
            <p:nvPr/>
          </p:nvSpPr>
          <p:spPr>
            <a:xfrm>
              <a:off x="10069560" y="7949160"/>
              <a:ext cx="23306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Начальник гарнизон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236"/>
            <p:cNvGrpSpPr/>
            <p:nvPr/>
          </p:nvGrpSpPr>
          <p:grpSpPr>
            <a:xfrm>
              <a:off x="9498240" y="7923240"/>
              <a:ext cx="371520" cy="307800"/>
              <a:chOff x="9498240" y="7923240"/>
              <a:chExt cx="371520" cy="307800"/>
            </a:xfrm>
          </p:grpSpPr>
          <p:sp>
            <p:nvSpPr>
              <p:cNvPr id="448" name="Rectangle 237"/>
              <p:cNvSpPr/>
              <p:nvPr/>
            </p:nvSpPr>
            <p:spPr>
              <a:xfrm>
                <a:off x="9587880" y="7968600"/>
                <a:ext cx="2203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Arial"/>
                  </a:rPr>
                  <a:t>ПЧ-5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38"/>
              <p:cNvSpPr/>
              <p:nvPr/>
            </p:nvSpPr>
            <p:spPr>
              <a:xfrm>
                <a:off x="9498240" y="7947360"/>
                <a:ext cx="23400" cy="28368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39"/>
              <p:cNvSpPr/>
              <p:nvPr/>
            </p:nvSpPr>
            <p:spPr>
              <a:xfrm>
                <a:off x="9508320" y="7924320"/>
                <a:ext cx="361080" cy="4284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0"/>
              <p:cNvSpPr/>
              <p:nvPr/>
            </p:nvSpPr>
            <p:spPr>
              <a:xfrm>
                <a:off x="9846000" y="7959600"/>
                <a:ext cx="23760" cy="6768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1"/>
              <p:cNvSpPr/>
              <p:nvPr/>
            </p:nvSpPr>
            <p:spPr>
              <a:xfrm>
                <a:off x="9498960" y="8012160"/>
                <a:ext cx="360000" cy="4788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2"/>
              <p:cNvSpPr/>
              <p:nvPr/>
            </p:nvSpPr>
            <p:spPr>
              <a:xfrm>
                <a:off x="9498960" y="7923240"/>
                <a:ext cx="22680" cy="12852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1"/>
            <p:cNvGrpSpPr/>
            <p:nvPr/>
          </p:nvGrpSpPr>
          <p:grpSpPr>
            <a:xfrm>
              <a:off x="9569520" y="8879760"/>
              <a:ext cx="247680" cy="208080"/>
              <a:chOff x="9569520" y="8879760"/>
              <a:chExt cx="247680" cy="208080"/>
            </a:xfrm>
          </p:grpSpPr>
          <p:sp>
            <p:nvSpPr>
              <p:cNvPr id="455" name="Oval 72"/>
              <p:cNvSpPr/>
              <p:nvPr/>
            </p:nvSpPr>
            <p:spPr>
              <a:xfrm>
                <a:off x="9569520" y="8879760"/>
                <a:ext cx="247680" cy="2080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Group 73"/>
              <p:cNvGrpSpPr/>
              <p:nvPr/>
            </p:nvGrpSpPr>
            <p:grpSpPr>
              <a:xfrm>
                <a:off x="9639000" y="8936640"/>
                <a:ext cx="113040" cy="117000"/>
                <a:chOff x="9639000" y="8936640"/>
                <a:chExt cx="113040" cy="117000"/>
              </a:xfrm>
            </p:grpSpPr>
            <p:sp>
              <p:nvSpPr>
                <p:cNvPr id="457" name="Line 74"/>
                <p:cNvSpPr/>
                <p:nvPr/>
              </p:nvSpPr>
              <p:spPr>
                <a:xfrm>
                  <a:off x="9693000" y="8951040"/>
                  <a:ext cx="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75"/>
                <p:cNvSpPr/>
                <p:nvPr/>
              </p:nvSpPr>
              <p:spPr>
                <a:xfrm>
                  <a:off x="9639000" y="8936640"/>
                  <a:ext cx="11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" name="Text Box 248"/>
            <p:cNvSpPr/>
            <p:nvPr/>
          </p:nvSpPr>
          <p:spPr>
            <a:xfrm>
              <a:off x="10069560" y="8879760"/>
              <a:ext cx="23274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Вертолётная площадк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249"/>
            <p:cNvGrpSpPr/>
            <p:nvPr/>
          </p:nvGrpSpPr>
          <p:grpSpPr>
            <a:xfrm>
              <a:off x="9498240" y="8231760"/>
              <a:ext cx="648720" cy="285840"/>
              <a:chOff x="9498240" y="8231760"/>
              <a:chExt cx="648720" cy="285840"/>
            </a:xfrm>
          </p:grpSpPr>
          <p:sp>
            <p:nvSpPr>
              <p:cNvPr id="461" name="Rectangle 54"/>
              <p:cNvSpPr/>
              <p:nvPr/>
            </p:nvSpPr>
            <p:spPr>
              <a:xfrm>
                <a:off x="9824400" y="8273160"/>
                <a:ext cx="322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ЦР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Group 56"/>
              <p:cNvGrpSpPr/>
              <p:nvPr/>
            </p:nvGrpSpPr>
            <p:grpSpPr>
              <a:xfrm>
                <a:off x="9498240" y="8231760"/>
                <a:ext cx="325080" cy="247680"/>
                <a:chOff x="9498240" y="8231760"/>
                <a:chExt cx="325080" cy="247680"/>
              </a:xfrm>
            </p:grpSpPr>
            <p:sp>
              <p:nvSpPr>
                <p:cNvPr id="463" name="Rectangle 57"/>
                <p:cNvSpPr/>
                <p:nvPr/>
              </p:nvSpPr>
              <p:spPr>
                <a:xfrm>
                  <a:off x="9498240" y="8327880"/>
                  <a:ext cx="325080" cy="15156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58"/>
                <p:cNvSpPr/>
                <p:nvPr/>
              </p:nvSpPr>
              <p:spPr>
                <a:xfrm flipV="1">
                  <a:off x="9500760" y="8231760"/>
                  <a:ext cx="165240" cy="96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59"/>
                <p:cNvSpPr/>
                <p:nvPr/>
              </p:nvSpPr>
              <p:spPr>
                <a:xfrm>
                  <a:off x="9668520" y="8231760"/>
                  <a:ext cx="152280" cy="903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60"/>
                <p:cNvGrpSpPr/>
                <p:nvPr/>
              </p:nvGrpSpPr>
              <p:grpSpPr>
                <a:xfrm>
                  <a:off x="9644040" y="8268840"/>
                  <a:ext cx="37800" cy="42120"/>
                  <a:chOff x="9644040" y="8268840"/>
                  <a:chExt cx="37800" cy="42120"/>
                </a:xfrm>
              </p:grpSpPr>
              <p:sp>
                <p:nvSpPr>
                  <p:cNvPr id="467" name="Line 61"/>
                  <p:cNvSpPr/>
                  <p:nvPr/>
                </p:nvSpPr>
                <p:spPr>
                  <a:xfrm>
                    <a:off x="9662400" y="8268840"/>
                    <a:ext cx="0" cy="42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62"/>
                  <p:cNvSpPr/>
                  <p:nvPr/>
                </p:nvSpPr>
                <p:spPr>
                  <a:xfrm>
                    <a:off x="9644040" y="8293320"/>
                    <a:ext cx="378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69" name="Text Box 258"/>
            <p:cNvSpPr/>
            <p:nvPr/>
          </p:nvSpPr>
          <p:spPr>
            <a:xfrm>
              <a:off x="10122120" y="9240480"/>
              <a:ext cx="23274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ххимическиопасный объект (ХОО) с указанием количеств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0" name="Object 259"/>
            <p:cNvGraphicFramePr/>
            <p:nvPr/>
          </p:nvGraphicFramePr>
          <p:xfrm>
            <a:off x="9547560" y="8530560"/>
            <a:ext cx="311040" cy="277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Object 25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547560" y="8530560"/>
                      <a:ext cx="311040" cy="2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Text Box 260"/>
            <p:cNvSpPr/>
            <p:nvPr/>
          </p:nvSpPr>
          <p:spPr>
            <a:xfrm>
              <a:off x="10069560" y="8597160"/>
              <a:ext cx="23274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Врачебная амбулатория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1"/>
            <p:cNvGrpSpPr/>
            <p:nvPr/>
          </p:nvGrpSpPr>
          <p:grpSpPr>
            <a:xfrm>
              <a:off x="9495000" y="9169200"/>
              <a:ext cx="432000" cy="382320"/>
              <a:chOff x="9495000" y="9169200"/>
              <a:chExt cx="432000" cy="382320"/>
            </a:xfrm>
          </p:grpSpPr>
          <p:sp>
            <p:nvSpPr>
              <p:cNvPr id="474" name="Oval 11"/>
              <p:cNvSpPr/>
              <p:nvPr/>
            </p:nvSpPr>
            <p:spPr>
              <a:xfrm>
                <a:off x="9495000" y="9169200"/>
                <a:ext cx="432000" cy="3823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pPr>
                  <a:tabLst>
                    <a:tab algn="l" pos="0"/>
                    <a:tab algn="l" pos="654120"/>
                    <a:tab algn="l" pos="1308240"/>
                    <a:tab algn="l" pos="1962000"/>
                    <a:tab algn="l" pos="2616120"/>
                    <a:tab algn="l" pos="3270240"/>
                    <a:tab algn="l" pos="3924360"/>
                    <a:tab algn="l" pos="4578480"/>
                    <a:tab algn="l" pos="5232240"/>
                    <a:tab algn="l" pos="5886360"/>
                    <a:tab algn="l" pos="6540480"/>
                    <a:tab algn="l" pos="7194600"/>
                    <a:tab algn="l" pos="7848720"/>
                    <a:tab algn="l" pos="8502480"/>
                    <a:tab algn="l" pos="9156600"/>
                    <a:tab algn="l" pos="9810720"/>
                    <a:tab algn="l" pos="104648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263"/>
              <p:cNvGrpSpPr/>
              <p:nvPr/>
            </p:nvGrpSpPr>
            <p:grpSpPr>
              <a:xfrm>
                <a:off x="9617760" y="9274680"/>
                <a:ext cx="153720" cy="129240"/>
                <a:chOff x="9617760" y="9274680"/>
                <a:chExt cx="153720" cy="129240"/>
              </a:xfrm>
            </p:grpSpPr>
            <p:sp>
              <p:nvSpPr>
                <p:cNvPr id="476" name="Rectangle 264"/>
                <p:cNvSpPr/>
                <p:nvPr/>
              </p:nvSpPr>
              <p:spPr>
                <a:xfrm>
                  <a:off x="9660240" y="9349560"/>
                  <a:ext cx="111240" cy="54360"/>
                </a:xfrm>
                <a:prstGeom prst="rect">
                  <a:avLst/>
                </a:prstGeom>
                <a:solidFill>
                  <a:srgbClr val="ffff00"/>
                </a:solidFill>
                <a:ln cap="rnd"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21960" bIns="21960" anchor="ctr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r>
                    <a:rPr b="1" lang="ru-RU" sz="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265"/>
                <p:cNvGrpSpPr/>
                <p:nvPr/>
              </p:nvGrpSpPr>
              <p:grpSpPr>
                <a:xfrm>
                  <a:off x="9617760" y="9303480"/>
                  <a:ext cx="76320" cy="99360"/>
                  <a:chOff x="9617760" y="9303480"/>
                  <a:chExt cx="76320" cy="99360"/>
                </a:xfrm>
              </p:grpSpPr>
              <p:sp>
                <p:nvSpPr>
                  <p:cNvPr id="478" name="Freeform 266"/>
                  <p:cNvSpPr/>
                  <p:nvPr/>
                </p:nvSpPr>
                <p:spPr>
                  <a:xfrm>
                    <a:off x="9617760" y="9303480"/>
                    <a:ext cx="76320" cy="99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67"/>
                  <p:cNvSpPr/>
                  <p:nvPr/>
                </p:nvSpPr>
                <p:spPr>
                  <a:xfrm>
                    <a:off x="9617760" y="9303480"/>
                    <a:ext cx="76320" cy="99360"/>
                  </a:xfrm>
                  <a:prstGeom prst="pie">
                    <a:avLst/>
                  </a:prstGeom>
                  <a:noFill/>
                  <a:ln cap="rnd"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Freeform 268"/>
                <p:cNvSpPr/>
                <p:nvPr/>
              </p:nvSpPr>
              <p:spPr>
                <a:xfrm>
                  <a:off x="9709560" y="9274680"/>
                  <a:ext cx="19440" cy="41040"/>
                </a:xfrm>
                <a:prstGeom prst="pie">
                  <a:avLst/>
                </a:prstGeom>
                <a:noFill/>
                <a:ln cap="rnd"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Oval 12"/>
              <p:cNvSpPr/>
              <p:nvPr/>
            </p:nvSpPr>
            <p:spPr>
              <a:xfrm>
                <a:off x="9556560" y="9227880"/>
                <a:ext cx="277200" cy="2642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ctr">
                <a:noAutofit/>
              </a:bodyPr>
              <a:p>
                <a:pPr>
                  <a:tabLst>
                    <a:tab algn="l" pos="0"/>
                    <a:tab algn="l" pos="654120"/>
                    <a:tab algn="l" pos="1308240"/>
                    <a:tab algn="l" pos="1962000"/>
                    <a:tab algn="l" pos="2616120"/>
                    <a:tab algn="l" pos="3270240"/>
                    <a:tab algn="l" pos="3924360"/>
                    <a:tab algn="l" pos="4578480"/>
                    <a:tab algn="l" pos="5232240"/>
                    <a:tab algn="l" pos="5886360"/>
                    <a:tab algn="l" pos="6540480"/>
                    <a:tab algn="l" pos="7194600"/>
                    <a:tab algn="l" pos="7848720"/>
                    <a:tab algn="l" pos="8502480"/>
                    <a:tab algn="l" pos="9156600"/>
                    <a:tab algn="l" pos="9810720"/>
                    <a:tab algn="l" pos="104648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270"/>
              <p:cNvSpPr/>
              <p:nvPr/>
            </p:nvSpPr>
            <p:spPr>
              <a:xfrm rot="18535200">
                <a:off x="9695160" y="9259200"/>
                <a:ext cx="168480" cy="46080"/>
              </a:xfrm>
              <a:prstGeom prst="ellipse">
                <a:avLst/>
              </a:prstGeom>
              <a:solidFill>
                <a:srgbClr val="ffff00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271"/>
            <p:cNvSpPr/>
            <p:nvPr/>
          </p:nvSpPr>
          <p:spPr>
            <a:xfrm>
              <a:off x="9782280" y="7367760"/>
              <a:ext cx="2665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339"/>
          <p:cNvSpPr/>
          <p:nvPr/>
        </p:nvSpPr>
        <p:spPr>
          <a:xfrm>
            <a:off x="423720" y="7032600"/>
            <a:ext cx="6688440" cy="237636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связи с отсутствием рис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ликвидации Ч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счет сил и средств РСЧС, привлекаемых к эвакуации населе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эвакуации из зон возможного воздействия поражающих факторов (характеристика маршрута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маршруты авиационной разведки на территории сельского поселения не определя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543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839880"/>
            <a:ext cx="12801600" cy="87613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427"/>
          <p:cNvSpPr/>
          <p:nvPr/>
        </p:nvSpPr>
        <p:spPr>
          <a:xfrm>
            <a:off x="6977160" y="7969320"/>
            <a:ext cx="1008000" cy="30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Объекты ЖКХ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33"/>
          <p:cNvSpPr/>
          <p:nvPr/>
        </p:nvSpPr>
        <p:spPr>
          <a:xfrm>
            <a:off x="1057320" y="5202360"/>
            <a:ext cx="2779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86"/>
          <p:cNvSpPr/>
          <p:nvPr/>
        </p:nvSpPr>
        <p:spPr>
          <a:xfrm>
            <a:off x="0" y="0"/>
            <a:ext cx="12817440" cy="86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 Тогучинского района Новосибирской област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и на системах ЖК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403"/>
          <p:cNvGrpSpPr/>
          <p:nvPr/>
        </p:nvGrpSpPr>
        <p:grpSpPr>
          <a:xfrm>
            <a:off x="63360" y="912960"/>
            <a:ext cx="3600720" cy="1197000"/>
            <a:chOff x="63360" y="912960"/>
            <a:chExt cx="3600720" cy="1197000"/>
          </a:xfrm>
        </p:grpSpPr>
        <p:sp>
          <p:nvSpPr>
            <p:cNvPr id="491" name="Rectangle 1404"/>
            <p:cNvSpPr/>
            <p:nvPr/>
          </p:nvSpPr>
          <p:spPr>
            <a:xfrm>
              <a:off x="63360" y="912960"/>
              <a:ext cx="2253960" cy="32184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ти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05"/>
            <p:cNvSpPr/>
            <p:nvPr/>
          </p:nvSpPr>
          <p:spPr>
            <a:xfrm>
              <a:off x="2317320" y="912960"/>
              <a:ext cx="1346400" cy="75276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риска возникновения Ч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06"/>
            <p:cNvSpPr/>
            <p:nvPr/>
          </p:nvSpPr>
          <p:spPr>
            <a:xfrm>
              <a:off x="63360" y="1234800"/>
              <a:ext cx="462600" cy="43092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407"/>
            <p:cNvSpPr/>
            <p:nvPr/>
          </p:nvSpPr>
          <p:spPr>
            <a:xfrm>
              <a:off x="525960" y="1234800"/>
              <a:ext cx="451440" cy="43092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408"/>
            <p:cNvSpPr/>
            <p:nvPr/>
          </p:nvSpPr>
          <p:spPr>
            <a:xfrm>
              <a:off x="977760" y="1234800"/>
              <a:ext cx="445680" cy="43092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09"/>
            <p:cNvSpPr/>
            <p:nvPr/>
          </p:nvSpPr>
          <p:spPr>
            <a:xfrm>
              <a:off x="1423800" y="1234800"/>
              <a:ext cx="447480" cy="43092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10"/>
            <p:cNvSpPr/>
            <p:nvPr/>
          </p:nvSpPr>
          <p:spPr>
            <a:xfrm>
              <a:off x="1871280" y="1234800"/>
              <a:ext cx="446040" cy="430920"/>
            </a:xfrm>
            <a:prstGeom prst="rect">
              <a:avLst/>
            </a:prstGeom>
            <a:solidFill>
              <a:srgbClr val="ffff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11"/>
            <p:cNvSpPr/>
            <p:nvPr/>
          </p:nvSpPr>
          <p:spPr>
            <a:xfrm>
              <a:off x="63360" y="1665720"/>
              <a:ext cx="46260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12"/>
            <p:cNvSpPr/>
            <p:nvPr/>
          </p:nvSpPr>
          <p:spPr>
            <a:xfrm>
              <a:off x="525960" y="1665720"/>
              <a:ext cx="45144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413"/>
            <p:cNvSpPr/>
            <p:nvPr/>
          </p:nvSpPr>
          <p:spPr>
            <a:xfrm>
              <a:off x="977760" y="1665720"/>
              <a:ext cx="44568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414"/>
            <p:cNvSpPr/>
            <p:nvPr/>
          </p:nvSpPr>
          <p:spPr>
            <a:xfrm>
              <a:off x="1423800" y="1665720"/>
              <a:ext cx="44748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415"/>
            <p:cNvSpPr/>
            <p:nvPr/>
          </p:nvSpPr>
          <p:spPr>
            <a:xfrm>
              <a:off x="1871280" y="1665720"/>
              <a:ext cx="44604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416"/>
            <p:cNvSpPr/>
            <p:nvPr/>
          </p:nvSpPr>
          <p:spPr>
            <a:xfrm>
              <a:off x="2317320" y="1665720"/>
              <a:ext cx="1346400" cy="443880"/>
            </a:xfrm>
            <a:prstGeom prst="rect">
              <a:avLst/>
            </a:prstGeom>
            <a:solidFill>
              <a:srgbClr val="bbe0e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роятность средняя 0,5-0,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417"/>
            <p:cNvSpPr/>
            <p:nvPr/>
          </p:nvSpPr>
          <p:spPr>
            <a:xfrm>
              <a:off x="525960" y="123480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418"/>
            <p:cNvSpPr/>
            <p:nvPr/>
          </p:nvSpPr>
          <p:spPr>
            <a:xfrm>
              <a:off x="977760" y="123480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419"/>
            <p:cNvSpPr/>
            <p:nvPr/>
          </p:nvSpPr>
          <p:spPr>
            <a:xfrm>
              <a:off x="1423800" y="123480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20"/>
            <p:cNvSpPr/>
            <p:nvPr/>
          </p:nvSpPr>
          <p:spPr>
            <a:xfrm>
              <a:off x="1871280" y="123480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421"/>
            <p:cNvSpPr/>
            <p:nvPr/>
          </p:nvSpPr>
          <p:spPr>
            <a:xfrm>
              <a:off x="2317320" y="912960"/>
              <a:ext cx="0" cy="11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422"/>
            <p:cNvSpPr/>
            <p:nvPr/>
          </p:nvSpPr>
          <p:spPr>
            <a:xfrm>
              <a:off x="63360" y="123480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423"/>
            <p:cNvSpPr/>
            <p:nvPr/>
          </p:nvSpPr>
          <p:spPr>
            <a:xfrm>
              <a:off x="63360" y="1665720"/>
              <a:ext cx="360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424"/>
            <p:cNvSpPr/>
            <p:nvPr/>
          </p:nvSpPr>
          <p:spPr>
            <a:xfrm>
              <a:off x="63360" y="912960"/>
              <a:ext cx="0" cy="11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425"/>
            <p:cNvSpPr/>
            <p:nvPr/>
          </p:nvSpPr>
          <p:spPr>
            <a:xfrm>
              <a:off x="3664080" y="912960"/>
              <a:ext cx="0" cy="11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426"/>
            <p:cNvSpPr/>
            <p:nvPr/>
          </p:nvSpPr>
          <p:spPr>
            <a:xfrm>
              <a:off x="63360" y="912960"/>
              <a:ext cx="360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427"/>
            <p:cNvSpPr/>
            <p:nvPr/>
          </p:nvSpPr>
          <p:spPr>
            <a:xfrm>
              <a:off x="63360" y="2109960"/>
              <a:ext cx="360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5" name="Object 171"/>
          <p:cNvGraphicFramePr/>
          <p:nvPr/>
        </p:nvGraphicFramePr>
        <p:xfrm>
          <a:off x="10363320" y="2424240"/>
          <a:ext cx="2438280" cy="183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6" name="Object 17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3320" y="2424240"/>
                    <a:ext cx="2438280" cy="1833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63360" y="2208240"/>
          <a:ext cx="3025800" cy="3948120"/>
        </p:xfrm>
        <a:graphic>
          <a:graphicData uri="http://schemas.openxmlformats.org/drawingml/2006/table">
            <a:tbl>
              <a:tblPr/>
              <a:tblGrid>
                <a:gridCol w="1339920"/>
                <a:gridCol w="487440"/>
                <a:gridCol w="531720"/>
                <a:gridCol w="666720"/>
              </a:tblGrid>
              <a:tr h="22068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3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гарнизона пожарной охра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1924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нерге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3948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служ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1780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1780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Д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6116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жбы охраны общественного поря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3984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ая медицинская 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штатные аварийно-спасательные форм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0384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0564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Object 31"/>
          <p:cNvGraphicFramePr/>
          <p:nvPr/>
        </p:nvGraphicFramePr>
        <p:xfrm>
          <a:off x="9425160" y="984240"/>
          <a:ext cx="3376440" cy="1152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19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25160" y="984240"/>
                    <a:ext cx="3376440" cy="1152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11009160" y="4224240"/>
          <a:ext cx="1762200" cy="2239920"/>
        </p:xfrm>
        <a:graphic>
          <a:graphicData uri="http://schemas.openxmlformats.org/drawingml/2006/table">
            <a:tbl>
              <a:tblPr/>
              <a:tblGrid>
                <a:gridCol w="1175040"/>
                <a:gridCol w="587160"/>
              </a:tblGrid>
              <a:tr h="576360"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о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4120">
                <a:tc>
                  <a:txBody>
                    <a:bodyPr lIns="127800" rIns="127800" tIns="63720" bIns="6372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ельные (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680">
                <a:tc>
                  <a:txBody>
                    <a:bodyPr lIns="127800" rIns="127800" tIns="63720" bIns="6372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ети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4120">
                <a:tc>
                  <a:txBody>
                    <a:bodyPr lIns="127800" rIns="127800" tIns="63720" bIns="6372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роводные сети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2640">
                <a:tc>
                  <a:txBody>
                    <a:bodyPr lIns="127800" rIns="127800" tIns="63720" bIns="6372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изационные сети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3720" bIns="6372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1" name="Object 102"/>
          <p:cNvGraphicFramePr/>
          <p:nvPr/>
        </p:nvGraphicFramePr>
        <p:xfrm>
          <a:off x="61920" y="5952960"/>
          <a:ext cx="3233880" cy="2976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22" name="Object 102" descr=""/>
                  <p:cNvPicPr/>
                  <p:nvPr/>
                </p:nvPicPr>
                <p:blipFill>
                  <a:blip r:embed="rId7">
                    <a:alphaModFix amt="60000"/>
                  </a:blip>
                  <a:stretch/>
                </p:blipFill>
                <p:spPr>
                  <a:xfrm>
                    <a:off x="61920" y="5952960"/>
                    <a:ext cx="3233880" cy="29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3" name="Picture 1574" descr=""/>
          <p:cNvPicPr/>
          <p:nvPr/>
        </p:nvPicPr>
        <p:blipFill>
          <a:blip r:embed="rId8"/>
          <a:srcRect l="35719" t="50939" r="44134" b="24781"/>
          <a:stretch/>
        </p:blipFill>
        <p:spPr>
          <a:xfrm>
            <a:off x="10277640" y="7248600"/>
            <a:ext cx="2523960" cy="2187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575" descr=""/>
          <p:cNvPicPr/>
          <p:nvPr/>
        </p:nvPicPr>
        <p:blipFill>
          <a:blip r:embed="rId9"/>
          <a:stretch/>
        </p:blipFill>
        <p:spPr>
          <a:xfrm>
            <a:off x="7480440" y="7464600"/>
            <a:ext cx="371160" cy="380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578" descr=""/>
          <p:cNvPicPr/>
          <p:nvPr/>
        </p:nvPicPr>
        <p:blipFill>
          <a:blip r:embed="rId10"/>
          <a:stretch/>
        </p:blipFill>
        <p:spPr>
          <a:xfrm>
            <a:off x="4313160" y="1415880"/>
            <a:ext cx="37152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581" descr=""/>
          <p:cNvPicPr/>
          <p:nvPr/>
        </p:nvPicPr>
        <p:blipFill>
          <a:blip r:embed="rId11"/>
          <a:stretch/>
        </p:blipFill>
        <p:spPr>
          <a:xfrm>
            <a:off x="7192800" y="7464600"/>
            <a:ext cx="371520" cy="380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82" descr=""/>
          <p:cNvPicPr/>
          <p:nvPr/>
        </p:nvPicPr>
        <p:blipFill>
          <a:blip r:embed="rId12"/>
          <a:stretch/>
        </p:blipFill>
        <p:spPr>
          <a:xfrm>
            <a:off x="6832440" y="7537320"/>
            <a:ext cx="371520" cy="3812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583" descr=""/>
          <p:cNvPicPr/>
          <p:nvPr/>
        </p:nvPicPr>
        <p:blipFill>
          <a:blip r:embed="rId13"/>
          <a:stretch/>
        </p:blipFill>
        <p:spPr>
          <a:xfrm>
            <a:off x="4529160" y="1631880"/>
            <a:ext cx="3715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640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427"/>
          <p:cNvSpPr/>
          <p:nvPr/>
        </p:nvSpPr>
        <p:spPr>
          <a:xfrm>
            <a:off x="7913520" y="624060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0" y="-23760"/>
            <a:ext cx="1280160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0" y="1128600"/>
            <a:ext cx="128016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и обрушения зданий, сооружений, пор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6"/>
          <p:cNvGrpSpPr/>
          <p:nvPr/>
        </p:nvGrpSpPr>
        <p:grpSpPr>
          <a:xfrm>
            <a:off x="10433160" y="6313320"/>
            <a:ext cx="2274480" cy="3240000"/>
            <a:chOff x="10433160" y="6313320"/>
            <a:chExt cx="2274480" cy="3240000"/>
          </a:xfrm>
        </p:grpSpPr>
        <p:sp>
          <p:nvSpPr>
            <p:cNvPr id="534" name="Rectangle 218"/>
            <p:cNvSpPr/>
            <p:nvPr/>
          </p:nvSpPr>
          <p:spPr>
            <a:xfrm>
              <a:off x="10433160" y="6313320"/>
              <a:ext cx="227448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>
                <a:tabLst>
                  <a:tab algn="l" pos="0"/>
                  <a:tab algn="l" pos="654120"/>
                  <a:tab algn="l" pos="1308240"/>
                  <a:tab algn="l" pos="1962000"/>
                  <a:tab algn="l" pos="2616120"/>
                  <a:tab algn="l" pos="3270240"/>
                  <a:tab algn="l" pos="3924360"/>
                  <a:tab algn="l" pos="4578480"/>
                  <a:tab algn="l" pos="5232240"/>
                  <a:tab algn="l" pos="5886360"/>
                  <a:tab algn="l" pos="6540480"/>
                  <a:tab algn="l" pos="7194600"/>
                  <a:tab algn="l" pos="7848720"/>
                  <a:tab algn="l" pos="8502480"/>
                  <a:tab algn="l" pos="9156600"/>
                  <a:tab algn="l" pos="9810720"/>
                  <a:tab algn="l" pos="104648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19"/>
            <p:cNvSpPr/>
            <p:nvPr/>
          </p:nvSpPr>
          <p:spPr>
            <a:xfrm>
              <a:off x="11513160" y="6600600"/>
              <a:ext cx="7923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озможны слабые, средние 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олные разруш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20"/>
            <p:cNvSpPr/>
            <p:nvPr/>
          </p:nvSpPr>
          <p:spPr>
            <a:xfrm>
              <a:off x="10793520" y="6313320"/>
              <a:ext cx="1408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pPr algn="ctr">
                <a:tabLst>
                  <a:tab algn="l" pos="0"/>
                  <a:tab algn="l" pos="534960"/>
                  <a:tab algn="l" pos="1069920"/>
                  <a:tab algn="l" pos="1604880"/>
                  <a:tab algn="l" pos="2139840"/>
                  <a:tab algn="l" pos="2674800"/>
                  <a:tab algn="l" pos="3209760"/>
                  <a:tab algn="l" pos="3745080"/>
                  <a:tab algn="l" pos="4280040"/>
                  <a:tab algn="l" pos="4815000"/>
                  <a:tab algn="l" pos="5349960"/>
                  <a:tab algn="l" pos="5884920"/>
                  <a:tab algn="l" pos="6419880"/>
                  <a:tab algn="l" pos="6954840"/>
                  <a:tab algn="l" pos="7489800"/>
                  <a:tab algn="l" pos="8024760"/>
                  <a:tab algn="l" pos="8559720"/>
                  <a:tab algn="l" pos="9094680"/>
                  <a:tab algn="l" pos="9629640"/>
                  <a:tab algn="l" pos="10164600"/>
                  <a:tab algn="l" pos="1069992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словные обознач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34960"/>
                  <a:tab algn="l" pos="1069920"/>
                  <a:tab algn="l" pos="1604880"/>
                  <a:tab algn="l" pos="2139840"/>
                  <a:tab algn="l" pos="2674800"/>
                  <a:tab algn="l" pos="3209760"/>
                  <a:tab algn="l" pos="3745080"/>
                  <a:tab algn="l" pos="4280040"/>
                  <a:tab algn="l" pos="4815000"/>
                  <a:tab algn="l" pos="5349960"/>
                  <a:tab algn="l" pos="5884920"/>
                  <a:tab algn="l" pos="6419880"/>
                  <a:tab algn="l" pos="6954840"/>
                  <a:tab algn="l" pos="7489800"/>
                  <a:tab algn="l" pos="8024760"/>
                  <a:tab algn="l" pos="8559720"/>
                  <a:tab algn="l" pos="9094680"/>
                  <a:tab algn="l" pos="9629640"/>
                  <a:tab algn="l" pos="10164600"/>
                  <a:tab algn="l" pos="106999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221"/>
            <p:cNvGrpSpPr/>
            <p:nvPr/>
          </p:nvGrpSpPr>
          <p:grpSpPr>
            <a:xfrm>
              <a:off x="10649160" y="6744960"/>
              <a:ext cx="257040" cy="367920"/>
              <a:chOff x="10649160" y="6744960"/>
              <a:chExt cx="257040" cy="367920"/>
            </a:xfrm>
          </p:grpSpPr>
          <p:sp>
            <p:nvSpPr>
              <p:cNvPr id="538" name="Line 222"/>
              <p:cNvSpPr/>
              <p:nvPr/>
            </p:nvSpPr>
            <p:spPr>
              <a:xfrm>
                <a:off x="10650600" y="6752880"/>
                <a:ext cx="0" cy="3474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223"/>
              <p:cNvSpPr/>
              <p:nvPr/>
            </p:nvSpPr>
            <p:spPr>
              <a:xfrm>
                <a:off x="10650600" y="7112160"/>
                <a:ext cx="255600" cy="72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224"/>
              <p:cNvSpPr/>
              <p:nvPr/>
            </p:nvSpPr>
            <p:spPr>
              <a:xfrm>
                <a:off x="10722600" y="6999480"/>
                <a:ext cx="177480" cy="72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25"/>
              <p:cNvSpPr/>
              <p:nvPr/>
            </p:nvSpPr>
            <p:spPr>
              <a:xfrm>
                <a:off x="10889280" y="6988680"/>
                <a:ext cx="0" cy="1206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26"/>
              <p:cNvSpPr/>
              <p:nvPr/>
            </p:nvSpPr>
            <p:spPr>
              <a:xfrm>
                <a:off x="10649160" y="6744960"/>
                <a:ext cx="6480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27"/>
              <p:cNvSpPr/>
              <p:nvPr/>
            </p:nvSpPr>
            <p:spPr>
              <a:xfrm>
                <a:off x="10719720" y="6744960"/>
                <a:ext cx="32400" cy="21852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228"/>
            <p:cNvGrpSpPr/>
            <p:nvPr/>
          </p:nvGrpSpPr>
          <p:grpSpPr>
            <a:xfrm>
              <a:off x="11009880" y="6673680"/>
              <a:ext cx="257040" cy="367920"/>
              <a:chOff x="11009880" y="6673680"/>
              <a:chExt cx="257040" cy="367920"/>
            </a:xfrm>
          </p:grpSpPr>
          <p:sp>
            <p:nvSpPr>
              <p:cNvPr id="545" name="Line 229"/>
              <p:cNvSpPr/>
              <p:nvPr/>
            </p:nvSpPr>
            <p:spPr>
              <a:xfrm>
                <a:off x="11011320" y="6681600"/>
                <a:ext cx="0" cy="3474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30"/>
              <p:cNvSpPr/>
              <p:nvPr/>
            </p:nvSpPr>
            <p:spPr>
              <a:xfrm>
                <a:off x="11011320" y="7040880"/>
                <a:ext cx="255600" cy="72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31"/>
              <p:cNvSpPr/>
              <p:nvPr/>
            </p:nvSpPr>
            <p:spPr>
              <a:xfrm>
                <a:off x="11083320" y="6928200"/>
                <a:ext cx="177480" cy="72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232"/>
              <p:cNvSpPr/>
              <p:nvPr/>
            </p:nvSpPr>
            <p:spPr>
              <a:xfrm>
                <a:off x="11250000" y="6917400"/>
                <a:ext cx="0" cy="1206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33"/>
              <p:cNvSpPr/>
              <p:nvPr/>
            </p:nvSpPr>
            <p:spPr>
              <a:xfrm>
                <a:off x="11009880" y="6673680"/>
                <a:ext cx="6480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34"/>
              <p:cNvSpPr/>
              <p:nvPr/>
            </p:nvSpPr>
            <p:spPr>
              <a:xfrm>
                <a:off x="11080440" y="6673680"/>
                <a:ext cx="0" cy="25524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235"/>
            <p:cNvGrpSpPr/>
            <p:nvPr/>
          </p:nvGrpSpPr>
          <p:grpSpPr>
            <a:xfrm>
              <a:off x="10720440" y="7176960"/>
              <a:ext cx="208080" cy="322920"/>
              <a:chOff x="10720440" y="7176960"/>
              <a:chExt cx="208080" cy="322920"/>
            </a:xfrm>
          </p:grpSpPr>
          <p:sp>
            <p:nvSpPr>
              <p:cNvPr id="552" name="Line 236"/>
              <p:cNvSpPr/>
              <p:nvPr/>
            </p:nvSpPr>
            <p:spPr>
              <a:xfrm>
                <a:off x="10720440" y="7176960"/>
                <a:ext cx="208080" cy="3081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37"/>
              <p:cNvSpPr/>
              <p:nvPr/>
            </p:nvSpPr>
            <p:spPr>
              <a:xfrm flipV="1">
                <a:off x="10725480" y="7184160"/>
                <a:ext cx="183240" cy="315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38"/>
            <p:cNvGrpSpPr/>
            <p:nvPr/>
          </p:nvGrpSpPr>
          <p:grpSpPr>
            <a:xfrm>
              <a:off x="10616760" y="7550640"/>
              <a:ext cx="372600" cy="333720"/>
              <a:chOff x="10616760" y="7550640"/>
              <a:chExt cx="372600" cy="333720"/>
            </a:xfrm>
          </p:grpSpPr>
          <p:grpSp>
            <p:nvGrpSpPr>
              <p:cNvPr id="555" name="Group 239"/>
              <p:cNvGrpSpPr/>
              <p:nvPr/>
            </p:nvGrpSpPr>
            <p:grpSpPr>
              <a:xfrm>
                <a:off x="10747800" y="7618320"/>
                <a:ext cx="241560" cy="266040"/>
                <a:chOff x="10747800" y="7618320"/>
                <a:chExt cx="241560" cy="266040"/>
              </a:xfrm>
            </p:grpSpPr>
            <p:sp>
              <p:nvSpPr>
                <p:cNvPr id="556" name="Freeform 240"/>
                <p:cNvSpPr/>
                <p:nvPr/>
              </p:nvSpPr>
              <p:spPr>
                <a:xfrm rot="7053000">
                  <a:off x="10870920" y="7604280"/>
                  <a:ext cx="65160" cy="1594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32760" bIns="32760" anchor="t" vert="eaVert" rot="10800000">
                  <a:noAutofit/>
                </a:bodyPr>
                <a:p>
                  <a:pPr>
                    <a:tabLst>
                      <a:tab algn="l" pos="0"/>
                      <a:tab algn="l" pos="654120"/>
                      <a:tab algn="l" pos="1308240"/>
                      <a:tab algn="l" pos="1962000"/>
                      <a:tab algn="l" pos="2616120"/>
                      <a:tab algn="l" pos="3270240"/>
                      <a:tab algn="l" pos="3924360"/>
                      <a:tab algn="l" pos="4578480"/>
                      <a:tab algn="l" pos="5232240"/>
                      <a:tab algn="l" pos="5886360"/>
                      <a:tab algn="l" pos="6540480"/>
                      <a:tab algn="l" pos="7194600"/>
                      <a:tab algn="l" pos="7848720"/>
                      <a:tab algn="l" pos="8502480"/>
                      <a:tab algn="l" pos="9156600"/>
                      <a:tab algn="l" pos="9810720"/>
                      <a:tab algn="l" pos="104648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241"/>
                <p:cNvSpPr/>
                <p:nvPr/>
              </p:nvSpPr>
              <p:spPr>
                <a:xfrm flipH="1" rot="7053000">
                  <a:off x="10801080" y="7738560"/>
                  <a:ext cx="65160" cy="1594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32760" bIns="32760" anchor="t" vert="eaVert" rot="10800000">
                  <a:noAutofit/>
                </a:bodyPr>
                <a:p>
                  <a:pPr>
                    <a:tabLst>
                      <a:tab algn="l" pos="0"/>
                      <a:tab algn="l" pos="654120"/>
                      <a:tab algn="l" pos="1308240"/>
                      <a:tab algn="l" pos="1962000"/>
                      <a:tab algn="l" pos="2616120"/>
                      <a:tab algn="l" pos="3270240"/>
                      <a:tab algn="l" pos="3924360"/>
                      <a:tab algn="l" pos="4578480"/>
                      <a:tab algn="l" pos="5232240"/>
                      <a:tab algn="l" pos="5886360"/>
                      <a:tab algn="l" pos="6540480"/>
                      <a:tab algn="l" pos="7194600"/>
                      <a:tab algn="l" pos="7848720"/>
                      <a:tab algn="l" pos="8502480"/>
                      <a:tab algn="l" pos="9156600"/>
                      <a:tab algn="l" pos="9810720"/>
                      <a:tab algn="l" pos="104648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242"/>
              <p:cNvGrpSpPr/>
              <p:nvPr/>
            </p:nvGrpSpPr>
            <p:grpSpPr>
              <a:xfrm>
                <a:off x="10616760" y="7550640"/>
                <a:ext cx="241560" cy="266040"/>
                <a:chOff x="10616760" y="7550640"/>
                <a:chExt cx="241560" cy="266040"/>
              </a:xfrm>
            </p:grpSpPr>
            <p:sp>
              <p:nvSpPr>
                <p:cNvPr id="559" name="Freeform 243"/>
                <p:cNvSpPr/>
                <p:nvPr/>
              </p:nvSpPr>
              <p:spPr>
                <a:xfrm rot="17853600">
                  <a:off x="10669680" y="7670880"/>
                  <a:ext cx="65160" cy="1594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32760" bIns="32760" anchor="t" vert="eaVert">
                  <a:noAutofit/>
                </a:bodyPr>
                <a:p>
                  <a:pPr>
                    <a:tabLst>
                      <a:tab algn="l" pos="0"/>
                      <a:tab algn="l" pos="654120"/>
                      <a:tab algn="l" pos="1308240"/>
                      <a:tab algn="l" pos="1962000"/>
                      <a:tab algn="l" pos="2616120"/>
                      <a:tab algn="l" pos="3270240"/>
                      <a:tab algn="l" pos="3924360"/>
                      <a:tab algn="l" pos="4578480"/>
                      <a:tab algn="l" pos="5232240"/>
                      <a:tab algn="l" pos="5886360"/>
                      <a:tab algn="l" pos="6540480"/>
                      <a:tab algn="l" pos="7194600"/>
                      <a:tab algn="l" pos="7848720"/>
                      <a:tab algn="l" pos="8502480"/>
                      <a:tab algn="l" pos="9156600"/>
                      <a:tab algn="l" pos="9810720"/>
                      <a:tab algn="l" pos="104648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44"/>
                <p:cNvSpPr/>
                <p:nvPr/>
              </p:nvSpPr>
              <p:spPr>
                <a:xfrm flipH="1" rot="17853000">
                  <a:off x="10739520" y="7536600"/>
                  <a:ext cx="65160" cy="1594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32760" bIns="32760" anchor="t" vert="eaVert">
                  <a:noAutofit/>
                </a:bodyPr>
                <a:p>
                  <a:pPr>
                    <a:tabLst>
                      <a:tab algn="l" pos="0"/>
                      <a:tab algn="l" pos="654120"/>
                      <a:tab algn="l" pos="1308240"/>
                      <a:tab algn="l" pos="1962000"/>
                      <a:tab algn="l" pos="2616120"/>
                      <a:tab algn="l" pos="3270240"/>
                      <a:tab algn="l" pos="3924360"/>
                      <a:tab algn="l" pos="4578480"/>
                      <a:tab algn="l" pos="5232240"/>
                      <a:tab algn="l" pos="5886360"/>
                      <a:tab algn="l" pos="6540480"/>
                      <a:tab algn="l" pos="7194600"/>
                      <a:tab algn="l" pos="7848720"/>
                      <a:tab algn="l" pos="8502480"/>
                      <a:tab algn="l" pos="9156600"/>
                      <a:tab algn="l" pos="9810720"/>
                      <a:tab algn="l" pos="104648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1" name="Text Box 245"/>
            <p:cNvSpPr/>
            <p:nvPr/>
          </p:nvSpPr>
          <p:spPr>
            <a:xfrm>
              <a:off x="11513160" y="7681680"/>
              <a:ext cx="79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ост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246"/>
            <p:cNvGrpSpPr/>
            <p:nvPr/>
          </p:nvGrpSpPr>
          <p:grpSpPr>
            <a:xfrm>
              <a:off x="10577520" y="7968960"/>
              <a:ext cx="696960" cy="407520"/>
              <a:chOff x="10577520" y="7968960"/>
              <a:chExt cx="696960" cy="407520"/>
            </a:xfrm>
          </p:grpSpPr>
          <p:grpSp>
            <p:nvGrpSpPr>
              <p:cNvPr id="563" name="Group 247"/>
              <p:cNvGrpSpPr/>
              <p:nvPr/>
            </p:nvGrpSpPr>
            <p:grpSpPr>
              <a:xfrm>
                <a:off x="10577520" y="7968960"/>
                <a:ext cx="308520" cy="407520"/>
                <a:chOff x="10577520" y="7968960"/>
                <a:chExt cx="308520" cy="407520"/>
              </a:xfrm>
            </p:grpSpPr>
            <p:sp>
              <p:nvSpPr>
                <p:cNvPr id="564" name="Rectangle 248"/>
                <p:cNvSpPr/>
                <p:nvPr/>
              </p:nvSpPr>
              <p:spPr>
                <a:xfrm>
                  <a:off x="10577520" y="7968960"/>
                  <a:ext cx="308520" cy="40752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160" rIns="65160" tIns="32760" bIns="32760" anchor="t">
                  <a:noAutofit/>
                </a:bodyPr>
                <a:p>
                  <a:pPr>
                    <a:tabLst>
                      <a:tab algn="l" pos="0"/>
                      <a:tab algn="l" pos="654120"/>
                      <a:tab algn="l" pos="1308240"/>
                      <a:tab algn="l" pos="1962000"/>
                      <a:tab algn="l" pos="2616120"/>
                      <a:tab algn="l" pos="3270240"/>
                      <a:tab algn="l" pos="3924360"/>
                      <a:tab algn="l" pos="4578480"/>
                      <a:tab algn="l" pos="5232240"/>
                      <a:tab algn="l" pos="5886360"/>
                      <a:tab algn="l" pos="6540480"/>
                      <a:tab algn="l" pos="7194600"/>
                      <a:tab algn="l" pos="7848720"/>
                      <a:tab algn="l" pos="8502480"/>
                      <a:tab algn="l" pos="9156600"/>
                      <a:tab algn="l" pos="9810720"/>
                      <a:tab algn="l" pos="104648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49"/>
                <p:cNvSpPr/>
                <p:nvPr/>
              </p:nvSpPr>
              <p:spPr>
                <a:xfrm flipV="1">
                  <a:off x="10579680" y="8092800"/>
                  <a:ext cx="156960" cy="169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50"/>
                <p:cNvSpPr/>
                <p:nvPr/>
              </p:nvSpPr>
              <p:spPr>
                <a:xfrm>
                  <a:off x="10739160" y="8092800"/>
                  <a:ext cx="144360" cy="159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" name="Group 251"/>
                <p:cNvGrpSpPr/>
                <p:nvPr/>
              </p:nvGrpSpPr>
              <p:grpSpPr>
                <a:xfrm>
                  <a:off x="10715760" y="8158320"/>
                  <a:ext cx="36000" cy="74160"/>
                  <a:chOff x="10715760" y="8158320"/>
                  <a:chExt cx="36000" cy="74160"/>
                </a:xfrm>
              </p:grpSpPr>
              <p:sp>
                <p:nvSpPr>
                  <p:cNvPr id="568" name="Line 252"/>
                  <p:cNvSpPr/>
                  <p:nvPr/>
                </p:nvSpPr>
                <p:spPr>
                  <a:xfrm>
                    <a:off x="10733040" y="8158320"/>
                    <a:ext cx="0" cy="741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253"/>
                  <p:cNvSpPr/>
                  <p:nvPr/>
                </p:nvSpPr>
                <p:spPr>
                  <a:xfrm>
                    <a:off x="10715760" y="8201160"/>
                    <a:ext cx="36000" cy="3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0" name="Rectangle 254"/>
              <p:cNvSpPr/>
              <p:nvPr/>
            </p:nvSpPr>
            <p:spPr>
              <a:xfrm>
                <a:off x="10963080" y="7968960"/>
                <a:ext cx="311400" cy="3582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№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7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 Box 255"/>
            <p:cNvSpPr/>
            <p:nvPr/>
          </p:nvSpPr>
          <p:spPr>
            <a:xfrm>
              <a:off x="11441520" y="7824600"/>
              <a:ext cx="1022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Больница городская (районная), в Числителе - номер     больницы, в знаменателе - число коек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4"/>
            <p:cNvSpPr/>
            <p:nvPr/>
          </p:nvSpPr>
          <p:spPr>
            <a:xfrm>
              <a:off x="11154240" y="8616600"/>
              <a:ext cx="12247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ртолетные площадк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0"/>
            <p:cNvGrpSpPr/>
            <p:nvPr/>
          </p:nvGrpSpPr>
          <p:grpSpPr>
            <a:xfrm>
              <a:off x="10649160" y="8616600"/>
              <a:ext cx="202680" cy="169560"/>
              <a:chOff x="10649160" y="8616600"/>
              <a:chExt cx="202680" cy="169560"/>
            </a:xfrm>
          </p:grpSpPr>
          <p:sp>
            <p:nvSpPr>
              <p:cNvPr id="574" name="Oval 41"/>
              <p:cNvSpPr/>
              <p:nvPr/>
            </p:nvSpPr>
            <p:spPr>
              <a:xfrm>
                <a:off x="10649160" y="8616600"/>
                <a:ext cx="202680" cy="16956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760" bIns="32760" anchor="ctr">
                <a:noAutofit/>
              </a:bodyPr>
              <a:p>
                <a:pPr algn="ctr">
                  <a:tabLst>
                    <a:tab algn="l" pos="0"/>
                    <a:tab algn="l" pos="654120"/>
                    <a:tab algn="l" pos="1308240"/>
                    <a:tab algn="l" pos="1962000"/>
                    <a:tab algn="l" pos="2616120"/>
                    <a:tab algn="l" pos="3270240"/>
                    <a:tab algn="l" pos="3924360"/>
                    <a:tab algn="l" pos="4578480"/>
                    <a:tab algn="l" pos="5232240"/>
                    <a:tab algn="l" pos="5886360"/>
                    <a:tab algn="l" pos="6540480"/>
                    <a:tab algn="l" pos="7194600"/>
                    <a:tab algn="l" pos="7848720"/>
                    <a:tab algn="l" pos="8502480"/>
                    <a:tab algn="l" pos="9156600"/>
                    <a:tab algn="l" pos="9810720"/>
                    <a:tab algn="l" pos="104648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42"/>
              <p:cNvSpPr/>
              <p:nvPr/>
            </p:nvSpPr>
            <p:spPr>
              <a:xfrm>
                <a:off x="10725840" y="8616600"/>
                <a:ext cx="52200" cy="169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760" bIns="32760" anchor="ctr">
                <a:noAutofit/>
              </a:bodyPr>
              <a:p>
                <a:pPr algn="ctr">
                  <a:tabLst>
                    <a:tab algn="l" pos="0"/>
                    <a:tab algn="l" pos="654120"/>
                    <a:tab algn="l" pos="1308240"/>
                    <a:tab algn="l" pos="1962000"/>
                    <a:tab algn="l" pos="2616120"/>
                    <a:tab algn="l" pos="3270240"/>
                    <a:tab algn="l" pos="3924360"/>
                    <a:tab algn="l" pos="4578480"/>
                    <a:tab algn="l" pos="5232240"/>
                    <a:tab algn="l" pos="5886360"/>
                    <a:tab algn="l" pos="6540480"/>
                    <a:tab algn="l" pos="7194600"/>
                    <a:tab algn="l" pos="7848720"/>
                    <a:tab algn="l" pos="8502480"/>
                    <a:tab algn="l" pos="9156600"/>
                    <a:tab algn="l" pos="9810720"/>
                    <a:tab algn="l" pos="104648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Freeform 11"/>
            <p:cNvSpPr/>
            <p:nvPr/>
          </p:nvSpPr>
          <p:spPr>
            <a:xfrm>
              <a:off x="10577520" y="8905680"/>
              <a:ext cx="358920" cy="7308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9360" bIns="936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64"/>
            <p:cNvSpPr/>
            <p:nvPr/>
          </p:nvSpPr>
          <p:spPr>
            <a:xfrm>
              <a:off x="11154240" y="8905680"/>
              <a:ext cx="12247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ста эвакуаци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78"/>
            <p:cNvSpPr/>
            <p:nvPr/>
          </p:nvSpPr>
          <p:spPr>
            <a:xfrm>
              <a:off x="11297160" y="9121320"/>
              <a:ext cx="121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ршрут авиа разведк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52" descr="Вертолет2"/>
            <p:cNvPicPr/>
            <p:nvPr/>
          </p:nvPicPr>
          <p:blipFill>
            <a:blip r:embed="rId2"/>
            <a:stretch/>
          </p:blipFill>
          <p:spPr>
            <a:xfrm>
              <a:off x="10433160" y="9121320"/>
              <a:ext cx="7941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53"/>
            <p:cNvSpPr/>
            <p:nvPr/>
          </p:nvSpPr>
          <p:spPr>
            <a:xfrm>
              <a:off x="10801440" y="9337320"/>
              <a:ext cx="360360" cy="7308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6800" y="120240"/>
            <a:ext cx="11522160" cy="1792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обрушения зданий, сооружений, пород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04840" y="2136600"/>
          <a:ext cx="5619600" cy="1151280"/>
        </p:xfrm>
        <a:graphic>
          <a:graphicData uri="http://schemas.openxmlformats.org/drawingml/2006/table">
            <a:tbl>
              <a:tblPr/>
              <a:tblGrid>
                <a:gridCol w="736560"/>
                <a:gridCol w="696960"/>
                <a:gridCol w="698400"/>
                <a:gridCol w="698400"/>
                <a:gridCol w="696960"/>
                <a:gridCol w="2092320"/>
              </a:tblGrid>
              <a:tr h="271800">
                <a:tc gridSpan="5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 возникновения Ч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08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1080" rIns="91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ероя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583" name="Group 1485"/>
          <p:cNvGrpSpPr/>
          <p:nvPr/>
        </p:nvGrpSpPr>
        <p:grpSpPr>
          <a:xfrm>
            <a:off x="65160" y="5354640"/>
            <a:ext cx="4390920" cy="4200480"/>
            <a:chOff x="65160" y="5354640"/>
            <a:chExt cx="4390920" cy="4200480"/>
          </a:xfrm>
        </p:grpSpPr>
        <p:sp>
          <p:nvSpPr>
            <p:cNvPr id="584" name="Rectangle 1486"/>
            <p:cNvSpPr/>
            <p:nvPr/>
          </p:nvSpPr>
          <p:spPr>
            <a:xfrm>
              <a:off x="3403440" y="9342360"/>
              <a:ext cx="105228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487"/>
            <p:cNvSpPr/>
            <p:nvPr/>
          </p:nvSpPr>
          <p:spPr>
            <a:xfrm>
              <a:off x="2641680" y="9342360"/>
              <a:ext cx="7614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488"/>
            <p:cNvSpPr/>
            <p:nvPr/>
          </p:nvSpPr>
          <p:spPr>
            <a:xfrm>
              <a:off x="2067480" y="9342360"/>
              <a:ext cx="57384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489"/>
            <p:cNvSpPr/>
            <p:nvPr/>
          </p:nvSpPr>
          <p:spPr>
            <a:xfrm>
              <a:off x="1019160" y="9342360"/>
              <a:ext cx="104832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490"/>
            <p:cNvSpPr/>
            <p:nvPr/>
          </p:nvSpPr>
          <p:spPr>
            <a:xfrm>
              <a:off x="65160" y="9342360"/>
              <a:ext cx="9540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491"/>
            <p:cNvSpPr/>
            <p:nvPr/>
          </p:nvSpPr>
          <p:spPr>
            <a:xfrm>
              <a:off x="3403440" y="8885160"/>
              <a:ext cx="105228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 час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492"/>
            <p:cNvSpPr/>
            <p:nvPr/>
          </p:nvSpPr>
          <p:spPr>
            <a:xfrm>
              <a:off x="2641680" y="8885160"/>
              <a:ext cx="7614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493"/>
            <p:cNvSpPr/>
            <p:nvPr/>
          </p:nvSpPr>
          <p:spPr>
            <a:xfrm>
              <a:off x="2067480" y="8885160"/>
              <a:ext cx="57384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494"/>
            <p:cNvSpPr/>
            <p:nvPr/>
          </p:nvSpPr>
          <p:spPr>
            <a:xfrm>
              <a:off x="1019160" y="8885160"/>
              <a:ext cx="104832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495"/>
            <p:cNvSpPr/>
            <p:nvPr/>
          </p:nvSpPr>
          <p:spPr>
            <a:xfrm>
              <a:off x="65160" y="8885160"/>
              <a:ext cx="9540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я гарнизона пожарной охра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496"/>
            <p:cNvSpPr/>
            <p:nvPr/>
          </p:nvSpPr>
          <p:spPr>
            <a:xfrm>
              <a:off x="3403440" y="8305560"/>
              <a:ext cx="1052280" cy="579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497"/>
            <p:cNvSpPr/>
            <p:nvPr/>
          </p:nvSpPr>
          <p:spPr>
            <a:xfrm>
              <a:off x="2641680" y="8305560"/>
              <a:ext cx="761400" cy="579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498"/>
            <p:cNvSpPr/>
            <p:nvPr/>
          </p:nvSpPr>
          <p:spPr>
            <a:xfrm>
              <a:off x="2067480" y="8305560"/>
              <a:ext cx="573840" cy="579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499"/>
            <p:cNvSpPr/>
            <p:nvPr/>
          </p:nvSpPr>
          <p:spPr>
            <a:xfrm>
              <a:off x="1019160" y="8305560"/>
              <a:ext cx="1048320" cy="579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500"/>
            <p:cNvSpPr/>
            <p:nvPr/>
          </p:nvSpPr>
          <p:spPr>
            <a:xfrm>
              <a:off x="65160" y="8305560"/>
              <a:ext cx="954000" cy="579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штатные аварийно-спасательные формирова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501"/>
            <p:cNvSpPr/>
            <p:nvPr/>
          </p:nvSpPr>
          <p:spPr>
            <a:xfrm>
              <a:off x="3403440" y="7789680"/>
              <a:ext cx="1052280" cy="515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 ча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502"/>
            <p:cNvSpPr/>
            <p:nvPr/>
          </p:nvSpPr>
          <p:spPr>
            <a:xfrm>
              <a:off x="2641680" y="7789680"/>
              <a:ext cx="761400" cy="515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503"/>
            <p:cNvSpPr/>
            <p:nvPr/>
          </p:nvSpPr>
          <p:spPr>
            <a:xfrm>
              <a:off x="2067480" y="7789680"/>
              <a:ext cx="573840" cy="515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04"/>
            <p:cNvSpPr/>
            <p:nvPr/>
          </p:nvSpPr>
          <p:spPr>
            <a:xfrm>
              <a:off x="1019160" y="7789680"/>
              <a:ext cx="1048320" cy="515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505"/>
            <p:cNvSpPr/>
            <p:nvPr/>
          </p:nvSpPr>
          <p:spPr>
            <a:xfrm>
              <a:off x="65160" y="7789680"/>
              <a:ext cx="954000" cy="515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корая медицинская помощ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506"/>
            <p:cNvSpPr/>
            <p:nvPr/>
          </p:nvSpPr>
          <p:spPr>
            <a:xfrm>
              <a:off x="3403440" y="7332480"/>
              <a:ext cx="105228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07"/>
            <p:cNvSpPr/>
            <p:nvPr/>
          </p:nvSpPr>
          <p:spPr>
            <a:xfrm>
              <a:off x="2641680" y="7332480"/>
              <a:ext cx="7614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508"/>
            <p:cNvSpPr/>
            <p:nvPr/>
          </p:nvSpPr>
          <p:spPr>
            <a:xfrm>
              <a:off x="2067480" y="7332480"/>
              <a:ext cx="57384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509"/>
            <p:cNvSpPr/>
            <p:nvPr/>
          </p:nvSpPr>
          <p:spPr>
            <a:xfrm>
              <a:off x="1019160" y="7332480"/>
              <a:ext cx="104832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510"/>
            <p:cNvSpPr/>
            <p:nvPr/>
          </p:nvSpPr>
          <p:spPr>
            <a:xfrm>
              <a:off x="65160" y="7332480"/>
              <a:ext cx="9540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лужбы охраны общественного порядк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511"/>
            <p:cNvSpPr/>
            <p:nvPr/>
          </p:nvSpPr>
          <p:spPr>
            <a:xfrm>
              <a:off x="3403440" y="7119720"/>
              <a:ext cx="105228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 ча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512"/>
            <p:cNvSpPr/>
            <p:nvPr/>
          </p:nvSpPr>
          <p:spPr>
            <a:xfrm>
              <a:off x="2641680" y="7119720"/>
              <a:ext cx="7614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513"/>
            <p:cNvSpPr/>
            <p:nvPr/>
          </p:nvSpPr>
          <p:spPr>
            <a:xfrm>
              <a:off x="2067480" y="7119720"/>
              <a:ext cx="57384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514"/>
            <p:cNvSpPr/>
            <p:nvPr/>
          </p:nvSpPr>
          <p:spPr>
            <a:xfrm>
              <a:off x="1019160" y="7119720"/>
              <a:ext cx="104832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515"/>
            <p:cNvSpPr/>
            <p:nvPr/>
          </p:nvSpPr>
          <p:spPr>
            <a:xfrm>
              <a:off x="65160" y="7119720"/>
              <a:ext cx="9540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ГИБД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16"/>
            <p:cNvSpPr/>
            <p:nvPr/>
          </p:nvSpPr>
          <p:spPr>
            <a:xfrm>
              <a:off x="3403440" y="6906960"/>
              <a:ext cx="105228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517"/>
            <p:cNvSpPr/>
            <p:nvPr/>
          </p:nvSpPr>
          <p:spPr>
            <a:xfrm>
              <a:off x="2641680" y="6906960"/>
              <a:ext cx="7614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518"/>
            <p:cNvSpPr/>
            <p:nvPr/>
          </p:nvSpPr>
          <p:spPr>
            <a:xfrm>
              <a:off x="2067480" y="6906960"/>
              <a:ext cx="57384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519"/>
            <p:cNvSpPr/>
            <p:nvPr/>
          </p:nvSpPr>
          <p:spPr>
            <a:xfrm>
              <a:off x="1019160" y="6906960"/>
              <a:ext cx="104832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520"/>
            <p:cNvSpPr/>
            <p:nvPr/>
          </p:nvSpPr>
          <p:spPr>
            <a:xfrm>
              <a:off x="65160" y="6906960"/>
              <a:ext cx="9540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вяз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521"/>
            <p:cNvSpPr/>
            <p:nvPr/>
          </p:nvSpPr>
          <p:spPr>
            <a:xfrm>
              <a:off x="65160" y="5354640"/>
              <a:ext cx="4390920" cy="212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Силы и средства для ликвидации Ч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522"/>
            <p:cNvSpPr/>
            <p:nvPr/>
          </p:nvSpPr>
          <p:spPr>
            <a:xfrm>
              <a:off x="65160" y="5567040"/>
              <a:ext cx="954000" cy="3351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Ведомств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23"/>
            <p:cNvSpPr/>
            <p:nvPr/>
          </p:nvSpPr>
          <p:spPr>
            <a:xfrm>
              <a:off x="1019160" y="5567040"/>
              <a:ext cx="1048320" cy="3351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Количество организац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524"/>
            <p:cNvSpPr/>
            <p:nvPr/>
          </p:nvSpPr>
          <p:spPr>
            <a:xfrm>
              <a:off x="2067480" y="5567040"/>
              <a:ext cx="573840" cy="3351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К-во л/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525"/>
            <p:cNvSpPr/>
            <p:nvPr/>
          </p:nvSpPr>
          <p:spPr>
            <a:xfrm>
              <a:off x="2641680" y="5567040"/>
              <a:ext cx="761400" cy="3351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К-во техники по вида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26"/>
            <p:cNvSpPr/>
            <p:nvPr/>
          </p:nvSpPr>
          <p:spPr>
            <a:xfrm>
              <a:off x="3403440" y="5567040"/>
              <a:ext cx="1052280" cy="3351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Срок готовно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527"/>
            <p:cNvSpPr/>
            <p:nvPr/>
          </p:nvSpPr>
          <p:spPr>
            <a:xfrm>
              <a:off x="65160" y="5902200"/>
              <a:ext cx="9540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я гарнизона пожарной охра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28"/>
            <p:cNvSpPr/>
            <p:nvPr/>
          </p:nvSpPr>
          <p:spPr>
            <a:xfrm>
              <a:off x="1019160" y="5902200"/>
              <a:ext cx="104832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529"/>
            <p:cNvSpPr/>
            <p:nvPr/>
          </p:nvSpPr>
          <p:spPr>
            <a:xfrm>
              <a:off x="2067480" y="5902200"/>
              <a:ext cx="57384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530"/>
            <p:cNvSpPr/>
            <p:nvPr/>
          </p:nvSpPr>
          <p:spPr>
            <a:xfrm>
              <a:off x="2641680" y="5902200"/>
              <a:ext cx="76140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531"/>
            <p:cNvSpPr/>
            <p:nvPr/>
          </p:nvSpPr>
          <p:spPr>
            <a:xfrm>
              <a:off x="3403440" y="5902200"/>
              <a:ext cx="105228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532"/>
            <p:cNvSpPr/>
            <p:nvPr/>
          </p:nvSpPr>
          <p:spPr>
            <a:xfrm>
              <a:off x="65160" y="6359400"/>
              <a:ext cx="9540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нергет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33"/>
            <p:cNvSpPr/>
            <p:nvPr/>
          </p:nvSpPr>
          <p:spPr>
            <a:xfrm>
              <a:off x="1019160" y="6359400"/>
              <a:ext cx="104832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534"/>
            <p:cNvSpPr/>
            <p:nvPr/>
          </p:nvSpPr>
          <p:spPr>
            <a:xfrm>
              <a:off x="2067480" y="6359400"/>
              <a:ext cx="57384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535"/>
            <p:cNvSpPr/>
            <p:nvPr/>
          </p:nvSpPr>
          <p:spPr>
            <a:xfrm>
              <a:off x="2641680" y="6359400"/>
              <a:ext cx="76140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536"/>
            <p:cNvSpPr/>
            <p:nvPr/>
          </p:nvSpPr>
          <p:spPr>
            <a:xfrm>
              <a:off x="3403440" y="6359400"/>
              <a:ext cx="1052280" cy="212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537"/>
            <p:cNvSpPr/>
            <p:nvPr/>
          </p:nvSpPr>
          <p:spPr>
            <a:xfrm>
              <a:off x="65160" y="6572160"/>
              <a:ext cx="954000" cy="33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мунальные 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538"/>
            <p:cNvSpPr/>
            <p:nvPr/>
          </p:nvSpPr>
          <p:spPr>
            <a:xfrm>
              <a:off x="1019160" y="6572160"/>
              <a:ext cx="1048320" cy="33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539"/>
            <p:cNvSpPr/>
            <p:nvPr/>
          </p:nvSpPr>
          <p:spPr>
            <a:xfrm>
              <a:off x="2067480" y="6572160"/>
              <a:ext cx="573840" cy="33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540"/>
            <p:cNvSpPr/>
            <p:nvPr/>
          </p:nvSpPr>
          <p:spPr>
            <a:xfrm>
              <a:off x="2641680" y="6572160"/>
              <a:ext cx="761400" cy="33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541"/>
            <p:cNvSpPr/>
            <p:nvPr/>
          </p:nvSpPr>
          <p:spPr>
            <a:xfrm>
              <a:off x="3403440" y="6572160"/>
              <a:ext cx="1052280" cy="33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542"/>
            <p:cNvSpPr/>
            <p:nvPr/>
          </p:nvSpPr>
          <p:spPr>
            <a:xfrm>
              <a:off x="101916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543"/>
            <p:cNvSpPr/>
            <p:nvPr/>
          </p:nvSpPr>
          <p:spPr>
            <a:xfrm>
              <a:off x="206748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544"/>
            <p:cNvSpPr/>
            <p:nvPr/>
          </p:nvSpPr>
          <p:spPr>
            <a:xfrm>
              <a:off x="264168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545"/>
            <p:cNvSpPr/>
            <p:nvPr/>
          </p:nvSpPr>
          <p:spPr>
            <a:xfrm>
              <a:off x="340344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546"/>
            <p:cNvSpPr/>
            <p:nvPr/>
          </p:nvSpPr>
          <p:spPr>
            <a:xfrm>
              <a:off x="65160" y="556704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547"/>
            <p:cNvSpPr/>
            <p:nvPr/>
          </p:nvSpPr>
          <p:spPr>
            <a:xfrm>
              <a:off x="65160" y="590220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548"/>
            <p:cNvSpPr/>
            <p:nvPr/>
          </p:nvSpPr>
          <p:spPr>
            <a:xfrm>
              <a:off x="65160" y="635940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549"/>
            <p:cNvSpPr/>
            <p:nvPr/>
          </p:nvSpPr>
          <p:spPr>
            <a:xfrm>
              <a:off x="65160" y="657216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550"/>
            <p:cNvSpPr/>
            <p:nvPr/>
          </p:nvSpPr>
          <p:spPr>
            <a:xfrm>
              <a:off x="6516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551"/>
            <p:cNvSpPr/>
            <p:nvPr/>
          </p:nvSpPr>
          <p:spPr>
            <a:xfrm>
              <a:off x="4456080" y="5567040"/>
              <a:ext cx="0" cy="39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552"/>
            <p:cNvSpPr/>
            <p:nvPr/>
          </p:nvSpPr>
          <p:spPr>
            <a:xfrm>
              <a:off x="65160" y="955512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553"/>
            <p:cNvSpPr/>
            <p:nvPr/>
          </p:nvSpPr>
          <p:spPr>
            <a:xfrm>
              <a:off x="65160" y="690696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554"/>
            <p:cNvSpPr/>
            <p:nvPr/>
          </p:nvSpPr>
          <p:spPr>
            <a:xfrm>
              <a:off x="65160" y="711972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555"/>
            <p:cNvSpPr/>
            <p:nvPr/>
          </p:nvSpPr>
          <p:spPr>
            <a:xfrm>
              <a:off x="65160" y="733248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556"/>
            <p:cNvSpPr/>
            <p:nvPr/>
          </p:nvSpPr>
          <p:spPr>
            <a:xfrm>
              <a:off x="65160" y="778968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557"/>
            <p:cNvSpPr/>
            <p:nvPr/>
          </p:nvSpPr>
          <p:spPr>
            <a:xfrm>
              <a:off x="65160" y="830556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558"/>
            <p:cNvSpPr/>
            <p:nvPr/>
          </p:nvSpPr>
          <p:spPr>
            <a:xfrm>
              <a:off x="65160" y="888516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559"/>
            <p:cNvSpPr/>
            <p:nvPr/>
          </p:nvSpPr>
          <p:spPr>
            <a:xfrm>
              <a:off x="65160" y="9342360"/>
              <a:ext cx="43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8" name="Object 102"/>
          <p:cNvGraphicFramePr/>
          <p:nvPr/>
        </p:nvGraphicFramePr>
        <p:xfrm>
          <a:off x="4672080" y="6672240"/>
          <a:ext cx="4340160" cy="394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9" name="Object 10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2080" y="6672240"/>
                    <a:ext cx="434016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10072800" y="3144960"/>
          <a:ext cx="2449440" cy="1560240"/>
        </p:xfrm>
        <a:graphic>
          <a:graphicData uri="http://schemas.openxmlformats.org/drawingml/2006/table">
            <a:tbl>
              <a:tblPr/>
              <a:tblGrid>
                <a:gridCol w="303120"/>
                <a:gridCol w="2146320"/>
              </a:tblGrid>
              <a:tr h="442080"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ен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ентивных мероприятий. проводимых ОМС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8040" rIns="6804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едание КЧС Тогучинского райо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312120"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8040" rIns="6804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абные тренировки с НАСФ (1 раза в год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8040" rIns="6804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я (1раз в год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312120">
                <a:tc>
                  <a:txBody>
                    <a:bodyPr lIns="68040" rIns="68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8040" rIns="6804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ирование и инструктирование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Object 171"/>
          <p:cNvGraphicFramePr/>
          <p:nvPr/>
        </p:nvGraphicFramePr>
        <p:xfrm>
          <a:off x="9869400" y="1992240"/>
          <a:ext cx="2932200" cy="2176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2" name="Object 1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69400" y="1992240"/>
                    <a:ext cx="2932200" cy="2176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63" name="Group 1583"/>
          <p:cNvGrpSpPr/>
          <p:nvPr/>
        </p:nvGrpSpPr>
        <p:grpSpPr>
          <a:xfrm>
            <a:off x="279360" y="3360600"/>
            <a:ext cx="5241600" cy="1366560"/>
            <a:chOff x="279360" y="3360600"/>
            <a:chExt cx="5241600" cy="1366560"/>
          </a:xfrm>
        </p:grpSpPr>
        <p:sp>
          <p:nvSpPr>
            <p:cNvPr id="664" name="Rectangle 1584"/>
            <p:cNvSpPr/>
            <p:nvPr/>
          </p:nvSpPr>
          <p:spPr>
            <a:xfrm>
              <a:off x="279360" y="3360600"/>
              <a:ext cx="4388760" cy="21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Cyr"/>
                </a:rPr>
                <a:t>Характеристика населенных пунк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585"/>
            <p:cNvSpPr/>
            <p:nvPr/>
          </p:nvSpPr>
          <p:spPr>
            <a:xfrm>
              <a:off x="4668120" y="3360600"/>
              <a:ext cx="851400" cy="21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586"/>
            <p:cNvSpPr/>
            <p:nvPr/>
          </p:nvSpPr>
          <p:spPr>
            <a:xfrm>
              <a:off x="279360" y="3577680"/>
              <a:ext cx="839880" cy="590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Населенный пунк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587"/>
            <p:cNvSpPr/>
            <p:nvPr/>
          </p:nvSpPr>
          <p:spPr>
            <a:xfrm>
              <a:off x="1119240" y="3577680"/>
              <a:ext cx="597960" cy="590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кол-во жителе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588"/>
            <p:cNvSpPr/>
            <p:nvPr/>
          </p:nvSpPr>
          <p:spPr>
            <a:xfrm>
              <a:off x="1717560" y="3577680"/>
              <a:ext cx="233928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кол-во жилых дом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589"/>
            <p:cNvSpPr/>
            <p:nvPr/>
          </p:nvSpPr>
          <p:spPr>
            <a:xfrm>
              <a:off x="4056840" y="3577680"/>
              <a:ext cx="610920" cy="590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% износа жилого сектор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590"/>
            <p:cNvSpPr/>
            <p:nvPr/>
          </p:nvSpPr>
          <p:spPr>
            <a:xfrm>
              <a:off x="4668120" y="3577680"/>
              <a:ext cx="851400" cy="5907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% негазофи-цированного жиль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591"/>
            <p:cNvSpPr/>
            <p:nvPr/>
          </p:nvSpPr>
          <p:spPr>
            <a:xfrm>
              <a:off x="1717560" y="3796560"/>
              <a:ext cx="483480" cy="37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всег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592"/>
            <p:cNvSpPr/>
            <p:nvPr/>
          </p:nvSpPr>
          <p:spPr>
            <a:xfrm>
              <a:off x="2201400" y="3796560"/>
              <a:ext cx="386280" cy="37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2 э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93"/>
            <p:cNvSpPr/>
            <p:nvPr/>
          </p:nvSpPr>
          <p:spPr>
            <a:xfrm>
              <a:off x="2588040" y="3796560"/>
              <a:ext cx="464760" cy="37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3-5 э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594"/>
            <p:cNvSpPr/>
            <p:nvPr/>
          </p:nvSpPr>
          <p:spPr>
            <a:xfrm>
              <a:off x="3053160" y="3796560"/>
              <a:ext cx="385200" cy="37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6-9 э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595"/>
            <p:cNvSpPr/>
            <p:nvPr/>
          </p:nvSpPr>
          <p:spPr>
            <a:xfrm>
              <a:off x="3438360" y="3796560"/>
              <a:ext cx="618480" cy="37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Свыше 9 э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596"/>
            <p:cNvSpPr/>
            <p:nvPr/>
          </p:nvSpPr>
          <p:spPr>
            <a:xfrm>
              <a:off x="279360" y="4168800"/>
              <a:ext cx="83988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Сурков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597"/>
            <p:cNvSpPr/>
            <p:nvPr/>
          </p:nvSpPr>
          <p:spPr>
            <a:xfrm>
              <a:off x="1119240" y="4168800"/>
              <a:ext cx="59796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6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598"/>
            <p:cNvSpPr/>
            <p:nvPr/>
          </p:nvSpPr>
          <p:spPr>
            <a:xfrm>
              <a:off x="1717560" y="4168800"/>
              <a:ext cx="48348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7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599"/>
            <p:cNvSpPr/>
            <p:nvPr/>
          </p:nvSpPr>
          <p:spPr>
            <a:xfrm>
              <a:off x="2201400" y="4168800"/>
              <a:ext cx="38628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00"/>
            <p:cNvSpPr/>
            <p:nvPr/>
          </p:nvSpPr>
          <p:spPr>
            <a:xfrm>
              <a:off x="2588040" y="4168800"/>
              <a:ext cx="46476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601"/>
            <p:cNvSpPr/>
            <p:nvPr/>
          </p:nvSpPr>
          <p:spPr>
            <a:xfrm>
              <a:off x="3053160" y="4168800"/>
              <a:ext cx="38520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602"/>
            <p:cNvSpPr/>
            <p:nvPr/>
          </p:nvSpPr>
          <p:spPr>
            <a:xfrm>
              <a:off x="3438360" y="4168800"/>
              <a:ext cx="61848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603"/>
            <p:cNvSpPr/>
            <p:nvPr/>
          </p:nvSpPr>
          <p:spPr>
            <a:xfrm>
              <a:off x="4056840" y="4168800"/>
              <a:ext cx="61092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604"/>
            <p:cNvSpPr/>
            <p:nvPr/>
          </p:nvSpPr>
          <p:spPr>
            <a:xfrm>
              <a:off x="4668120" y="4168800"/>
              <a:ext cx="851400" cy="218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05"/>
            <p:cNvSpPr/>
            <p:nvPr/>
          </p:nvSpPr>
          <p:spPr>
            <a:xfrm>
              <a:off x="279360" y="4387680"/>
              <a:ext cx="83988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 Cyr"/>
                </a:rPr>
                <a:t>Итого за райо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606"/>
            <p:cNvSpPr/>
            <p:nvPr/>
          </p:nvSpPr>
          <p:spPr>
            <a:xfrm>
              <a:off x="1119240" y="4387680"/>
              <a:ext cx="59796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34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607"/>
            <p:cNvSpPr/>
            <p:nvPr/>
          </p:nvSpPr>
          <p:spPr>
            <a:xfrm>
              <a:off x="1717560" y="4387680"/>
              <a:ext cx="48348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3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608"/>
            <p:cNvSpPr/>
            <p:nvPr/>
          </p:nvSpPr>
          <p:spPr>
            <a:xfrm>
              <a:off x="2201400" y="4387680"/>
              <a:ext cx="38628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609"/>
            <p:cNvSpPr/>
            <p:nvPr/>
          </p:nvSpPr>
          <p:spPr>
            <a:xfrm>
              <a:off x="2588040" y="4387680"/>
              <a:ext cx="46476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610"/>
            <p:cNvSpPr/>
            <p:nvPr/>
          </p:nvSpPr>
          <p:spPr>
            <a:xfrm>
              <a:off x="3053160" y="4387680"/>
              <a:ext cx="38520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611"/>
            <p:cNvSpPr/>
            <p:nvPr/>
          </p:nvSpPr>
          <p:spPr>
            <a:xfrm>
              <a:off x="3438360" y="4387680"/>
              <a:ext cx="61848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12"/>
            <p:cNvSpPr/>
            <p:nvPr/>
          </p:nvSpPr>
          <p:spPr>
            <a:xfrm>
              <a:off x="4056840" y="4387680"/>
              <a:ext cx="61092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613"/>
            <p:cNvSpPr/>
            <p:nvPr/>
          </p:nvSpPr>
          <p:spPr>
            <a:xfrm>
              <a:off x="4668120" y="4387680"/>
              <a:ext cx="851400" cy="338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b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614"/>
            <p:cNvSpPr/>
            <p:nvPr/>
          </p:nvSpPr>
          <p:spPr>
            <a:xfrm>
              <a:off x="1119240" y="3577680"/>
              <a:ext cx="108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615"/>
            <p:cNvSpPr/>
            <p:nvPr/>
          </p:nvSpPr>
          <p:spPr>
            <a:xfrm>
              <a:off x="1717560" y="3577680"/>
              <a:ext cx="108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616"/>
            <p:cNvSpPr/>
            <p:nvPr/>
          </p:nvSpPr>
          <p:spPr>
            <a:xfrm>
              <a:off x="2201400" y="3796560"/>
              <a:ext cx="108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617"/>
            <p:cNvSpPr/>
            <p:nvPr/>
          </p:nvSpPr>
          <p:spPr>
            <a:xfrm>
              <a:off x="2588040" y="3796560"/>
              <a:ext cx="144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618"/>
            <p:cNvSpPr/>
            <p:nvPr/>
          </p:nvSpPr>
          <p:spPr>
            <a:xfrm>
              <a:off x="3053160" y="3796560"/>
              <a:ext cx="108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619"/>
            <p:cNvSpPr/>
            <p:nvPr/>
          </p:nvSpPr>
          <p:spPr>
            <a:xfrm>
              <a:off x="3438360" y="3796560"/>
              <a:ext cx="108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620"/>
            <p:cNvSpPr/>
            <p:nvPr/>
          </p:nvSpPr>
          <p:spPr>
            <a:xfrm>
              <a:off x="4056840" y="3577680"/>
              <a:ext cx="108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621"/>
            <p:cNvSpPr/>
            <p:nvPr/>
          </p:nvSpPr>
          <p:spPr>
            <a:xfrm>
              <a:off x="4668120" y="3577680"/>
              <a:ext cx="108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622"/>
            <p:cNvSpPr/>
            <p:nvPr/>
          </p:nvSpPr>
          <p:spPr>
            <a:xfrm>
              <a:off x="279360" y="3577680"/>
              <a:ext cx="524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623"/>
            <p:cNvSpPr/>
            <p:nvPr/>
          </p:nvSpPr>
          <p:spPr>
            <a:xfrm>
              <a:off x="1717560" y="3796560"/>
              <a:ext cx="23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624"/>
            <p:cNvSpPr/>
            <p:nvPr/>
          </p:nvSpPr>
          <p:spPr>
            <a:xfrm>
              <a:off x="279360" y="4168800"/>
              <a:ext cx="524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625"/>
            <p:cNvSpPr/>
            <p:nvPr/>
          </p:nvSpPr>
          <p:spPr>
            <a:xfrm>
              <a:off x="279360" y="4387680"/>
              <a:ext cx="524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26"/>
            <p:cNvSpPr/>
            <p:nvPr/>
          </p:nvSpPr>
          <p:spPr>
            <a:xfrm>
              <a:off x="279360" y="3577680"/>
              <a:ext cx="144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627"/>
            <p:cNvSpPr/>
            <p:nvPr/>
          </p:nvSpPr>
          <p:spPr>
            <a:xfrm>
              <a:off x="5519880" y="3577680"/>
              <a:ext cx="1080" cy="11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628"/>
            <p:cNvSpPr/>
            <p:nvPr/>
          </p:nvSpPr>
          <p:spPr>
            <a:xfrm>
              <a:off x="279360" y="4725720"/>
              <a:ext cx="524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09" name="Object 31"/>
          <p:cNvGraphicFramePr/>
          <p:nvPr/>
        </p:nvGraphicFramePr>
        <p:xfrm>
          <a:off x="6545160" y="2063880"/>
          <a:ext cx="2808360" cy="1154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0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5160" y="2063880"/>
                    <a:ext cx="2808360" cy="1154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068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427"/>
          <p:cNvSpPr/>
          <p:nvPr/>
        </p:nvSpPr>
        <p:spPr>
          <a:xfrm>
            <a:off x="6545160" y="739296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20880" y="-35280"/>
            <a:ext cx="12822120" cy="181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электросетях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53"/>
          <p:cNvGrpSpPr/>
          <p:nvPr/>
        </p:nvGrpSpPr>
        <p:grpSpPr>
          <a:xfrm>
            <a:off x="9137520" y="7176960"/>
            <a:ext cx="3625560" cy="2425320"/>
            <a:chOff x="9137520" y="7176960"/>
            <a:chExt cx="3625560" cy="2425320"/>
          </a:xfrm>
        </p:grpSpPr>
        <p:sp>
          <p:nvSpPr>
            <p:cNvPr id="715" name="Rectangle 5"/>
            <p:cNvSpPr/>
            <p:nvPr/>
          </p:nvSpPr>
          <p:spPr>
            <a:xfrm>
              <a:off x="9137520" y="7176960"/>
              <a:ext cx="3625560" cy="24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9530640" y="7321320"/>
              <a:ext cx="30258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3720" bIns="6372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7"/>
            <p:cNvSpPr/>
            <p:nvPr/>
          </p:nvSpPr>
          <p:spPr>
            <a:xfrm>
              <a:off x="9241560" y="7897320"/>
              <a:ext cx="793440" cy="0"/>
            </a:xfrm>
            <a:prstGeom prst="line">
              <a:avLst/>
            </a:prstGeom>
            <a:ln w="3816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8"/>
            <p:cNvSpPr/>
            <p:nvPr/>
          </p:nvSpPr>
          <p:spPr>
            <a:xfrm>
              <a:off x="9241560" y="8115120"/>
              <a:ext cx="79344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9"/>
            <p:cNvSpPr/>
            <p:nvPr/>
          </p:nvSpPr>
          <p:spPr>
            <a:xfrm>
              <a:off x="9241560" y="8330760"/>
              <a:ext cx="79344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0"/>
            <p:cNvSpPr/>
            <p:nvPr/>
          </p:nvSpPr>
          <p:spPr>
            <a:xfrm>
              <a:off x="10106640" y="782604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льтровысокий класс напряж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1"/>
            <p:cNvSpPr/>
            <p:nvPr/>
          </p:nvSpPr>
          <p:spPr>
            <a:xfrm>
              <a:off x="10106640" y="804204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вервысокий класс напряж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2"/>
            <p:cNvSpPr/>
            <p:nvPr/>
          </p:nvSpPr>
          <p:spPr>
            <a:xfrm>
              <a:off x="10106640" y="825732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окий класс напряж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3"/>
            <p:cNvSpPr/>
            <p:nvPr/>
          </p:nvSpPr>
          <p:spPr>
            <a:xfrm>
              <a:off x="9241560" y="8546760"/>
              <a:ext cx="79344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4"/>
            <p:cNvSpPr/>
            <p:nvPr/>
          </p:nvSpPr>
          <p:spPr>
            <a:xfrm>
              <a:off x="10106640" y="847296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редний класс напряж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9457560" y="8762040"/>
              <a:ext cx="35964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6"/>
            <p:cNvSpPr/>
            <p:nvPr/>
          </p:nvSpPr>
          <p:spPr>
            <a:xfrm>
              <a:off x="9457560" y="8977680"/>
              <a:ext cx="35964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7"/>
            <p:cNvSpPr/>
            <p:nvPr/>
          </p:nvSpPr>
          <p:spPr>
            <a:xfrm>
              <a:off x="10106640" y="876204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станции передачи энер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8"/>
            <p:cNvSpPr/>
            <p:nvPr/>
          </p:nvSpPr>
          <p:spPr>
            <a:xfrm>
              <a:off x="10106640" y="897768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станции распредел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61"/>
            <p:cNvSpPr/>
            <p:nvPr/>
          </p:nvSpPr>
          <p:spPr>
            <a:xfrm>
              <a:off x="9241560" y="7970760"/>
              <a:ext cx="7182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62"/>
            <p:cNvSpPr/>
            <p:nvPr/>
          </p:nvSpPr>
          <p:spPr>
            <a:xfrm>
              <a:off x="9241560" y="8186040"/>
              <a:ext cx="72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63"/>
            <p:cNvSpPr/>
            <p:nvPr/>
          </p:nvSpPr>
          <p:spPr>
            <a:xfrm>
              <a:off x="9241560" y="8402040"/>
              <a:ext cx="72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4"/>
            <p:cNvSpPr/>
            <p:nvPr/>
          </p:nvSpPr>
          <p:spPr>
            <a:xfrm>
              <a:off x="9241560" y="8617680"/>
              <a:ext cx="720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5"/>
            <p:cNvSpPr/>
            <p:nvPr/>
          </p:nvSpPr>
          <p:spPr>
            <a:xfrm>
              <a:off x="9241560" y="9266400"/>
              <a:ext cx="79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66"/>
            <p:cNvSpPr/>
            <p:nvPr/>
          </p:nvSpPr>
          <p:spPr>
            <a:xfrm>
              <a:off x="9241560" y="9411120"/>
              <a:ext cx="71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67"/>
            <p:cNvSpPr/>
            <p:nvPr/>
          </p:nvSpPr>
          <p:spPr>
            <a:xfrm>
              <a:off x="10106640" y="919332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душные линии электропереда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68"/>
            <p:cNvSpPr/>
            <p:nvPr/>
          </p:nvSpPr>
          <p:spPr>
            <a:xfrm>
              <a:off x="10106640" y="9338040"/>
              <a:ext cx="252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земные линии электропереда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386"/>
          <p:cNvSpPr/>
          <p:nvPr/>
        </p:nvSpPr>
        <p:spPr>
          <a:xfrm>
            <a:off x="-7920" y="-23760"/>
            <a:ext cx="12822120" cy="1811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Тогучинского района Новосибирской области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электросетях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0" y="2928960"/>
          <a:ext cx="5294160" cy="1009800"/>
        </p:xfrm>
        <a:graphic>
          <a:graphicData uri="http://schemas.openxmlformats.org/drawingml/2006/table">
            <a:tbl>
              <a:tblPr/>
              <a:tblGrid>
                <a:gridCol w="681120"/>
                <a:gridCol w="663480"/>
                <a:gridCol w="674640"/>
                <a:gridCol w="639720"/>
                <a:gridCol w="657360"/>
                <a:gridCol w="1977840"/>
              </a:tblGrid>
              <a:tr h="280800">
                <a:tc gridSpan="5"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 возникновения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33080"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920"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800" rIns="1278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средняя 0,5-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9" name="Object 334"/>
          <p:cNvGraphicFramePr/>
          <p:nvPr/>
        </p:nvGraphicFramePr>
        <p:xfrm>
          <a:off x="9209160" y="4008600"/>
          <a:ext cx="3073320" cy="120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0" name="Object 3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9160" y="4008600"/>
                    <a:ext cx="3073320" cy="1207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1" name="Object 31"/>
          <p:cNvGraphicFramePr/>
          <p:nvPr/>
        </p:nvGraphicFramePr>
        <p:xfrm>
          <a:off x="9209160" y="1992240"/>
          <a:ext cx="3244680" cy="1830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4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09160" y="1992240"/>
                    <a:ext cx="3244680" cy="1830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136440" y="6313320"/>
          <a:ext cx="4033800" cy="3179880"/>
        </p:xfrm>
        <a:graphic>
          <a:graphicData uri="http://schemas.openxmlformats.org/drawingml/2006/table">
            <a:tbl>
              <a:tblPr/>
              <a:tblGrid>
                <a:gridCol w="513000"/>
                <a:gridCol w="1515960"/>
                <a:gridCol w="852480"/>
                <a:gridCol w="588960"/>
                <a:gridCol w="563400"/>
              </a:tblGrid>
              <a:tr h="24156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3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48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 противопожарная служ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8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вольная пожарная охра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1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  пожарная охра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8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48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 охраны общественного поря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Д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256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618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штатные аварийно-спасательные форм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 gridSpan="2">
                  <a:txBody>
                    <a:bodyPr lIns="68400" rIns="68400" tIns="34200" bIns="34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4" name="AutoShape 57"/>
          <p:cNvSpPr/>
          <p:nvPr/>
        </p:nvSpPr>
        <p:spPr>
          <a:xfrm>
            <a:off x="7769160" y="5952960"/>
            <a:ext cx="1293840" cy="505080"/>
          </a:xfrm>
          <a:prstGeom prst="wedgeRectCallout">
            <a:avLst>
              <a:gd name="adj1" fmla="val -90736"/>
              <a:gd name="adj2" fmla="val 172643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дстанц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3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0"/>
          <p:cNvSpPr/>
          <p:nvPr/>
        </p:nvSpPr>
        <p:spPr>
          <a:xfrm>
            <a:off x="6977160" y="7105680"/>
            <a:ext cx="288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44"/>
          <p:cNvSpPr/>
          <p:nvPr/>
        </p:nvSpPr>
        <p:spPr>
          <a:xfrm flipV="1">
            <a:off x="6832440" y="3576600"/>
            <a:ext cx="720720" cy="92232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20960" y="5440320"/>
            <a:ext cx="8959680" cy="245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3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0" y="3122280"/>
            <a:ext cx="12801600" cy="33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РИСКИ ВОЗНИКНОВЕНИЯ ПОЖАР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809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427"/>
          <p:cNvSpPr/>
          <p:nvPr/>
        </p:nvSpPr>
        <p:spPr>
          <a:xfrm>
            <a:off x="6905520" y="595296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0" y="-23760"/>
            <a:ext cx="1280160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768240"/>
            <a:ext cx="1280160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техногенных пож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68080" y="120240"/>
            <a:ext cx="11521800" cy="1792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возникновения техногенных пожаров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7759800" y="2208240"/>
          <a:ext cx="5041800" cy="1538280"/>
        </p:xfrm>
        <a:graphic>
          <a:graphicData uri="http://schemas.openxmlformats.org/drawingml/2006/table">
            <a:tbl>
              <a:tblPr/>
              <a:tblGrid>
                <a:gridCol w="668160"/>
                <a:gridCol w="671760"/>
                <a:gridCol w="668160"/>
                <a:gridCol w="673200"/>
                <a:gridCol w="669960"/>
                <a:gridCol w="1690560"/>
              </a:tblGrid>
              <a:tr h="24408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 возникновения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ошло 109 техногенных пожар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ошло 107 техногенных пожа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ошло 105 техногенных пожа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ошло 101 техногенных пожа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ошло 99  техногенных пожа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 н.п. Тогучин  сохраняется высокая вероятность возникновения техногенных пожаров в жилой зон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0" y="3144960"/>
          <a:ext cx="5684760" cy="2246040"/>
        </p:xfrm>
        <a:graphic>
          <a:graphicData uri="http://schemas.openxmlformats.org/drawingml/2006/table">
            <a:tbl>
              <a:tblPr/>
              <a:tblGrid>
                <a:gridCol w="619200"/>
                <a:gridCol w="2606760"/>
                <a:gridCol w="793440"/>
                <a:gridCol w="743040"/>
                <a:gridCol w="922320"/>
              </a:tblGrid>
              <a:tr h="244080">
                <a:tc rowSpan="2">
                  <a:txBody>
                    <a:bodyPr tIns="48240" bIns="48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24408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гарнизона пожарной охра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 противопожарная служ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жарная служба субь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ная пожарная ох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 пожарная ох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 пожарная ох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24408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0" y="5448240"/>
          <a:ext cx="3529080" cy="2548080"/>
        </p:xfrm>
        <a:graphic>
          <a:graphicData uri="http://schemas.openxmlformats.org/drawingml/2006/table">
            <a:tbl>
              <a:tblPr/>
              <a:tblGrid>
                <a:gridCol w="650880"/>
                <a:gridCol w="787320"/>
                <a:gridCol w="1046160"/>
                <a:gridCol w="1044720"/>
              </a:tblGrid>
              <a:tr h="411120">
                <a:tc gridSpan="4"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арактеристика зданий и сооруж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та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лич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гнестойк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9160"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58" name="Oval 214"/>
          <p:cNvSpPr/>
          <p:nvPr/>
        </p:nvSpPr>
        <p:spPr>
          <a:xfrm>
            <a:off x="3521160" y="1271520"/>
            <a:ext cx="6408720" cy="1871640"/>
          </a:xfrm>
          <a:prstGeom prst="ellipse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31"/>
          <p:cNvGraphicFramePr/>
          <p:nvPr/>
        </p:nvGraphicFramePr>
        <p:xfrm>
          <a:off x="7048440" y="8377200"/>
          <a:ext cx="2990880" cy="12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0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8440" y="8377200"/>
                    <a:ext cx="2990880" cy="1224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1" name="AutoShape 68"/>
          <p:cNvSpPr/>
          <p:nvPr/>
        </p:nvSpPr>
        <p:spPr>
          <a:xfrm>
            <a:off x="3736800" y="1992240"/>
            <a:ext cx="140040" cy="144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753"/>
          <p:cNvSpPr/>
          <p:nvPr/>
        </p:nvSpPr>
        <p:spPr>
          <a:xfrm flipH="1">
            <a:off x="4313160" y="2279520"/>
            <a:ext cx="2664000" cy="4969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754"/>
          <p:cNvSpPr/>
          <p:nvPr/>
        </p:nvSpPr>
        <p:spPr>
          <a:xfrm>
            <a:off x="496800" y="1128600"/>
            <a:ext cx="2305080" cy="577800"/>
          </a:xfrm>
          <a:prstGeom prst="wedgeRectCallout">
            <a:avLst>
              <a:gd name="adj1" fmla="val 94282"/>
              <a:gd name="adj2" fmla="val 120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а забора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755"/>
          <p:cNvGrpSpPr/>
          <p:nvPr/>
        </p:nvGrpSpPr>
        <p:grpSpPr>
          <a:xfrm>
            <a:off x="10071360" y="3792600"/>
            <a:ext cx="2946240" cy="5808600"/>
            <a:chOff x="10071360" y="3792600"/>
            <a:chExt cx="2946240" cy="5808600"/>
          </a:xfrm>
        </p:grpSpPr>
        <p:sp>
          <p:nvSpPr>
            <p:cNvPr id="765" name="Rectangle 258"/>
            <p:cNvSpPr/>
            <p:nvPr/>
          </p:nvSpPr>
          <p:spPr>
            <a:xfrm>
              <a:off x="10090080" y="3792600"/>
              <a:ext cx="2710080" cy="580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259"/>
            <p:cNvSpPr/>
            <p:nvPr/>
          </p:nvSpPr>
          <p:spPr>
            <a:xfrm>
              <a:off x="10263240" y="3792600"/>
              <a:ext cx="25369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ловные обозна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262"/>
            <p:cNvSpPr/>
            <p:nvPr/>
          </p:nvSpPr>
          <p:spPr>
            <a:xfrm>
              <a:off x="10563120" y="9086760"/>
              <a:ext cx="223380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границы районов выезда П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63"/>
            <p:cNvSpPr/>
            <p:nvPr/>
          </p:nvSpPr>
          <p:spPr>
            <a:xfrm>
              <a:off x="10110960" y="9145440"/>
              <a:ext cx="434880" cy="1800"/>
            </a:xfrm>
            <a:prstGeom prst="line">
              <a:avLst/>
            </a:prstGeom>
            <a:ln w="2844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265"/>
            <p:cNvSpPr/>
            <p:nvPr/>
          </p:nvSpPr>
          <p:spPr>
            <a:xfrm>
              <a:off x="10547280" y="4505400"/>
              <a:ext cx="19209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266"/>
            <p:cNvSpPr/>
            <p:nvPr/>
          </p:nvSpPr>
          <p:spPr>
            <a:xfrm>
              <a:off x="10725120" y="4964040"/>
              <a:ext cx="2075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иболее горимый населенный пункт (пож/гиб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348"/>
            <p:cNvSpPr/>
            <p:nvPr/>
          </p:nvSpPr>
          <p:spPr>
            <a:xfrm>
              <a:off x="10110960" y="9248760"/>
              <a:ext cx="434880" cy="4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349"/>
            <p:cNvSpPr/>
            <p:nvPr/>
          </p:nvSpPr>
          <p:spPr>
            <a:xfrm>
              <a:off x="10110960" y="9336240"/>
              <a:ext cx="434880" cy="14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350"/>
            <p:cNvSpPr/>
            <p:nvPr/>
          </p:nvSpPr>
          <p:spPr>
            <a:xfrm>
              <a:off x="10115640" y="9426600"/>
              <a:ext cx="434880" cy="1440"/>
            </a:xfrm>
            <a:prstGeom prst="line">
              <a:avLst/>
            </a:prstGeom>
            <a:ln w="28440">
              <a:solidFill>
                <a:srgbClr val="ff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Group 351"/>
            <p:cNvGrpSpPr/>
            <p:nvPr/>
          </p:nvGrpSpPr>
          <p:grpSpPr>
            <a:xfrm>
              <a:off x="10072800" y="5632560"/>
              <a:ext cx="507600" cy="526680"/>
              <a:chOff x="10072800" y="5632560"/>
              <a:chExt cx="507600" cy="526680"/>
            </a:xfrm>
          </p:grpSpPr>
          <p:sp>
            <p:nvSpPr>
              <p:cNvPr id="775" name="Freeform 352"/>
              <p:cNvSpPr/>
              <p:nvPr/>
            </p:nvSpPr>
            <p:spPr>
              <a:xfrm>
                <a:off x="10146240" y="5632560"/>
                <a:ext cx="434160" cy="526680"/>
              </a:xfrm>
              <a:prstGeom prst="pi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353"/>
              <p:cNvSpPr/>
              <p:nvPr/>
            </p:nvSpPr>
            <p:spPr>
              <a:xfrm>
                <a:off x="10072800" y="5632560"/>
                <a:ext cx="50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720" bIns="36720" anchor="t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П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354"/>
            <p:cNvGrpSpPr/>
            <p:nvPr/>
          </p:nvGrpSpPr>
          <p:grpSpPr>
            <a:xfrm>
              <a:off x="10080720" y="6222960"/>
              <a:ext cx="539280" cy="526680"/>
              <a:chOff x="10080720" y="6222960"/>
              <a:chExt cx="539280" cy="526680"/>
            </a:xfrm>
          </p:grpSpPr>
          <p:sp>
            <p:nvSpPr>
              <p:cNvPr id="778" name="Freeform 355"/>
              <p:cNvSpPr/>
              <p:nvPr/>
            </p:nvSpPr>
            <p:spPr>
              <a:xfrm>
                <a:off x="10142280" y="6222960"/>
                <a:ext cx="477720" cy="526680"/>
              </a:xfrm>
              <a:prstGeom prst="pie">
                <a:avLst/>
              </a:prstGeom>
              <a:solidFill>
                <a:srgbClr val="3366ff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356"/>
              <p:cNvSpPr/>
              <p:nvPr/>
            </p:nvSpPr>
            <p:spPr>
              <a:xfrm>
                <a:off x="10080720" y="6222960"/>
                <a:ext cx="4204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720" bIns="36720" anchor="t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П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357"/>
            <p:cNvGrpSpPr/>
            <p:nvPr/>
          </p:nvGrpSpPr>
          <p:grpSpPr>
            <a:xfrm>
              <a:off x="10080720" y="6856560"/>
              <a:ext cx="528120" cy="534600"/>
              <a:chOff x="10080720" y="6856560"/>
              <a:chExt cx="528120" cy="534600"/>
            </a:xfrm>
          </p:grpSpPr>
          <p:sp>
            <p:nvSpPr>
              <p:cNvPr id="781" name="Freeform 358"/>
              <p:cNvSpPr/>
              <p:nvPr/>
            </p:nvSpPr>
            <p:spPr>
              <a:xfrm>
                <a:off x="10130040" y="6863400"/>
                <a:ext cx="478800" cy="527760"/>
              </a:xfrm>
              <a:prstGeom prst="pi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359"/>
              <p:cNvSpPr/>
              <p:nvPr/>
            </p:nvSpPr>
            <p:spPr>
              <a:xfrm>
                <a:off x="10080720" y="6856560"/>
                <a:ext cx="4208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720" bIns="36720" anchor="t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П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360"/>
            <p:cNvGrpSpPr/>
            <p:nvPr/>
          </p:nvGrpSpPr>
          <p:grpSpPr>
            <a:xfrm>
              <a:off x="10080720" y="7489800"/>
              <a:ext cx="528120" cy="534600"/>
              <a:chOff x="10080720" y="7489800"/>
              <a:chExt cx="528120" cy="534600"/>
            </a:xfrm>
          </p:grpSpPr>
          <p:sp>
            <p:nvSpPr>
              <p:cNvPr id="784" name="Freeform 361"/>
              <p:cNvSpPr/>
              <p:nvPr/>
            </p:nvSpPr>
            <p:spPr>
              <a:xfrm>
                <a:off x="10130040" y="7496640"/>
                <a:ext cx="478800" cy="527760"/>
              </a:xfrm>
              <a:prstGeom prst="pie">
                <a:avLst/>
              </a:prstGeom>
              <a:solidFill>
                <a:srgbClr val="00ffff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362"/>
              <p:cNvSpPr/>
              <p:nvPr/>
            </p:nvSpPr>
            <p:spPr>
              <a:xfrm>
                <a:off x="10080720" y="7489800"/>
                <a:ext cx="4208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720" bIns="36720" anchor="t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П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363"/>
            <p:cNvGrpSpPr/>
            <p:nvPr/>
          </p:nvGrpSpPr>
          <p:grpSpPr>
            <a:xfrm>
              <a:off x="10120320" y="8104320"/>
              <a:ext cx="391680" cy="537840"/>
              <a:chOff x="10120320" y="8104320"/>
              <a:chExt cx="391680" cy="537840"/>
            </a:xfrm>
          </p:grpSpPr>
          <p:sp>
            <p:nvSpPr>
              <p:cNvPr id="787" name="Freeform 364"/>
              <p:cNvSpPr/>
              <p:nvPr/>
            </p:nvSpPr>
            <p:spPr>
              <a:xfrm>
                <a:off x="10120320" y="8115840"/>
                <a:ext cx="391680" cy="5263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365"/>
              <p:cNvSpPr/>
              <p:nvPr/>
            </p:nvSpPr>
            <p:spPr>
              <a:xfrm>
                <a:off x="10144080" y="8104320"/>
                <a:ext cx="2811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720" bIns="36720" anchor="t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ff0000"/>
                    </a:solidFill>
                    <a:latin typeface="Arial"/>
                  </a:rPr>
                  <a:t>НГ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 Box 366"/>
            <p:cNvSpPr/>
            <p:nvPr/>
          </p:nvSpPr>
          <p:spPr>
            <a:xfrm>
              <a:off x="10618920" y="6191280"/>
              <a:ext cx="218124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ведомственная пожарная охра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367"/>
            <p:cNvSpPr/>
            <p:nvPr/>
          </p:nvSpPr>
          <p:spPr>
            <a:xfrm>
              <a:off x="10709280" y="6856560"/>
              <a:ext cx="18892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частная пожарная охра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Техногенные пожа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368"/>
            <p:cNvSpPr/>
            <p:nvPr/>
          </p:nvSpPr>
          <p:spPr>
            <a:xfrm>
              <a:off x="10709280" y="7488360"/>
              <a:ext cx="1976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добровольная пожарная охра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369"/>
            <p:cNvSpPr/>
            <p:nvPr/>
          </p:nvSpPr>
          <p:spPr>
            <a:xfrm>
              <a:off x="10620360" y="7861320"/>
              <a:ext cx="20653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чальник местного гарнизона пожарной охра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367"/>
            <p:cNvSpPr/>
            <p:nvPr/>
          </p:nvSpPr>
          <p:spPr>
            <a:xfrm>
              <a:off x="10631520" y="4213080"/>
              <a:ext cx="188892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211"/>
            <p:cNvGrpSpPr/>
            <p:nvPr/>
          </p:nvGrpSpPr>
          <p:grpSpPr>
            <a:xfrm>
              <a:off x="10123560" y="4422600"/>
              <a:ext cx="455040" cy="388800"/>
              <a:chOff x="10123560" y="4422600"/>
              <a:chExt cx="455040" cy="388800"/>
            </a:xfrm>
          </p:grpSpPr>
          <p:grpSp>
            <p:nvGrpSpPr>
              <p:cNvPr id="795" name="Group 139"/>
              <p:cNvGrpSpPr/>
              <p:nvPr/>
            </p:nvGrpSpPr>
            <p:grpSpPr>
              <a:xfrm>
                <a:off x="10189080" y="4478400"/>
                <a:ext cx="325800" cy="279000"/>
                <a:chOff x="10189080" y="4478400"/>
                <a:chExt cx="325800" cy="279000"/>
              </a:xfrm>
            </p:grpSpPr>
            <p:sp>
              <p:nvSpPr>
                <p:cNvPr id="796" name="Freeform 140"/>
                <p:cNvSpPr/>
                <p:nvPr/>
              </p:nvSpPr>
              <p:spPr>
                <a:xfrm>
                  <a:off x="10253160" y="4478400"/>
                  <a:ext cx="204120" cy="1890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Oval 141"/>
                <p:cNvSpPr/>
                <p:nvPr/>
              </p:nvSpPr>
              <p:spPr>
                <a:xfrm>
                  <a:off x="10189080" y="4605840"/>
                  <a:ext cx="325800" cy="1515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Rectangle 142"/>
              <p:cNvSpPr/>
              <p:nvPr/>
            </p:nvSpPr>
            <p:spPr>
              <a:xfrm>
                <a:off x="10123560" y="4422600"/>
                <a:ext cx="455040" cy="3888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Text Box 266"/>
            <p:cNvSpPr/>
            <p:nvPr/>
          </p:nvSpPr>
          <p:spPr>
            <a:xfrm>
              <a:off x="10725120" y="5597640"/>
              <a:ext cx="20750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едеральная противопожарная служ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ЧС Ро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66"/>
            <p:cNvSpPr/>
            <p:nvPr/>
          </p:nvSpPr>
          <p:spPr>
            <a:xfrm>
              <a:off x="10725120" y="4334040"/>
              <a:ext cx="2075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жаровзрывоопасный объек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71"/>
            <p:cNvGrpSpPr/>
            <p:nvPr/>
          </p:nvGrpSpPr>
          <p:grpSpPr>
            <a:xfrm>
              <a:off x="10267920" y="4064040"/>
              <a:ext cx="290160" cy="191880"/>
              <a:chOff x="10267920" y="4064040"/>
              <a:chExt cx="290160" cy="191880"/>
            </a:xfrm>
          </p:grpSpPr>
          <p:sp>
            <p:nvSpPr>
              <p:cNvPr id="802" name="Oval 72"/>
              <p:cNvSpPr/>
              <p:nvPr/>
            </p:nvSpPr>
            <p:spPr>
              <a:xfrm>
                <a:off x="10267920" y="4064040"/>
                <a:ext cx="290160" cy="191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720" rIns="126720" tIns="63360" bIns="6336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Group 73"/>
              <p:cNvGrpSpPr/>
              <p:nvPr/>
            </p:nvGrpSpPr>
            <p:grpSpPr>
              <a:xfrm>
                <a:off x="10349280" y="4116600"/>
                <a:ext cx="132120" cy="107280"/>
                <a:chOff x="10349280" y="4116600"/>
                <a:chExt cx="132120" cy="107280"/>
              </a:xfrm>
            </p:grpSpPr>
            <p:sp>
              <p:nvSpPr>
                <p:cNvPr id="804" name="Line 74"/>
                <p:cNvSpPr/>
                <p:nvPr/>
              </p:nvSpPr>
              <p:spPr>
                <a:xfrm>
                  <a:off x="10412280" y="4129560"/>
                  <a:ext cx="0" cy="9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75"/>
                <p:cNvSpPr/>
                <p:nvPr/>
              </p:nvSpPr>
              <p:spPr>
                <a:xfrm>
                  <a:off x="10349280" y="4116600"/>
                  <a:ext cx="132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6" name="Text Box 64"/>
            <p:cNvSpPr/>
            <p:nvPr/>
          </p:nvSpPr>
          <p:spPr>
            <a:xfrm>
              <a:off x="10558440" y="3929040"/>
              <a:ext cx="20304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вертолетная площад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70"/>
            <p:cNvSpPr/>
            <p:nvPr/>
          </p:nvSpPr>
          <p:spPr>
            <a:xfrm rot="15163800">
              <a:off x="10348920" y="8381880"/>
              <a:ext cx="203040" cy="654120"/>
            </a:xfrm>
            <a:prstGeom prst="pie">
              <a:avLst/>
            </a:prstGeom>
            <a:noFill/>
            <a:ln w="57240">
              <a:solidFill>
                <a:srgbClr val="ff6600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 rot="10800000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20"/>
            <p:cNvSpPr/>
            <p:nvPr/>
          </p:nvSpPr>
          <p:spPr>
            <a:xfrm>
              <a:off x="10875960" y="8607600"/>
              <a:ext cx="1424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ути эваку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Овал 243"/>
            <p:cNvSpPr/>
            <p:nvPr/>
          </p:nvSpPr>
          <p:spPr>
            <a:xfrm>
              <a:off x="10196640" y="8334360"/>
              <a:ext cx="426960" cy="201600"/>
            </a:xfrm>
            <a:prstGeom prst="ellipse">
              <a:avLst/>
            </a:prstGeom>
            <a:solidFill>
              <a:srgbClr val="92d050">
                <a:alpha val="35000"/>
              </a:srgbClr>
            </a:solidFill>
            <a:ln w="25560">
              <a:solidFill>
                <a:srgbClr val="92d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57"/>
            <p:cNvSpPr/>
            <p:nvPr/>
          </p:nvSpPr>
          <p:spPr>
            <a:xfrm>
              <a:off x="10850400" y="8267760"/>
              <a:ext cx="17384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район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эвакуации</a:t>
              </a:r>
              <a:r>
                <a:rPr b="1" lang="ru-RU" sz="7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68"/>
            <p:cNvSpPr/>
            <p:nvPr/>
          </p:nvSpPr>
          <p:spPr>
            <a:xfrm>
              <a:off x="10341000" y="8877240"/>
              <a:ext cx="141120" cy="136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20"/>
            <p:cNvSpPr/>
            <p:nvPr/>
          </p:nvSpPr>
          <p:spPr>
            <a:xfrm>
              <a:off x="10922040" y="8764560"/>
              <a:ext cx="1739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Места расположения пож.водоем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78"/>
            <p:cNvSpPr/>
            <p:nvPr/>
          </p:nvSpPr>
          <p:spPr>
            <a:xfrm flipV="1">
              <a:off x="10123560" y="6639840"/>
              <a:ext cx="798480" cy="135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366"/>
            <p:cNvSpPr/>
            <p:nvPr/>
          </p:nvSpPr>
          <p:spPr>
            <a:xfrm>
              <a:off x="10836360" y="6578640"/>
              <a:ext cx="218124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аршруты движения к пож.водоем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49"/>
            <p:cNvGrpSpPr/>
            <p:nvPr/>
          </p:nvGrpSpPr>
          <p:grpSpPr>
            <a:xfrm>
              <a:off x="10071360" y="4729320"/>
              <a:ext cx="680400" cy="905760"/>
              <a:chOff x="10071360" y="4729320"/>
              <a:chExt cx="680400" cy="905760"/>
            </a:xfrm>
          </p:grpSpPr>
          <p:pic>
            <p:nvPicPr>
              <p:cNvPr id="816" name="Picture 150" descr="пламя"/>
              <p:cNvPicPr/>
              <p:nvPr/>
            </p:nvPicPr>
            <p:blipFill>
              <a:blip r:embed="rId4"/>
              <a:stretch/>
            </p:blipFill>
            <p:spPr>
              <a:xfrm>
                <a:off x="10177560" y="4729320"/>
                <a:ext cx="430920" cy="8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Text Box 151"/>
              <p:cNvSpPr/>
              <p:nvPr/>
            </p:nvSpPr>
            <p:spPr>
              <a:xfrm>
                <a:off x="10071360" y="5204160"/>
                <a:ext cx="6804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15640" rIns="215640" tIns="108720" bIns="108720" anchor="ctr">
                <a:sp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4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8" name="Picture 1883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3305160" y="868824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34"/>
          <p:cNvSpPr/>
          <p:nvPr/>
        </p:nvSpPr>
        <p:spPr>
          <a:xfrm>
            <a:off x="5176800" y="46080"/>
            <a:ext cx="2044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8"/>
          <p:cNvSpPr/>
          <p:nvPr/>
        </p:nvSpPr>
        <p:spPr>
          <a:xfrm>
            <a:off x="0" y="-79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4520" y="487440"/>
          <a:ext cx="12247560" cy="8902800"/>
        </p:xfrm>
        <a:graphic>
          <a:graphicData uri="http://schemas.openxmlformats.org/drawingml/2006/table">
            <a:tbl>
              <a:tblPr/>
              <a:tblGrid>
                <a:gridCol w="11128320"/>
                <a:gridCol w="1119240"/>
              </a:tblGrid>
              <a:tr h="463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щая информация (характерис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иски возникновения ЧС на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280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Риски возникновения ЧС на объектах автомобиль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280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Риски возникновения ЧС на объектах железнодорож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Риски возникновения ЧС на объектах морск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Риски возникновения ЧС на объектах реч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иски возникновения ЧС на потенциально опасных объек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Риски возникновения аварий на Х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Риски возникновения аварий на Р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Риски возникновения аварии на системах 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. Риски возникновения аварий не электрос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ки обрушения зданий, сооружений, пор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иски возникновения пож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Риски возникновения техногенных пож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Информационно-справоч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Информационно-справочные материалы по поисково-спасательным, аварийно-спасательным и нештатным аварийно-спасательным формирования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справочные материалы по силам и средствам пожарной  ох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 Информационно-справочные материалы по резервам финансовых и материальных средст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Информационно-справочные материалы по системе телекоммуник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возникновения техногенных пожаров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367"/>
          <p:cNvSpPr/>
          <p:nvPr/>
        </p:nvSpPr>
        <p:spPr>
          <a:xfrm>
            <a:off x="10647360" y="5280120"/>
            <a:ext cx="1876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0" y="0"/>
            <a:ext cx="12801600" cy="166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спорт территории Чистоозерного рай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восибир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иски возникновения техногенных пожа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5"/>
          <p:cNvSpPr/>
          <p:nvPr/>
        </p:nvSpPr>
        <p:spPr>
          <a:xfrm>
            <a:off x="279360" y="1870560"/>
            <a:ext cx="12242880" cy="1735560"/>
          </a:xfrm>
          <a:prstGeom prst="rect">
            <a:avLst/>
          </a:prstGeom>
          <a:solidFill>
            <a:srgbClr val="bbe0e3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ень превентивных мероприятий проводимых ОМСУ, направленных на защиту от техногенных пожа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 техническая укрепленность зданий ( системы пожаротушения, монтаж установок обнаружения пожара, проведение огнезащитной обработки сгораемых конструкци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 оборудование объектов средствами пожаротушения и средствами самоспасени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 наличие на объекте внутреннего и наружного противопожарного водоснаб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 проведение инструктажей по соблюдению мер ПБ с персоналом, рабочими, населением. Обучение населения мерам ПБ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 создание и содержание добровольных пожарных коман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"/>
          <p:cNvSpPr/>
          <p:nvPr/>
        </p:nvSpPr>
        <p:spPr>
          <a:xfrm>
            <a:off x="352440" y="3673440"/>
            <a:ext cx="12096720" cy="5439240"/>
          </a:xfrm>
          <a:prstGeom prst="rect">
            <a:avLst/>
          </a:prstGeom>
          <a:solidFill>
            <a:srgbClr val="bbe0e3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озможная обстанов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 территории с.п. Сурково существует вероятность возникновения техногенных пожаров в жилом секторе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Эвакуация нас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 возникновении техногенных пожаров в жилье в с.п. Сурково предусмотрено временное размещение эвакуированного населения в административных зданиях , с последующим предоставлением временного жилья из маневренного фонда администрации муниципального образов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оздушная развед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Эвакуация населения в другие населенные пункты и воздушная разведка очагов техногенных пожаров не требуются, ввиду локального характера техногенных пожаров в жилье в с.п. Сурко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0" y="0"/>
            <a:ext cx="12801600" cy="1128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техногенных пож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20960" y="5440320"/>
            <a:ext cx="8959680" cy="245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0" y="3122280"/>
            <a:ext cx="12801600" cy="33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ИНФОРМАЦИОННО-СПРАВОЧНЫЕ МАТЕРИАЛ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1307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200240"/>
            <a:ext cx="12801600" cy="84042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427"/>
          <p:cNvSpPr/>
          <p:nvPr/>
        </p:nvSpPr>
        <p:spPr>
          <a:xfrm>
            <a:off x="7121520" y="7753320"/>
            <a:ext cx="201600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поисково-спасательным, аварийно-спасательным и нештатным аварийно-спасательным формированиям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-7920" y="-23760"/>
            <a:ext cx="1281744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"/>
          <p:cNvSpPr/>
          <p:nvPr/>
        </p:nvSpPr>
        <p:spPr>
          <a:xfrm>
            <a:off x="0" y="768240"/>
            <a:ext cx="12809520" cy="64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поисково-спасательным, аварийно-спасательным и нештатным аварийно-спасательным формир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568080" y="-360"/>
            <a:ext cx="1152180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Информационно-справочные материалы по поисково-спасательным, аварийно-спасательным и нештатным аварийно-спасательным формированиям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0" y="3071880"/>
          <a:ext cx="3456000" cy="4560840"/>
        </p:xfrm>
        <a:graphic>
          <a:graphicData uri="http://schemas.openxmlformats.org/drawingml/2006/table">
            <a:tbl>
              <a:tblPr/>
              <a:tblGrid>
                <a:gridCol w="336600"/>
                <a:gridCol w="1423800"/>
                <a:gridCol w="517680"/>
                <a:gridCol w="561960"/>
                <a:gridCol w="615960"/>
              </a:tblGrid>
              <a:tr h="22104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3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256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гарнизона пожарной охра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10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нерге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733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служб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10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10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Д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256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жбы охраны общественного поря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256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ая медицинская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67788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штатные аварийно-спасательные формир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1040">
                <a:tc gridSpan="2">
                  <a:txBody>
                    <a:bodyPr lIns="68400" rIns="68400" tIns="34200" bIns="34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5" name="Object 147"/>
          <p:cNvGraphicFramePr/>
          <p:nvPr/>
        </p:nvGraphicFramePr>
        <p:xfrm>
          <a:off x="8894880" y="4008600"/>
          <a:ext cx="3906720" cy="122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6" name="Object 1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4880" y="4008600"/>
                    <a:ext cx="390672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 Box 1106"/>
          <p:cNvSpPr/>
          <p:nvPr/>
        </p:nvSpPr>
        <p:spPr>
          <a:xfrm>
            <a:off x="8767800" y="5305320"/>
            <a:ext cx="4033800" cy="898920"/>
          </a:xfrm>
          <a:prstGeom prst="rect">
            <a:avLst/>
          </a:prstGeom>
          <a:solidFill>
            <a:srgbClr val="ff99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ХАРАКТЕРИСТИКА АВТОДОРО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территории Тогучинского  района Сурковская МО федеральная трасса не проходит. Автодорог общего пользования – 108.5 км. Из них территориальных – 108.5 км. В том числе по покрытиям: щебень – 108.5 км, Трубы-20ш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171"/>
          <p:cNvGrpSpPr/>
          <p:nvPr/>
        </p:nvGrpSpPr>
        <p:grpSpPr>
          <a:xfrm>
            <a:off x="9496440" y="6316560"/>
            <a:ext cx="3213000" cy="3237120"/>
            <a:chOff x="9496440" y="6316560"/>
            <a:chExt cx="3213000" cy="3237120"/>
          </a:xfrm>
        </p:grpSpPr>
        <p:sp>
          <p:nvSpPr>
            <p:cNvPr id="839" name="Freeform 26"/>
            <p:cNvSpPr/>
            <p:nvPr/>
          </p:nvSpPr>
          <p:spPr>
            <a:xfrm>
              <a:off x="9496440" y="6937560"/>
              <a:ext cx="946080" cy="2112840"/>
            </a:xfrm>
            <a:prstGeom prst="pie">
              <a:avLst/>
            </a:pr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1173"/>
            <p:cNvGrpSpPr/>
            <p:nvPr/>
          </p:nvGrpSpPr>
          <p:grpSpPr>
            <a:xfrm>
              <a:off x="9693360" y="6316560"/>
              <a:ext cx="3016080" cy="3237120"/>
              <a:chOff x="9693360" y="6316560"/>
              <a:chExt cx="3016080" cy="3237120"/>
            </a:xfrm>
          </p:grpSpPr>
          <p:sp>
            <p:nvSpPr>
              <p:cNvPr id="841" name="Rectangle 1174"/>
              <p:cNvSpPr/>
              <p:nvPr/>
            </p:nvSpPr>
            <p:spPr>
              <a:xfrm>
                <a:off x="9693360" y="6316560"/>
                <a:ext cx="2952720" cy="323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1175"/>
              <p:cNvSpPr/>
              <p:nvPr/>
            </p:nvSpPr>
            <p:spPr>
              <a:xfrm>
                <a:off x="10342440" y="644328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Граница гарнизона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;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1176"/>
              <p:cNvSpPr/>
              <p:nvPr/>
            </p:nvSpPr>
            <p:spPr>
              <a:xfrm>
                <a:off x="10370880" y="7128720"/>
                <a:ext cx="227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жарная часть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;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1177"/>
              <p:cNvSpPr/>
              <p:nvPr/>
            </p:nvSpPr>
            <p:spPr>
              <a:xfrm>
                <a:off x="9788400" y="6624360"/>
                <a:ext cx="46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1178"/>
              <p:cNvGrpSpPr/>
              <p:nvPr/>
            </p:nvGrpSpPr>
            <p:grpSpPr>
              <a:xfrm>
                <a:off x="9788400" y="7201800"/>
                <a:ext cx="407520" cy="574200"/>
                <a:chOff x="9788400" y="7201800"/>
                <a:chExt cx="407520" cy="574200"/>
              </a:xfrm>
            </p:grpSpPr>
            <p:sp>
              <p:nvSpPr>
                <p:cNvPr id="846" name="Rectangle 1179"/>
                <p:cNvSpPr/>
                <p:nvPr/>
              </p:nvSpPr>
              <p:spPr>
                <a:xfrm>
                  <a:off x="9887040" y="7285320"/>
                  <a:ext cx="291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1" lang="ru-RU" sz="800" spc="-1" strike="noStrike">
                      <a:solidFill>
                        <a:srgbClr val="000000"/>
                      </a:solidFill>
                      <a:latin typeface="Arial"/>
                    </a:rPr>
                    <a:t>ПЧ-50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180"/>
                <p:cNvSpPr/>
                <p:nvPr/>
              </p:nvSpPr>
              <p:spPr>
                <a:xfrm>
                  <a:off x="9788400" y="7247160"/>
                  <a:ext cx="25920" cy="52884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181"/>
                <p:cNvSpPr/>
                <p:nvPr/>
              </p:nvSpPr>
              <p:spPr>
                <a:xfrm>
                  <a:off x="9799560" y="7203960"/>
                  <a:ext cx="396360" cy="7992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182"/>
                <p:cNvSpPr/>
                <p:nvPr/>
              </p:nvSpPr>
              <p:spPr>
                <a:xfrm>
                  <a:off x="10170000" y="7269480"/>
                  <a:ext cx="25920" cy="12636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1183"/>
                <p:cNvSpPr/>
                <p:nvPr/>
              </p:nvSpPr>
              <p:spPr>
                <a:xfrm>
                  <a:off x="9789120" y="7367760"/>
                  <a:ext cx="395280" cy="8964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184"/>
                <p:cNvSpPr/>
                <p:nvPr/>
              </p:nvSpPr>
              <p:spPr>
                <a:xfrm>
                  <a:off x="9789120" y="7201800"/>
                  <a:ext cx="24840" cy="23940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Line 1185"/>
              <p:cNvSpPr/>
              <p:nvPr/>
            </p:nvSpPr>
            <p:spPr>
              <a:xfrm>
                <a:off x="9764640" y="8208000"/>
                <a:ext cx="431640" cy="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1186"/>
              <p:cNvSpPr/>
              <p:nvPr/>
            </p:nvSpPr>
            <p:spPr>
              <a:xfrm>
                <a:off x="10434600" y="802836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втомобильные дороги;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1187"/>
              <p:cNvGrpSpPr/>
              <p:nvPr/>
            </p:nvGrpSpPr>
            <p:grpSpPr>
              <a:xfrm>
                <a:off x="9837720" y="7560360"/>
                <a:ext cx="407520" cy="574200"/>
                <a:chOff x="9837720" y="7560360"/>
                <a:chExt cx="407520" cy="574200"/>
              </a:xfrm>
            </p:grpSpPr>
            <p:sp>
              <p:nvSpPr>
                <p:cNvPr id="855" name="Rectangle 1188"/>
                <p:cNvSpPr/>
                <p:nvPr/>
              </p:nvSpPr>
              <p:spPr>
                <a:xfrm>
                  <a:off x="9935640" y="7643880"/>
                  <a:ext cx="1454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1" lang="ru-RU" sz="800" spc="-1" strike="noStrike">
                      <a:solidFill>
                        <a:srgbClr val="000000"/>
                      </a:solidFill>
                      <a:latin typeface="Arial"/>
                    </a:rPr>
                    <a:t>НЧ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189"/>
                <p:cNvSpPr/>
                <p:nvPr/>
              </p:nvSpPr>
              <p:spPr>
                <a:xfrm>
                  <a:off x="9837720" y="7605720"/>
                  <a:ext cx="25920" cy="52884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190"/>
                <p:cNvSpPr/>
                <p:nvPr/>
              </p:nvSpPr>
              <p:spPr>
                <a:xfrm>
                  <a:off x="9848880" y="7562520"/>
                  <a:ext cx="396360" cy="7992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191"/>
                <p:cNvSpPr/>
                <p:nvPr/>
              </p:nvSpPr>
              <p:spPr>
                <a:xfrm>
                  <a:off x="10219320" y="7628040"/>
                  <a:ext cx="25920" cy="12636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192"/>
                <p:cNvSpPr/>
                <p:nvPr/>
              </p:nvSpPr>
              <p:spPr>
                <a:xfrm>
                  <a:off x="9838440" y="7726320"/>
                  <a:ext cx="395280" cy="8964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193"/>
                <p:cNvSpPr/>
                <p:nvPr/>
              </p:nvSpPr>
              <p:spPr>
                <a:xfrm>
                  <a:off x="9838440" y="7560360"/>
                  <a:ext cx="24840" cy="239760"/>
                </a:xfrm>
                <a:prstGeom prst="pie">
                  <a:avLst/>
                </a:prstGeom>
                <a:solidFill>
                  <a:srgbClr val="dc2b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Text Box 1194"/>
              <p:cNvSpPr/>
              <p:nvPr/>
            </p:nvSpPr>
            <p:spPr>
              <a:xfrm>
                <a:off x="10370880" y="7522560"/>
                <a:ext cx="227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Начальник гарнизона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;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Group 1195"/>
              <p:cNvGrpSpPr/>
              <p:nvPr/>
            </p:nvGrpSpPr>
            <p:grpSpPr>
              <a:xfrm>
                <a:off x="9764640" y="6695640"/>
                <a:ext cx="718920" cy="591480"/>
                <a:chOff x="9764640" y="6695640"/>
                <a:chExt cx="718920" cy="591480"/>
              </a:xfrm>
            </p:grpSpPr>
            <p:grpSp>
              <p:nvGrpSpPr>
                <p:cNvPr id="863" name="Group 170"/>
                <p:cNvGrpSpPr/>
                <p:nvPr/>
              </p:nvGrpSpPr>
              <p:grpSpPr>
                <a:xfrm>
                  <a:off x="9772200" y="6951600"/>
                  <a:ext cx="562680" cy="174240"/>
                  <a:chOff x="9772200" y="6951600"/>
                  <a:chExt cx="562680" cy="174240"/>
                </a:xfrm>
              </p:grpSpPr>
              <p:sp>
                <p:nvSpPr>
                  <p:cNvPr id="864" name="Freeform 171"/>
                  <p:cNvSpPr/>
                  <p:nvPr/>
                </p:nvSpPr>
                <p:spPr>
                  <a:xfrm>
                    <a:off x="9772200" y="6995160"/>
                    <a:ext cx="562680" cy="87120"/>
                  </a:xfrm>
                  <a:prstGeom prst="pi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Text Box 172"/>
                  <p:cNvSpPr/>
                  <p:nvPr/>
                </p:nvSpPr>
                <p:spPr>
                  <a:xfrm>
                    <a:off x="9772200" y="6951600"/>
                    <a:ext cx="51156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63720" bIns="6372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r>
                      <a:rPr b="0" lang="ru-RU" sz="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   Ч  С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Freeform 173"/>
                  <p:cNvSpPr/>
                  <p:nvPr/>
                </p:nvSpPr>
                <p:spPr>
                  <a:xfrm>
                    <a:off x="10245960" y="6995160"/>
                    <a:ext cx="37800" cy="87120"/>
                  </a:xfrm>
                  <a:prstGeom prst="pie">
                    <a:avLst/>
                  </a:pr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7" name="Line 175"/>
                <p:cNvSpPr/>
                <p:nvPr/>
              </p:nvSpPr>
              <p:spPr>
                <a:xfrm>
                  <a:off x="9764640" y="6695640"/>
                  <a:ext cx="0" cy="5914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Group 176"/>
                <p:cNvGrpSpPr/>
                <p:nvPr/>
              </p:nvGrpSpPr>
              <p:grpSpPr>
                <a:xfrm>
                  <a:off x="9764640" y="6855120"/>
                  <a:ext cx="718920" cy="135360"/>
                  <a:chOff x="9764640" y="6855120"/>
                  <a:chExt cx="718920" cy="135360"/>
                </a:xfrm>
              </p:grpSpPr>
              <p:grpSp>
                <p:nvGrpSpPr>
                  <p:cNvPr id="869" name="Group 177"/>
                  <p:cNvGrpSpPr/>
                  <p:nvPr/>
                </p:nvGrpSpPr>
                <p:grpSpPr>
                  <a:xfrm>
                    <a:off x="9764640" y="6855120"/>
                    <a:ext cx="718920" cy="77400"/>
                    <a:chOff x="9764640" y="6855120"/>
                    <a:chExt cx="718920" cy="77400"/>
                  </a:xfrm>
                </p:grpSpPr>
                <p:grpSp>
                  <p:nvGrpSpPr>
                    <p:cNvPr id="870" name="Group 178"/>
                    <p:cNvGrpSpPr/>
                    <p:nvPr/>
                  </p:nvGrpSpPr>
                  <p:grpSpPr>
                    <a:xfrm>
                      <a:off x="10278360" y="6891840"/>
                      <a:ext cx="205200" cy="40680"/>
                      <a:chOff x="10278360" y="6891840"/>
                      <a:chExt cx="205200" cy="40680"/>
                    </a:xfrm>
                  </p:grpSpPr>
                  <p:sp>
                    <p:nvSpPr>
                      <p:cNvPr id="871" name="AutoShape 179"/>
                      <p:cNvSpPr/>
                      <p:nvPr/>
                    </p:nvSpPr>
                    <p:spPr>
                      <a:xfrm rot="10795800">
                        <a:off x="10278000" y="6891840"/>
                        <a:ext cx="205200" cy="38880"/>
                      </a:xfrm>
                      <a:prstGeom prst="can">
                        <a:avLst>
                          <a:gd name="adj" fmla="val 2890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41400" bIns="-4140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2" name="Oval 180"/>
                      <p:cNvSpPr/>
                      <p:nvPr/>
                    </p:nvSpPr>
                    <p:spPr>
                      <a:xfrm>
                        <a:off x="10278360" y="6921000"/>
                        <a:ext cx="205200" cy="115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55080" bIns="-55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3" name="Group 181"/>
                    <p:cNvGrpSpPr/>
                    <p:nvPr/>
                  </p:nvGrpSpPr>
                  <p:grpSpPr>
                    <a:xfrm>
                      <a:off x="10140840" y="6875640"/>
                      <a:ext cx="274320" cy="50040"/>
                      <a:chOff x="10140840" y="6875640"/>
                      <a:chExt cx="274320" cy="50040"/>
                    </a:xfrm>
                  </p:grpSpPr>
                  <p:sp>
                    <p:nvSpPr>
                      <p:cNvPr id="874" name="AutoShape 182"/>
                      <p:cNvSpPr/>
                      <p:nvPr/>
                    </p:nvSpPr>
                    <p:spPr>
                      <a:xfrm rot="10795800">
                        <a:off x="10140480" y="6875640"/>
                        <a:ext cx="273960" cy="47160"/>
                      </a:xfrm>
                      <a:prstGeom prst="can">
                        <a:avLst>
                          <a:gd name="adj" fmla="val 2890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37080" bIns="-3708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Oval 183"/>
                      <p:cNvSpPr/>
                      <p:nvPr/>
                    </p:nvSpPr>
                    <p:spPr>
                      <a:xfrm>
                        <a:off x="10141200" y="6911640"/>
                        <a:ext cx="273960" cy="1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53280" bIns="-53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6" name="Group 184"/>
                    <p:cNvGrpSpPr/>
                    <p:nvPr/>
                  </p:nvGrpSpPr>
                  <p:grpSpPr>
                    <a:xfrm>
                      <a:off x="9764640" y="6855120"/>
                      <a:ext cx="547920" cy="63360"/>
                      <a:chOff x="9764640" y="6855120"/>
                      <a:chExt cx="547920" cy="63360"/>
                    </a:xfrm>
                  </p:grpSpPr>
                  <p:sp>
                    <p:nvSpPr>
                      <p:cNvPr id="877" name="AutoShape 185"/>
                      <p:cNvSpPr/>
                      <p:nvPr/>
                    </p:nvSpPr>
                    <p:spPr>
                      <a:xfrm rot="10795800">
                        <a:off x="9764280" y="6855120"/>
                        <a:ext cx="547920" cy="59760"/>
                      </a:xfrm>
                      <a:prstGeom prst="can">
                        <a:avLst>
                          <a:gd name="adj" fmla="val 2890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29880" bIns="-2988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Oval 186"/>
                      <p:cNvSpPr/>
                      <p:nvPr/>
                    </p:nvSpPr>
                    <p:spPr>
                      <a:xfrm>
                        <a:off x="9764640" y="6900480"/>
                        <a:ext cx="547920" cy="18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27800" rIns="127800" tIns="-50760" bIns="-50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1279440"/>
                            <a:tab algn="l" pos="2558880"/>
                            <a:tab algn="l" pos="3838680"/>
                            <a:tab algn="l" pos="5118120"/>
                            <a:tab algn="l" pos="6397560"/>
                            <a:tab algn="l" pos="7677000"/>
                            <a:tab algn="l" pos="8956800"/>
                            <a:tab algn="l" pos="10236240"/>
                          </a:tabLst>
                        </a:pPr>
                        <a:endParaRPr b="0" lang="en-US" sz="25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79" name="Group 187"/>
                  <p:cNvGrpSpPr/>
                  <p:nvPr/>
                </p:nvGrpSpPr>
                <p:grpSpPr>
                  <a:xfrm>
                    <a:off x="9764640" y="6883560"/>
                    <a:ext cx="718920" cy="77760"/>
                    <a:chOff x="9764640" y="6883560"/>
                    <a:chExt cx="718920" cy="77760"/>
                  </a:xfrm>
                </p:grpSpPr>
                <p:sp>
                  <p:nvSpPr>
                    <p:cNvPr id="880" name="AutoShape 188"/>
                    <p:cNvSpPr/>
                    <p:nvPr/>
                  </p:nvSpPr>
                  <p:spPr>
                    <a:xfrm rot="10795800">
                      <a:off x="10278000" y="6920280"/>
                      <a:ext cx="205200" cy="385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3366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41760" bIns="-4176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Oval 189"/>
                    <p:cNvSpPr/>
                    <p:nvPr/>
                  </p:nvSpPr>
                  <p:spPr>
                    <a:xfrm>
                      <a:off x="10278360" y="6949800"/>
                      <a:ext cx="205200" cy="1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5080" bIns="-55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utoShape 190"/>
                    <p:cNvSpPr/>
                    <p:nvPr/>
                  </p:nvSpPr>
                  <p:spPr>
                    <a:xfrm rot="10795800">
                      <a:off x="10140480" y="6904800"/>
                      <a:ext cx="273960" cy="4680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3366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36720" bIns="-3672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Oval 191"/>
                    <p:cNvSpPr/>
                    <p:nvPr/>
                  </p:nvSpPr>
                  <p:spPr>
                    <a:xfrm>
                      <a:off x="10141200" y="6940440"/>
                      <a:ext cx="273960" cy="1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3280" bIns="-532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AutoShape 192"/>
                    <p:cNvSpPr/>
                    <p:nvPr/>
                  </p:nvSpPr>
                  <p:spPr>
                    <a:xfrm rot="10795800">
                      <a:off x="9764280" y="6883560"/>
                      <a:ext cx="547920" cy="601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3366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29520" bIns="-2952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Oval 193"/>
                    <p:cNvSpPr/>
                    <p:nvPr/>
                  </p:nvSpPr>
                  <p:spPr>
                    <a:xfrm>
                      <a:off x="9764640" y="6929280"/>
                      <a:ext cx="547920" cy="1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0760" bIns="-5076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194"/>
                  <p:cNvGrpSpPr/>
                  <p:nvPr/>
                </p:nvGrpSpPr>
                <p:grpSpPr>
                  <a:xfrm>
                    <a:off x="9764640" y="6912720"/>
                    <a:ext cx="718920" cy="77760"/>
                    <a:chOff x="9764640" y="6912720"/>
                    <a:chExt cx="718920" cy="77760"/>
                  </a:xfrm>
                </p:grpSpPr>
                <p:sp>
                  <p:nvSpPr>
                    <p:cNvPr id="887" name="AutoShape 195"/>
                    <p:cNvSpPr/>
                    <p:nvPr/>
                  </p:nvSpPr>
                  <p:spPr>
                    <a:xfrm rot="10795800">
                      <a:off x="10278000" y="6949440"/>
                      <a:ext cx="205200" cy="385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41760" bIns="-4176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Oval 196"/>
                    <p:cNvSpPr/>
                    <p:nvPr/>
                  </p:nvSpPr>
                  <p:spPr>
                    <a:xfrm>
                      <a:off x="10278360" y="6978960"/>
                      <a:ext cx="205200" cy="1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5080" bIns="-55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AutoShape 197"/>
                    <p:cNvSpPr/>
                    <p:nvPr/>
                  </p:nvSpPr>
                  <p:spPr>
                    <a:xfrm rot="10795800">
                      <a:off x="10140480" y="6933960"/>
                      <a:ext cx="273960" cy="4680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36720" bIns="-3672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Oval 198"/>
                    <p:cNvSpPr/>
                    <p:nvPr/>
                  </p:nvSpPr>
                  <p:spPr>
                    <a:xfrm>
                      <a:off x="10141200" y="6969600"/>
                      <a:ext cx="273960" cy="1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3280" bIns="-532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AutoShape 199"/>
                    <p:cNvSpPr/>
                    <p:nvPr/>
                  </p:nvSpPr>
                  <p:spPr>
                    <a:xfrm rot="10795800">
                      <a:off x="9764280" y="6912720"/>
                      <a:ext cx="547920" cy="601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29520" bIns="-2952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Oval 200"/>
                    <p:cNvSpPr/>
                    <p:nvPr/>
                  </p:nvSpPr>
                  <p:spPr>
                    <a:xfrm>
                      <a:off x="9764640" y="6958440"/>
                      <a:ext cx="547920" cy="1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0760" bIns="-5076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93" name="Text Box 1226"/>
              <p:cNvSpPr/>
              <p:nvPr/>
            </p:nvSpPr>
            <p:spPr>
              <a:xfrm>
                <a:off x="10412280" y="676872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Администрация района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;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1227"/>
              <p:cNvSpPr/>
              <p:nvPr/>
            </p:nvSpPr>
            <p:spPr>
              <a:xfrm>
                <a:off x="9764640" y="849528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1228"/>
              <p:cNvSpPr/>
              <p:nvPr/>
            </p:nvSpPr>
            <p:spPr>
              <a:xfrm>
                <a:off x="10412280" y="831564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Железная дорога;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96" name="Object 9"/>
              <p:cNvGraphicFramePr/>
              <p:nvPr/>
            </p:nvGraphicFramePr>
            <p:xfrm>
              <a:off x="9764640" y="8639640"/>
              <a:ext cx="504720" cy="293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97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9764640" y="8639640"/>
                        <a:ext cx="504720" cy="29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98" name="Text Box 1230"/>
              <p:cNvSpPr/>
              <p:nvPr/>
            </p:nvSpPr>
            <p:spPr>
              <a:xfrm>
                <a:off x="10412280" y="856836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г.Новосибирск;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23"/>
              <p:cNvSpPr/>
              <p:nvPr/>
            </p:nvSpPr>
            <p:spPr>
              <a:xfrm>
                <a:off x="9764640" y="921564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24"/>
              <p:cNvSpPr/>
              <p:nvPr/>
            </p:nvSpPr>
            <p:spPr>
              <a:xfrm>
                <a:off x="9764640" y="9070920"/>
                <a:ext cx="617400" cy="23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120" rIns="114120" tIns="56880" bIns="56880" anchor="t">
                <a:spAutoFit/>
              </a:bodyPr>
              <a:p>
                <a:pPr algn="ctr"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34 км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1233"/>
              <p:cNvSpPr/>
              <p:nvPr/>
            </p:nvSpPr>
            <p:spPr>
              <a:xfrm>
                <a:off x="10412280" y="9036000"/>
                <a:ext cx="22748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080" rIns="127080" tIns="63720" bIns="6372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сстояние до г.Новосибирска;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 Box 1234"/>
            <p:cNvSpPr/>
            <p:nvPr/>
          </p:nvSpPr>
          <p:spPr>
            <a:xfrm>
              <a:off x="9909000" y="6388200"/>
              <a:ext cx="266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Условные обознач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3" name="Picture 1311" descr=""/>
          <p:cNvPicPr/>
          <p:nvPr/>
        </p:nvPicPr>
        <p:blipFill>
          <a:blip r:embed="rId6"/>
          <a:stretch/>
        </p:blipFill>
        <p:spPr>
          <a:xfrm>
            <a:off x="9591840" y="2496960"/>
            <a:ext cx="3209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88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200240"/>
            <a:ext cx="12801600" cy="840096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39720" y="1271520"/>
            <a:ext cx="1152720" cy="7128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силам и средствам пожарной охраны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-7920" y="-23760"/>
            <a:ext cx="1281744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768240"/>
            <a:ext cx="12817440" cy="4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силам и средствам пожарной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10072800" y="4152960"/>
            <a:ext cx="2512800" cy="1084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АРАКТЕРИСТИКА Д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тяженность автомобильных дорог района составляет 108.5 км, территориальных – 108.5 км. В том числе по покрытиям: щебень – 108.5км. Трубы-20 ш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2568600"/>
          <a:ext cx="3521160" cy="3781440"/>
        </p:xfrm>
        <a:graphic>
          <a:graphicData uri="http://schemas.openxmlformats.org/drawingml/2006/table">
            <a:tbl>
              <a:tblPr/>
              <a:tblGrid>
                <a:gridCol w="382680"/>
                <a:gridCol w="1614240"/>
                <a:gridCol w="490680"/>
                <a:gridCol w="461880"/>
                <a:gridCol w="571680"/>
              </a:tblGrid>
              <a:tr h="259200">
                <a:tc rowSpan="2">
                  <a:txBody>
                    <a:bodyPr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25920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гарнизона пожарной охр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 противопожарная служб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жарная служба субъ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ная пожарная ох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 пожарная ох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 пожарная ох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4408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10" name="Text Box 427"/>
          <p:cNvSpPr/>
          <p:nvPr/>
        </p:nvSpPr>
        <p:spPr>
          <a:xfrm>
            <a:off x="7192800" y="732168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73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128600"/>
            <a:ext cx="12801600" cy="8472600"/>
          </a:xfrm>
          <a:prstGeom prst="rect">
            <a:avLst/>
          </a:prstGeom>
          <a:ln w="0">
            <a:noFill/>
          </a:ln>
        </p:spPr>
      </p:pic>
      <p:sp>
        <p:nvSpPr>
          <p:cNvPr id="912" name="Text Box 427"/>
          <p:cNvSpPr/>
          <p:nvPr/>
        </p:nvSpPr>
        <p:spPr>
          <a:xfrm>
            <a:off x="6688080" y="703260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"/>
          <p:cNvSpPr/>
          <p:nvPr/>
        </p:nvSpPr>
        <p:spPr>
          <a:xfrm>
            <a:off x="35280" y="9078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0" y="0"/>
            <a:ext cx="12801600" cy="9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49"/>
          <p:cNvSpPr/>
          <p:nvPr/>
        </p:nvSpPr>
        <p:spPr>
          <a:xfrm>
            <a:off x="11644200" y="-38160"/>
            <a:ext cx="15112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лайд №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9"/>
          <p:cNvSpPr/>
          <p:nvPr/>
        </p:nvSpPr>
        <p:spPr>
          <a:xfrm>
            <a:off x="-7920" y="-23760"/>
            <a:ext cx="12809520" cy="1146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резервам финансовых и материаль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268"/>
          <p:cNvGrpSpPr/>
          <p:nvPr/>
        </p:nvGrpSpPr>
        <p:grpSpPr>
          <a:xfrm>
            <a:off x="8129520" y="7176960"/>
            <a:ext cx="4537080" cy="2424240"/>
            <a:chOff x="8129520" y="7176960"/>
            <a:chExt cx="4537080" cy="2424240"/>
          </a:xfrm>
        </p:grpSpPr>
        <p:sp>
          <p:nvSpPr>
            <p:cNvPr id="918" name="Text Box 9"/>
            <p:cNvSpPr/>
            <p:nvPr/>
          </p:nvSpPr>
          <p:spPr>
            <a:xfrm>
              <a:off x="8391240" y="7427880"/>
              <a:ext cx="371340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0"/>
            <p:cNvSpPr/>
            <p:nvPr/>
          </p:nvSpPr>
          <p:spPr>
            <a:xfrm>
              <a:off x="8224560" y="8610480"/>
              <a:ext cx="69696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1"/>
            <p:cNvSpPr/>
            <p:nvPr/>
          </p:nvSpPr>
          <p:spPr>
            <a:xfrm>
              <a:off x="9086760" y="8285040"/>
              <a:ext cx="3238560" cy="6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томобильные дороги регионального зна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32"/>
            <p:cNvSpPr/>
            <p:nvPr/>
          </p:nvSpPr>
          <p:spPr>
            <a:xfrm>
              <a:off x="8177040" y="8083440"/>
              <a:ext cx="698400" cy="23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8920" rIns="178920" tIns="89280" bIns="89280" anchor="ctr">
              <a:noAutofit/>
            </a:bodyPr>
            <a:p>
              <a:pPr algn="ctr"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4"/>
            <p:cNvSpPr/>
            <p:nvPr/>
          </p:nvSpPr>
          <p:spPr>
            <a:xfrm>
              <a:off x="9591480" y="7780320"/>
              <a:ext cx="2082960" cy="6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станции погрузки, выгруз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7"/>
            <p:cNvSpPr/>
            <p:nvPr/>
          </p:nvSpPr>
          <p:spPr>
            <a:xfrm>
              <a:off x="10396440" y="7983360"/>
              <a:ext cx="13842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Group 40"/>
            <p:cNvGrpSpPr/>
            <p:nvPr/>
          </p:nvGrpSpPr>
          <p:grpSpPr>
            <a:xfrm>
              <a:off x="8308800" y="8947080"/>
              <a:ext cx="328320" cy="186840"/>
              <a:chOff x="8308800" y="8947080"/>
              <a:chExt cx="328320" cy="186840"/>
            </a:xfrm>
          </p:grpSpPr>
          <p:sp>
            <p:nvSpPr>
              <p:cNvPr id="925" name="Oval 41"/>
              <p:cNvSpPr/>
              <p:nvPr/>
            </p:nvSpPr>
            <p:spPr>
              <a:xfrm>
                <a:off x="8308800" y="8947080"/>
                <a:ext cx="328320" cy="186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64080" bIns="640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42"/>
              <p:cNvSpPr/>
              <p:nvPr/>
            </p:nvSpPr>
            <p:spPr>
              <a:xfrm>
                <a:off x="8433000" y="8947080"/>
                <a:ext cx="84600" cy="186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64080" bIns="640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 Box 64"/>
            <p:cNvSpPr/>
            <p:nvPr/>
          </p:nvSpPr>
          <p:spPr>
            <a:xfrm>
              <a:off x="8775360" y="8988480"/>
              <a:ext cx="196704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960" rIns="120960" tIns="60480" bIns="60480" anchor="t">
              <a:spAutoFit/>
            </a:bodyPr>
            <a:p>
              <a:pPr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АЭРОДРОМ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162"/>
            <p:cNvSpPr/>
            <p:nvPr/>
          </p:nvSpPr>
          <p:spPr>
            <a:xfrm>
              <a:off x="8177040" y="8488080"/>
              <a:ext cx="709560" cy="30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-0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"/>
            <p:cNvSpPr/>
            <p:nvPr/>
          </p:nvSpPr>
          <p:spPr>
            <a:xfrm>
              <a:off x="8129520" y="7296120"/>
              <a:ext cx="453708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9"/>
            <p:cNvSpPr/>
            <p:nvPr/>
          </p:nvSpPr>
          <p:spPr>
            <a:xfrm>
              <a:off x="8607240" y="7176960"/>
              <a:ext cx="37130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словные обо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8440560" y="8616960"/>
              <a:ext cx="69696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1"/>
            <p:cNvSpPr/>
            <p:nvPr/>
          </p:nvSpPr>
          <p:spPr>
            <a:xfrm>
              <a:off x="9302400" y="8111880"/>
              <a:ext cx="323856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томобильные дороги федерального  зна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2"/>
            <p:cNvSpPr/>
            <p:nvPr/>
          </p:nvSpPr>
          <p:spPr>
            <a:xfrm>
              <a:off x="8393040" y="7824600"/>
              <a:ext cx="698400" cy="235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8920" rIns="178920" tIns="89280" bIns="89280" anchor="ctr">
              <a:noAutofit/>
            </a:bodyPr>
            <a:p>
              <a:pPr algn="ctr"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34"/>
            <p:cNvSpPr/>
            <p:nvPr/>
          </p:nvSpPr>
          <p:spPr>
            <a:xfrm>
              <a:off x="9316800" y="7651800"/>
              <a:ext cx="3240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станции погрузки, выгруз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37"/>
            <p:cNvSpPr/>
            <p:nvPr/>
          </p:nvSpPr>
          <p:spPr>
            <a:xfrm>
              <a:off x="10610640" y="8199360"/>
              <a:ext cx="1386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920" rIns="178920" tIns="89280" bIns="89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6" name="Group 40"/>
            <p:cNvGrpSpPr/>
            <p:nvPr/>
          </p:nvGrpSpPr>
          <p:grpSpPr>
            <a:xfrm>
              <a:off x="8524800" y="8759880"/>
              <a:ext cx="327960" cy="186840"/>
              <a:chOff x="8524800" y="8759880"/>
              <a:chExt cx="327960" cy="186840"/>
            </a:xfrm>
          </p:grpSpPr>
          <p:sp>
            <p:nvSpPr>
              <p:cNvPr id="937" name="Oval 41"/>
              <p:cNvSpPr/>
              <p:nvPr/>
            </p:nvSpPr>
            <p:spPr>
              <a:xfrm>
                <a:off x="8524800" y="8759880"/>
                <a:ext cx="327960" cy="186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64080" bIns="640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42"/>
              <p:cNvSpPr/>
              <p:nvPr/>
            </p:nvSpPr>
            <p:spPr>
              <a:xfrm>
                <a:off x="8649000" y="8759880"/>
                <a:ext cx="84240" cy="186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64080" bIns="64080" anchor="ctr">
                <a:noAutofit/>
              </a:bodyPr>
              <a:p>
                <a:pPr algn="ctr"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9" name="Text Box 64"/>
            <p:cNvSpPr/>
            <p:nvPr/>
          </p:nvSpPr>
          <p:spPr>
            <a:xfrm>
              <a:off x="9437400" y="8759880"/>
              <a:ext cx="1967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960" rIns="120960" tIns="60480" bIns="60480" anchor="t">
              <a:spAutoFit/>
            </a:bodyPr>
            <a:p>
              <a:pPr>
                <a:tabLst>
                  <a:tab algn="l" pos="0"/>
                  <a:tab algn="l" pos="1790640"/>
                  <a:tab algn="l" pos="3581280"/>
                  <a:tab algn="l" pos="5372280"/>
                  <a:tab algn="l" pos="7162920"/>
                  <a:tab algn="l" pos="8953560"/>
                  <a:tab algn="l" pos="107442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эродро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74"/>
            <p:cNvSpPr/>
            <p:nvPr/>
          </p:nvSpPr>
          <p:spPr>
            <a:xfrm>
              <a:off x="8393040" y="8223120"/>
              <a:ext cx="709560" cy="30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М-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1" name="Object 209"/>
          <p:cNvGraphicFramePr/>
          <p:nvPr/>
        </p:nvGraphicFramePr>
        <p:xfrm>
          <a:off x="857160" y="6381720"/>
          <a:ext cx="5200920" cy="18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2" name="Object 2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6381720"/>
                    <a:ext cx="520092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0" y="938160"/>
            <a:ext cx="128016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материалы по системе телекоммуникац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0" y="-23760"/>
            <a:ext cx="12801600" cy="1128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организации связи при возникновении Ч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4"/>
          <p:cNvGrpSpPr/>
          <p:nvPr/>
        </p:nvGrpSpPr>
        <p:grpSpPr>
          <a:xfrm>
            <a:off x="533520" y="1941480"/>
            <a:ext cx="12114000" cy="7396200"/>
            <a:chOff x="533520" y="1941480"/>
            <a:chExt cx="12114000" cy="7396200"/>
          </a:xfrm>
        </p:grpSpPr>
        <p:sp>
          <p:nvSpPr>
            <p:cNvPr id="946" name="Rectangle 443"/>
            <p:cNvSpPr/>
            <p:nvPr/>
          </p:nvSpPr>
          <p:spPr>
            <a:xfrm>
              <a:off x="9074160" y="7175520"/>
              <a:ext cx="473040" cy="199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7923240" y="6523200"/>
              <a:ext cx="3724200" cy="28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03"/>
            <p:cNvSpPr/>
            <p:nvPr/>
          </p:nvSpPr>
          <p:spPr>
            <a:xfrm>
              <a:off x="9629640" y="6894360"/>
              <a:ext cx="500040" cy="29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С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С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04"/>
            <p:cNvSpPr/>
            <p:nvPr/>
          </p:nvSpPr>
          <p:spPr>
            <a:xfrm>
              <a:off x="9629640" y="7186680"/>
              <a:ext cx="500040" cy="1977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05"/>
            <p:cNvSpPr/>
            <p:nvPr/>
          </p:nvSpPr>
          <p:spPr>
            <a:xfrm>
              <a:off x="10236240" y="7110360"/>
              <a:ext cx="500040" cy="20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06"/>
            <p:cNvSpPr/>
            <p:nvPr/>
          </p:nvSpPr>
          <p:spPr>
            <a:xfrm>
              <a:off x="9075600" y="6892920"/>
              <a:ext cx="476280" cy="48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заимод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07"/>
            <p:cNvSpPr/>
            <p:nvPr/>
          </p:nvSpPr>
          <p:spPr>
            <a:xfrm>
              <a:off x="10236240" y="6894360"/>
              <a:ext cx="500040" cy="29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ГУ ГОЧ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П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208"/>
            <p:cNvSpPr/>
            <p:nvPr/>
          </p:nvSpPr>
          <p:spPr>
            <a:xfrm>
              <a:off x="10058400" y="897876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Group 212"/>
            <p:cNvGrpSpPr/>
            <p:nvPr/>
          </p:nvGrpSpPr>
          <p:grpSpPr>
            <a:xfrm>
              <a:off x="10391760" y="8859960"/>
              <a:ext cx="244440" cy="230040"/>
              <a:chOff x="10391760" y="8859960"/>
              <a:chExt cx="244440" cy="230040"/>
            </a:xfrm>
          </p:grpSpPr>
          <p:sp>
            <p:nvSpPr>
              <p:cNvPr id="955" name="Oval 213"/>
              <p:cNvSpPr/>
              <p:nvPr/>
            </p:nvSpPr>
            <p:spPr>
              <a:xfrm>
                <a:off x="10391760" y="8859960"/>
                <a:ext cx="244440" cy="23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214"/>
              <p:cNvSpPr/>
              <p:nvPr/>
            </p:nvSpPr>
            <p:spPr>
              <a:xfrm>
                <a:off x="10636200" y="8859960"/>
                <a:ext cx="0" cy="23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 Box 216"/>
            <p:cNvSpPr/>
            <p:nvPr/>
          </p:nvSpPr>
          <p:spPr>
            <a:xfrm>
              <a:off x="9629640" y="6654960"/>
              <a:ext cx="606600" cy="15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айон Ч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217"/>
            <p:cNvGrpSpPr/>
            <p:nvPr/>
          </p:nvGrpSpPr>
          <p:grpSpPr>
            <a:xfrm>
              <a:off x="8407440" y="8899200"/>
              <a:ext cx="228240" cy="190440"/>
              <a:chOff x="8407440" y="8899200"/>
              <a:chExt cx="228240" cy="190440"/>
            </a:xfrm>
          </p:grpSpPr>
          <p:sp>
            <p:nvSpPr>
              <p:cNvPr id="959" name="Rectangle 218"/>
              <p:cNvSpPr/>
              <p:nvPr/>
            </p:nvSpPr>
            <p:spPr>
              <a:xfrm>
                <a:off x="8559720" y="8947080"/>
                <a:ext cx="75960" cy="9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219"/>
              <p:cNvSpPr/>
              <p:nvPr/>
            </p:nvSpPr>
            <p:spPr>
              <a:xfrm rot="16200000">
                <a:off x="8388360" y="8918280"/>
                <a:ext cx="190440" cy="1522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 vert="eaVer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AutoShape 221"/>
            <p:cNvSpPr/>
            <p:nvPr/>
          </p:nvSpPr>
          <p:spPr>
            <a:xfrm>
              <a:off x="10280520" y="7381800"/>
              <a:ext cx="378000" cy="30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22"/>
            <p:cNvSpPr/>
            <p:nvPr/>
          </p:nvSpPr>
          <p:spPr>
            <a:xfrm>
              <a:off x="10291680" y="7554960"/>
              <a:ext cx="3780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C-7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23"/>
            <p:cNvGrpSpPr/>
            <p:nvPr/>
          </p:nvGrpSpPr>
          <p:grpSpPr>
            <a:xfrm>
              <a:off x="10468440" y="7271280"/>
              <a:ext cx="235080" cy="126360"/>
              <a:chOff x="10468440" y="7271280"/>
              <a:chExt cx="235080" cy="126360"/>
            </a:xfrm>
          </p:grpSpPr>
          <p:sp>
            <p:nvSpPr>
              <p:cNvPr id="964" name="Line 224"/>
              <p:cNvSpPr/>
              <p:nvPr/>
            </p:nvSpPr>
            <p:spPr>
              <a:xfrm flipV="1">
                <a:off x="10468440" y="7289280"/>
                <a:ext cx="77400" cy="1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25"/>
              <p:cNvSpPr/>
              <p:nvPr/>
            </p:nvSpPr>
            <p:spPr>
              <a:xfrm>
                <a:off x="10541880" y="7282080"/>
                <a:ext cx="75960" cy="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226"/>
              <p:cNvSpPr/>
              <p:nvPr/>
            </p:nvSpPr>
            <p:spPr>
              <a:xfrm flipV="1">
                <a:off x="10619280" y="7283160"/>
                <a:ext cx="5832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227"/>
              <p:cNvSpPr/>
              <p:nvPr/>
            </p:nvSpPr>
            <p:spPr>
              <a:xfrm>
                <a:off x="10684800" y="7276680"/>
                <a:ext cx="187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28"/>
              <p:cNvSpPr/>
              <p:nvPr/>
            </p:nvSpPr>
            <p:spPr>
              <a:xfrm flipH="1">
                <a:off x="10635840" y="7271280"/>
                <a:ext cx="453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Group 239"/>
            <p:cNvGrpSpPr/>
            <p:nvPr/>
          </p:nvGrpSpPr>
          <p:grpSpPr>
            <a:xfrm>
              <a:off x="10329840" y="7800480"/>
              <a:ext cx="343440" cy="414720"/>
              <a:chOff x="10329840" y="7800480"/>
              <a:chExt cx="343440" cy="414720"/>
            </a:xfrm>
          </p:grpSpPr>
          <p:sp>
            <p:nvSpPr>
              <p:cNvPr id="970" name="Oval 240"/>
              <p:cNvSpPr/>
              <p:nvPr/>
            </p:nvSpPr>
            <p:spPr>
              <a:xfrm>
                <a:off x="10329840" y="7912080"/>
                <a:ext cx="323640" cy="303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1" name="Group 241"/>
              <p:cNvGrpSpPr/>
              <p:nvPr/>
            </p:nvGrpSpPr>
            <p:grpSpPr>
              <a:xfrm>
                <a:off x="10472400" y="7800480"/>
                <a:ext cx="200880" cy="102240"/>
                <a:chOff x="10472400" y="7800480"/>
                <a:chExt cx="200880" cy="102240"/>
              </a:xfrm>
            </p:grpSpPr>
            <p:sp>
              <p:nvSpPr>
                <p:cNvPr id="972" name="Line 242"/>
                <p:cNvSpPr/>
                <p:nvPr/>
              </p:nvSpPr>
              <p:spPr>
                <a:xfrm flipV="1">
                  <a:off x="10472400" y="7814160"/>
                  <a:ext cx="66600" cy="8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Line 243"/>
                <p:cNvSpPr/>
                <p:nvPr/>
              </p:nvSpPr>
              <p:spPr>
                <a:xfrm>
                  <a:off x="10535400" y="7808760"/>
                  <a:ext cx="644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Line 244"/>
                <p:cNvSpPr/>
                <p:nvPr/>
              </p:nvSpPr>
              <p:spPr>
                <a:xfrm flipV="1">
                  <a:off x="10600560" y="7808760"/>
                  <a:ext cx="5004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Line 245"/>
                <p:cNvSpPr/>
                <p:nvPr/>
              </p:nvSpPr>
              <p:spPr>
                <a:xfrm>
                  <a:off x="10656720" y="7804080"/>
                  <a:ext cx="1656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Line 246"/>
                <p:cNvSpPr/>
                <p:nvPr/>
              </p:nvSpPr>
              <p:spPr>
                <a:xfrm flipH="1">
                  <a:off x="10615320" y="7800480"/>
                  <a:ext cx="3780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Group 249"/>
            <p:cNvGrpSpPr/>
            <p:nvPr/>
          </p:nvGrpSpPr>
          <p:grpSpPr>
            <a:xfrm>
              <a:off x="9718560" y="7800480"/>
              <a:ext cx="343440" cy="414720"/>
              <a:chOff x="9718560" y="7800480"/>
              <a:chExt cx="343440" cy="414720"/>
            </a:xfrm>
          </p:grpSpPr>
          <p:sp>
            <p:nvSpPr>
              <p:cNvPr id="978" name="Oval 250"/>
              <p:cNvSpPr/>
              <p:nvPr/>
            </p:nvSpPr>
            <p:spPr>
              <a:xfrm>
                <a:off x="9718560" y="7912080"/>
                <a:ext cx="323640" cy="303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9" name="Group 251"/>
              <p:cNvGrpSpPr/>
              <p:nvPr/>
            </p:nvGrpSpPr>
            <p:grpSpPr>
              <a:xfrm>
                <a:off x="9861120" y="7800480"/>
                <a:ext cx="200880" cy="102240"/>
                <a:chOff x="9861120" y="7800480"/>
                <a:chExt cx="200880" cy="102240"/>
              </a:xfrm>
            </p:grpSpPr>
            <p:sp>
              <p:nvSpPr>
                <p:cNvPr id="980" name="Line 252"/>
                <p:cNvSpPr/>
                <p:nvPr/>
              </p:nvSpPr>
              <p:spPr>
                <a:xfrm flipV="1">
                  <a:off x="9861120" y="7814160"/>
                  <a:ext cx="66600" cy="8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Line 253"/>
                <p:cNvSpPr/>
                <p:nvPr/>
              </p:nvSpPr>
              <p:spPr>
                <a:xfrm>
                  <a:off x="9924120" y="7808760"/>
                  <a:ext cx="644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254"/>
                <p:cNvSpPr/>
                <p:nvPr/>
              </p:nvSpPr>
              <p:spPr>
                <a:xfrm flipV="1">
                  <a:off x="9989280" y="7808760"/>
                  <a:ext cx="5004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Line 255"/>
                <p:cNvSpPr/>
                <p:nvPr/>
              </p:nvSpPr>
              <p:spPr>
                <a:xfrm>
                  <a:off x="10045440" y="7804080"/>
                  <a:ext cx="1656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Line 256"/>
                <p:cNvSpPr/>
                <p:nvPr/>
              </p:nvSpPr>
              <p:spPr>
                <a:xfrm flipH="1">
                  <a:off x="10004040" y="7800480"/>
                  <a:ext cx="3780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5" name="Text Box 398"/>
            <p:cNvSpPr/>
            <p:nvPr/>
          </p:nvSpPr>
          <p:spPr>
            <a:xfrm>
              <a:off x="10729800" y="8639280"/>
              <a:ext cx="1282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ГУ оповещ.насе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400"/>
            <p:cNvSpPr/>
            <p:nvPr/>
          </p:nvSpPr>
          <p:spPr>
            <a:xfrm>
              <a:off x="8412120" y="8555040"/>
              <a:ext cx="3063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440"/>
            <p:cNvSpPr/>
            <p:nvPr/>
          </p:nvSpPr>
          <p:spPr>
            <a:xfrm>
              <a:off x="7618320" y="768348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41"/>
            <p:cNvSpPr/>
            <p:nvPr/>
          </p:nvSpPr>
          <p:spPr>
            <a:xfrm flipV="1">
              <a:off x="6095880" y="8232480"/>
              <a:ext cx="47642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Group 446"/>
            <p:cNvGrpSpPr/>
            <p:nvPr/>
          </p:nvGrpSpPr>
          <p:grpSpPr>
            <a:xfrm>
              <a:off x="9169560" y="7809840"/>
              <a:ext cx="346680" cy="413280"/>
              <a:chOff x="9169560" y="7809840"/>
              <a:chExt cx="346680" cy="413280"/>
            </a:xfrm>
          </p:grpSpPr>
          <p:sp>
            <p:nvSpPr>
              <p:cNvPr id="990" name="Oval 447"/>
              <p:cNvSpPr/>
              <p:nvPr/>
            </p:nvSpPr>
            <p:spPr>
              <a:xfrm>
                <a:off x="9169560" y="7921080"/>
                <a:ext cx="326160" cy="302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Group 448"/>
              <p:cNvGrpSpPr/>
              <p:nvPr/>
            </p:nvGrpSpPr>
            <p:grpSpPr>
              <a:xfrm>
                <a:off x="9313200" y="7809840"/>
                <a:ext cx="203040" cy="102240"/>
                <a:chOff x="9313200" y="7809840"/>
                <a:chExt cx="203040" cy="102240"/>
              </a:xfrm>
            </p:grpSpPr>
            <p:sp>
              <p:nvSpPr>
                <p:cNvPr id="992" name="Line 449"/>
                <p:cNvSpPr/>
                <p:nvPr/>
              </p:nvSpPr>
              <p:spPr>
                <a:xfrm flipV="1">
                  <a:off x="9313200" y="7823160"/>
                  <a:ext cx="67320" cy="8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Line 450"/>
                <p:cNvSpPr/>
                <p:nvPr/>
              </p:nvSpPr>
              <p:spPr>
                <a:xfrm>
                  <a:off x="9376920" y="7818120"/>
                  <a:ext cx="6516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Line 451"/>
                <p:cNvSpPr/>
                <p:nvPr/>
              </p:nvSpPr>
              <p:spPr>
                <a:xfrm flipV="1">
                  <a:off x="9442440" y="7818120"/>
                  <a:ext cx="5076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452"/>
                <p:cNvSpPr/>
                <p:nvPr/>
              </p:nvSpPr>
              <p:spPr>
                <a:xfrm>
                  <a:off x="9499320" y="7813440"/>
                  <a:ext cx="16920" cy="38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Line 453"/>
                <p:cNvSpPr/>
                <p:nvPr/>
              </p:nvSpPr>
              <p:spPr>
                <a:xfrm flipH="1">
                  <a:off x="9457920" y="7809840"/>
                  <a:ext cx="3816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Line 99"/>
            <p:cNvSpPr/>
            <p:nvPr/>
          </p:nvSpPr>
          <p:spPr>
            <a:xfrm>
              <a:off x="10652040" y="8967960"/>
              <a:ext cx="61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441"/>
            <p:cNvSpPr/>
            <p:nvPr/>
          </p:nvSpPr>
          <p:spPr>
            <a:xfrm>
              <a:off x="8642520" y="897732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58"/>
            <p:cNvGrpSpPr/>
            <p:nvPr/>
          </p:nvGrpSpPr>
          <p:grpSpPr>
            <a:xfrm>
              <a:off x="10403280" y="8292600"/>
              <a:ext cx="235080" cy="384480"/>
              <a:chOff x="10403280" y="8292600"/>
              <a:chExt cx="235080" cy="384480"/>
            </a:xfrm>
          </p:grpSpPr>
          <p:sp>
            <p:nvSpPr>
              <p:cNvPr id="1000" name="AutoShape 59"/>
              <p:cNvSpPr/>
              <p:nvPr/>
            </p:nvSpPr>
            <p:spPr>
              <a:xfrm>
                <a:off x="10414080" y="8463960"/>
                <a:ext cx="210960" cy="213120"/>
              </a:xfrm>
              <a:prstGeom prst="triangle">
                <a:avLst>
                  <a:gd name="adj" fmla="val 50000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0"/>
              <p:cNvSpPr/>
              <p:nvPr/>
            </p:nvSpPr>
            <p:spPr>
              <a:xfrm rot="3097800">
                <a:off x="10468800" y="8291880"/>
                <a:ext cx="104040" cy="2174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12"/>
            <p:cNvGrpSpPr/>
            <p:nvPr/>
          </p:nvGrpSpPr>
          <p:grpSpPr>
            <a:xfrm>
              <a:off x="9791640" y="8864640"/>
              <a:ext cx="244440" cy="230040"/>
              <a:chOff x="9791640" y="8864640"/>
              <a:chExt cx="244440" cy="230040"/>
            </a:xfrm>
          </p:grpSpPr>
          <p:sp>
            <p:nvSpPr>
              <p:cNvPr id="1003" name="Oval 213"/>
              <p:cNvSpPr/>
              <p:nvPr/>
            </p:nvSpPr>
            <p:spPr>
              <a:xfrm>
                <a:off x="9791640" y="8864640"/>
                <a:ext cx="244440" cy="23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214"/>
              <p:cNvSpPr/>
              <p:nvPr/>
            </p:nvSpPr>
            <p:spPr>
              <a:xfrm>
                <a:off x="10036080" y="8864640"/>
                <a:ext cx="0" cy="23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5" name="Text Box 6"/>
            <p:cNvSpPr/>
            <p:nvPr/>
          </p:nvSpPr>
          <p:spPr>
            <a:xfrm>
              <a:off x="1674720" y="7186680"/>
              <a:ext cx="500040" cy="1977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7"/>
            <p:cNvSpPr/>
            <p:nvPr/>
          </p:nvSpPr>
          <p:spPr>
            <a:xfrm>
              <a:off x="1674720" y="6904080"/>
              <a:ext cx="500040" cy="590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Group 311"/>
            <p:cNvGrpSpPr/>
            <p:nvPr/>
          </p:nvGrpSpPr>
          <p:grpSpPr>
            <a:xfrm>
              <a:off x="1752480" y="7870680"/>
              <a:ext cx="389160" cy="579600"/>
              <a:chOff x="1752480" y="7870680"/>
              <a:chExt cx="389160" cy="579600"/>
            </a:xfrm>
          </p:grpSpPr>
          <p:grpSp>
            <p:nvGrpSpPr>
              <p:cNvPr id="1008" name="Group 312"/>
              <p:cNvGrpSpPr/>
              <p:nvPr/>
            </p:nvGrpSpPr>
            <p:grpSpPr>
              <a:xfrm>
                <a:off x="1813680" y="7993800"/>
                <a:ext cx="327960" cy="456480"/>
                <a:chOff x="1813680" y="7993800"/>
                <a:chExt cx="327960" cy="456480"/>
              </a:xfrm>
            </p:grpSpPr>
            <p:sp>
              <p:nvSpPr>
                <p:cNvPr id="1009" name="Line 313"/>
                <p:cNvSpPr/>
                <p:nvPr/>
              </p:nvSpPr>
              <p:spPr>
                <a:xfrm flipV="1">
                  <a:off x="2141640" y="799380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AutoShape 314"/>
                <p:cNvSpPr/>
                <p:nvPr/>
              </p:nvSpPr>
              <p:spPr>
                <a:xfrm flipV="1" rot="5400000">
                  <a:off x="1795680" y="8300880"/>
                  <a:ext cx="166680" cy="13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" bIns="-18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315"/>
                <p:cNvSpPr/>
                <p:nvPr/>
              </p:nvSpPr>
              <p:spPr>
                <a:xfrm>
                  <a:off x="1944720" y="8371440"/>
                  <a:ext cx="196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2" name="Oval 316"/>
              <p:cNvSpPr/>
              <p:nvPr/>
            </p:nvSpPr>
            <p:spPr>
              <a:xfrm flipV="1">
                <a:off x="1759680" y="7875000"/>
                <a:ext cx="25056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Rectangle 317"/>
              <p:cNvSpPr/>
              <p:nvPr/>
            </p:nvSpPr>
            <p:spPr>
              <a:xfrm flipV="1">
                <a:off x="1752480" y="7870680"/>
                <a:ext cx="14220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318"/>
              <p:cNvSpPr/>
              <p:nvPr/>
            </p:nvSpPr>
            <p:spPr>
              <a:xfrm flipV="1">
                <a:off x="1872000" y="8004600"/>
                <a:ext cx="972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319"/>
              <p:cNvSpPr/>
              <p:nvPr/>
            </p:nvSpPr>
            <p:spPr>
              <a:xfrm>
                <a:off x="2010240" y="7993440"/>
                <a:ext cx="131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402"/>
            <p:cNvSpPr/>
            <p:nvPr/>
          </p:nvSpPr>
          <p:spPr>
            <a:xfrm>
              <a:off x="914400" y="7186680"/>
              <a:ext cx="500040" cy="1977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403"/>
            <p:cNvSpPr/>
            <p:nvPr/>
          </p:nvSpPr>
          <p:spPr>
            <a:xfrm>
              <a:off x="914400" y="6904080"/>
              <a:ext cx="500040" cy="48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пр. Зап.Сиб ж/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Group 404"/>
            <p:cNvGrpSpPr/>
            <p:nvPr/>
          </p:nvGrpSpPr>
          <p:grpSpPr>
            <a:xfrm>
              <a:off x="2444760" y="6904080"/>
              <a:ext cx="503280" cy="2260080"/>
              <a:chOff x="2444760" y="6904080"/>
              <a:chExt cx="503280" cy="2260080"/>
            </a:xfrm>
          </p:grpSpPr>
          <p:sp>
            <p:nvSpPr>
              <p:cNvPr id="1019" name="Text Box 405"/>
              <p:cNvSpPr/>
              <p:nvPr/>
            </p:nvSpPr>
            <p:spPr>
              <a:xfrm>
                <a:off x="2444760" y="7185960"/>
                <a:ext cx="503280" cy="197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 Box 406"/>
              <p:cNvSpPr/>
              <p:nvPr/>
            </p:nvSpPr>
            <p:spPr>
              <a:xfrm>
                <a:off x="2444760" y="6904080"/>
                <a:ext cx="503280" cy="281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ФГУ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ГСЭН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Text Box 408"/>
            <p:cNvSpPr/>
            <p:nvPr/>
          </p:nvSpPr>
          <p:spPr>
            <a:xfrm>
              <a:off x="3197160" y="7165800"/>
              <a:ext cx="500040" cy="197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09"/>
            <p:cNvSpPr/>
            <p:nvPr/>
          </p:nvSpPr>
          <p:spPr>
            <a:xfrm>
              <a:off x="3197160" y="6883560"/>
              <a:ext cx="500040" cy="61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ом. по охране здоров. насел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Group 410"/>
            <p:cNvGrpSpPr/>
            <p:nvPr/>
          </p:nvGrpSpPr>
          <p:grpSpPr>
            <a:xfrm>
              <a:off x="992520" y="7870680"/>
              <a:ext cx="388800" cy="579600"/>
              <a:chOff x="992520" y="7870680"/>
              <a:chExt cx="388800" cy="579600"/>
            </a:xfrm>
          </p:grpSpPr>
          <p:grpSp>
            <p:nvGrpSpPr>
              <p:cNvPr id="1024" name="Group 411"/>
              <p:cNvGrpSpPr/>
              <p:nvPr/>
            </p:nvGrpSpPr>
            <p:grpSpPr>
              <a:xfrm>
                <a:off x="1053360" y="7993800"/>
                <a:ext cx="327960" cy="456480"/>
                <a:chOff x="1053360" y="7993800"/>
                <a:chExt cx="327960" cy="456480"/>
              </a:xfrm>
            </p:grpSpPr>
            <p:sp>
              <p:nvSpPr>
                <p:cNvPr id="1025" name="Line 412"/>
                <p:cNvSpPr/>
                <p:nvPr/>
              </p:nvSpPr>
              <p:spPr>
                <a:xfrm flipV="1">
                  <a:off x="1381320" y="799380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utoShape 413"/>
                <p:cNvSpPr/>
                <p:nvPr/>
              </p:nvSpPr>
              <p:spPr>
                <a:xfrm flipV="1" rot="5400000">
                  <a:off x="1035360" y="8300880"/>
                  <a:ext cx="166680" cy="13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" bIns="-18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414"/>
                <p:cNvSpPr/>
                <p:nvPr/>
              </p:nvSpPr>
              <p:spPr>
                <a:xfrm>
                  <a:off x="1184400" y="8371440"/>
                  <a:ext cx="196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Oval 415"/>
              <p:cNvSpPr/>
              <p:nvPr/>
            </p:nvSpPr>
            <p:spPr>
              <a:xfrm flipV="1">
                <a:off x="1000080" y="7875000"/>
                <a:ext cx="25020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16"/>
              <p:cNvSpPr/>
              <p:nvPr/>
            </p:nvSpPr>
            <p:spPr>
              <a:xfrm flipV="1">
                <a:off x="992520" y="7870680"/>
                <a:ext cx="14184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Oval 417"/>
              <p:cNvSpPr/>
              <p:nvPr/>
            </p:nvSpPr>
            <p:spPr>
              <a:xfrm flipV="1">
                <a:off x="1112040" y="8004600"/>
                <a:ext cx="972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418"/>
              <p:cNvSpPr/>
              <p:nvPr/>
            </p:nvSpPr>
            <p:spPr>
              <a:xfrm>
                <a:off x="1249920" y="7993440"/>
                <a:ext cx="131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419"/>
            <p:cNvGrpSpPr/>
            <p:nvPr/>
          </p:nvGrpSpPr>
          <p:grpSpPr>
            <a:xfrm>
              <a:off x="2509560" y="7870680"/>
              <a:ext cx="390960" cy="579600"/>
              <a:chOff x="2509560" y="7870680"/>
              <a:chExt cx="390960" cy="579600"/>
            </a:xfrm>
          </p:grpSpPr>
          <p:grpSp>
            <p:nvGrpSpPr>
              <p:cNvPr id="1033" name="Group 420"/>
              <p:cNvGrpSpPr/>
              <p:nvPr/>
            </p:nvGrpSpPr>
            <p:grpSpPr>
              <a:xfrm>
                <a:off x="2571120" y="7993800"/>
                <a:ext cx="329400" cy="456480"/>
                <a:chOff x="2571120" y="7993800"/>
                <a:chExt cx="329400" cy="456480"/>
              </a:xfrm>
            </p:grpSpPr>
            <p:sp>
              <p:nvSpPr>
                <p:cNvPr id="1034" name="Line 421"/>
                <p:cNvSpPr/>
                <p:nvPr/>
              </p:nvSpPr>
              <p:spPr>
                <a:xfrm flipV="1">
                  <a:off x="2900520" y="799380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AutoShape 422"/>
                <p:cNvSpPr/>
                <p:nvPr/>
              </p:nvSpPr>
              <p:spPr>
                <a:xfrm flipV="1" rot="5400000">
                  <a:off x="2553480" y="8300520"/>
                  <a:ext cx="166680" cy="13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" bIns="-18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423"/>
                <p:cNvSpPr/>
                <p:nvPr/>
              </p:nvSpPr>
              <p:spPr>
                <a:xfrm>
                  <a:off x="2702880" y="8371440"/>
                  <a:ext cx="19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7" name="Oval 424"/>
              <p:cNvSpPr/>
              <p:nvPr/>
            </p:nvSpPr>
            <p:spPr>
              <a:xfrm flipV="1">
                <a:off x="2517120" y="7875000"/>
                <a:ext cx="25164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425"/>
              <p:cNvSpPr/>
              <p:nvPr/>
            </p:nvSpPr>
            <p:spPr>
              <a:xfrm flipV="1">
                <a:off x="2509560" y="7870680"/>
                <a:ext cx="14256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426"/>
              <p:cNvSpPr/>
              <p:nvPr/>
            </p:nvSpPr>
            <p:spPr>
              <a:xfrm flipV="1">
                <a:off x="2630160" y="8004600"/>
                <a:ext cx="972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427"/>
              <p:cNvSpPr/>
              <p:nvPr/>
            </p:nvSpPr>
            <p:spPr>
              <a:xfrm>
                <a:off x="2768400" y="79934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428"/>
            <p:cNvGrpSpPr/>
            <p:nvPr/>
          </p:nvGrpSpPr>
          <p:grpSpPr>
            <a:xfrm>
              <a:off x="3270960" y="7870680"/>
              <a:ext cx="393480" cy="579600"/>
              <a:chOff x="3270960" y="7870680"/>
              <a:chExt cx="393480" cy="579600"/>
            </a:xfrm>
          </p:grpSpPr>
          <p:grpSp>
            <p:nvGrpSpPr>
              <p:cNvPr id="1042" name="Group 429"/>
              <p:cNvGrpSpPr/>
              <p:nvPr/>
            </p:nvGrpSpPr>
            <p:grpSpPr>
              <a:xfrm>
                <a:off x="3332160" y="7993800"/>
                <a:ext cx="331920" cy="456480"/>
                <a:chOff x="3332160" y="7993800"/>
                <a:chExt cx="331920" cy="456480"/>
              </a:xfrm>
            </p:grpSpPr>
            <p:sp>
              <p:nvSpPr>
                <p:cNvPr id="1043" name="Line 430"/>
                <p:cNvSpPr/>
                <p:nvPr/>
              </p:nvSpPr>
              <p:spPr>
                <a:xfrm flipV="1">
                  <a:off x="3664080" y="799380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AutoShape 431"/>
                <p:cNvSpPr/>
                <p:nvPr/>
              </p:nvSpPr>
              <p:spPr>
                <a:xfrm flipV="1" rot="5400000">
                  <a:off x="3315240" y="8300160"/>
                  <a:ext cx="166680" cy="132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432"/>
                <p:cNvSpPr/>
                <p:nvPr/>
              </p:nvSpPr>
              <p:spPr>
                <a:xfrm>
                  <a:off x="3465000" y="8371440"/>
                  <a:ext cx="199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Oval 433"/>
              <p:cNvSpPr/>
              <p:nvPr/>
            </p:nvSpPr>
            <p:spPr>
              <a:xfrm flipV="1">
                <a:off x="3277800" y="7875000"/>
                <a:ext cx="25344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434"/>
              <p:cNvSpPr/>
              <p:nvPr/>
            </p:nvSpPr>
            <p:spPr>
              <a:xfrm flipV="1">
                <a:off x="3270960" y="7870680"/>
                <a:ext cx="14364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Oval 435"/>
              <p:cNvSpPr/>
              <p:nvPr/>
            </p:nvSpPr>
            <p:spPr>
              <a:xfrm flipV="1">
                <a:off x="3391200" y="8004600"/>
                <a:ext cx="1008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436"/>
              <p:cNvSpPr/>
              <p:nvPr/>
            </p:nvSpPr>
            <p:spPr>
              <a:xfrm>
                <a:off x="3531600" y="7993440"/>
                <a:ext cx="13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Line 438"/>
            <p:cNvSpPr/>
            <p:nvPr/>
          </p:nvSpPr>
          <p:spPr>
            <a:xfrm flipH="1">
              <a:off x="1369800" y="8175600"/>
              <a:ext cx="426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10"/>
            <p:cNvSpPr/>
            <p:nvPr/>
          </p:nvSpPr>
          <p:spPr>
            <a:xfrm>
              <a:off x="1501560" y="6854760"/>
              <a:ext cx="7624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ФГ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«Сибупра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дор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Group 82"/>
            <p:cNvGrpSpPr/>
            <p:nvPr/>
          </p:nvGrpSpPr>
          <p:grpSpPr>
            <a:xfrm>
              <a:off x="5030640" y="1941480"/>
              <a:ext cx="455760" cy="4333680"/>
              <a:chOff x="5030640" y="1941480"/>
              <a:chExt cx="455760" cy="4333680"/>
            </a:xfrm>
          </p:grpSpPr>
          <p:sp>
            <p:nvSpPr>
              <p:cNvPr id="1053" name="Text Box 83"/>
              <p:cNvSpPr/>
              <p:nvPr/>
            </p:nvSpPr>
            <p:spPr>
              <a:xfrm>
                <a:off x="5030640" y="1941480"/>
                <a:ext cx="455760" cy="295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84"/>
              <p:cNvSpPr/>
              <p:nvPr/>
            </p:nvSpPr>
            <p:spPr>
              <a:xfrm>
                <a:off x="5030640" y="2236680"/>
                <a:ext cx="455760" cy="4038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Text Box 85"/>
            <p:cNvSpPr/>
            <p:nvPr/>
          </p:nvSpPr>
          <p:spPr>
            <a:xfrm>
              <a:off x="4991040" y="2016000"/>
              <a:ext cx="457200" cy="39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86"/>
            <p:cNvSpPr/>
            <p:nvPr/>
          </p:nvSpPr>
          <p:spPr>
            <a:xfrm>
              <a:off x="4952880" y="2408400"/>
              <a:ext cx="495360" cy="392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87"/>
            <p:cNvSpPr/>
            <p:nvPr/>
          </p:nvSpPr>
          <p:spPr>
            <a:xfrm>
              <a:off x="4952880" y="2587680"/>
              <a:ext cx="460440" cy="3838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88"/>
            <p:cNvSpPr/>
            <p:nvPr/>
          </p:nvSpPr>
          <p:spPr>
            <a:xfrm>
              <a:off x="4952880" y="2031840"/>
              <a:ext cx="460440" cy="55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ЧС и ПБ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90"/>
            <p:cNvSpPr/>
            <p:nvPr/>
          </p:nvSpPr>
          <p:spPr>
            <a:xfrm>
              <a:off x="3429000" y="2031840"/>
              <a:ext cx="533520" cy="306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МК «03»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91"/>
            <p:cNvSpPr/>
            <p:nvPr/>
          </p:nvSpPr>
          <p:spPr>
            <a:xfrm>
              <a:off x="3429000" y="2343240"/>
              <a:ext cx="533520" cy="4105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94"/>
            <p:cNvSpPr/>
            <p:nvPr/>
          </p:nvSpPr>
          <p:spPr>
            <a:xfrm>
              <a:off x="533520" y="2016000"/>
              <a:ext cx="531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РЦ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95"/>
            <p:cNvSpPr/>
            <p:nvPr/>
          </p:nvSpPr>
          <p:spPr>
            <a:xfrm>
              <a:off x="533520" y="2471760"/>
              <a:ext cx="531720" cy="39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96"/>
            <p:cNvSpPr/>
            <p:nvPr/>
          </p:nvSpPr>
          <p:spPr>
            <a:xfrm>
              <a:off x="1447920" y="2471760"/>
              <a:ext cx="608040" cy="39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97"/>
            <p:cNvSpPr/>
            <p:nvPr/>
          </p:nvSpPr>
          <p:spPr>
            <a:xfrm>
              <a:off x="1447920" y="2016000"/>
              <a:ext cx="6080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ГУ МЧС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100"/>
            <p:cNvSpPr/>
            <p:nvPr/>
          </p:nvSpPr>
          <p:spPr>
            <a:xfrm>
              <a:off x="684360" y="3749760"/>
              <a:ext cx="38088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Group 101"/>
            <p:cNvGrpSpPr/>
            <p:nvPr/>
          </p:nvGrpSpPr>
          <p:grpSpPr>
            <a:xfrm>
              <a:off x="1525680" y="2705760"/>
              <a:ext cx="419760" cy="415440"/>
              <a:chOff x="1525680" y="2705760"/>
              <a:chExt cx="419760" cy="415440"/>
            </a:xfrm>
          </p:grpSpPr>
          <p:sp>
            <p:nvSpPr>
              <p:cNvPr id="1067" name="AutoShape 102"/>
              <p:cNvSpPr/>
              <p:nvPr/>
            </p:nvSpPr>
            <p:spPr>
              <a:xfrm>
                <a:off x="1525680" y="2817000"/>
                <a:ext cx="378360" cy="30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 Box 103"/>
              <p:cNvSpPr/>
              <p:nvPr/>
            </p:nvSpPr>
            <p:spPr>
              <a:xfrm>
                <a:off x="1525680" y="2969280"/>
                <a:ext cx="37836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9" name="Group 104"/>
              <p:cNvGrpSpPr/>
              <p:nvPr/>
            </p:nvGrpSpPr>
            <p:grpSpPr>
              <a:xfrm>
                <a:off x="1711080" y="2705760"/>
                <a:ext cx="234360" cy="127800"/>
                <a:chOff x="1711080" y="2705760"/>
                <a:chExt cx="234360" cy="127800"/>
              </a:xfrm>
            </p:grpSpPr>
            <p:sp>
              <p:nvSpPr>
                <p:cNvPr id="1070" name="Line 105"/>
                <p:cNvSpPr/>
                <p:nvPr/>
              </p:nvSpPr>
              <p:spPr>
                <a:xfrm flipV="1">
                  <a:off x="1711080" y="2724840"/>
                  <a:ext cx="7668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106"/>
                <p:cNvSpPr/>
                <p:nvPr/>
              </p:nvSpPr>
              <p:spPr>
                <a:xfrm>
                  <a:off x="1784160" y="2716560"/>
                  <a:ext cx="7560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107"/>
                <p:cNvSpPr/>
                <p:nvPr/>
              </p:nvSpPr>
              <p:spPr>
                <a:xfrm flipV="1">
                  <a:off x="1861200" y="2718360"/>
                  <a:ext cx="5796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08"/>
                <p:cNvSpPr/>
                <p:nvPr/>
              </p:nvSpPr>
              <p:spPr>
                <a:xfrm>
                  <a:off x="1926720" y="2711160"/>
                  <a:ext cx="187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109"/>
                <p:cNvSpPr/>
                <p:nvPr/>
              </p:nvSpPr>
              <p:spPr>
                <a:xfrm flipH="1">
                  <a:off x="1877760" y="2705760"/>
                  <a:ext cx="45360" cy="2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Text Box 110"/>
            <p:cNvSpPr/>
            <p:nvPr/>
          </p:nvSpPr>
          <p:spPr>
            <a:xfrm>
              <a:off x="2901960" y="3749760"/>
              <a:ext cx="3776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11"/>
            <p:cNvSpPr/>
            <p:nvPr/>
          </p:nvSpPr>
          <p:spPr>
            <a:xfrm>
              <a:off x="533520" y="2320920"/>
              <a:ext cx="53172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Флюкс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12"/>
            <p:cNvSpPr/>
            <p:nvPr/>
          </p:nvSpPr>
          <p:spPr>
            <a:xfrm>
              <a:off x="1447920" y="2320920"/>
              <a:ext cx="60804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ило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Group 127"/>
            <p:cNvGrpSpPr/>
            <p:nvPr/>
          </p:nvGrpSpPr>
          <p:grpSpPr>
            <a:xfrm>
              <a:off x="1525680" y="4025160"/>
              <a:ext cx="342720" cy="461160"/>
              <a:chOff x="1525680" y="4025160"/>
              <a:chExt cx="342720" cy="461160"/>
            </a:xfrm>
          </p:grpSpPr>
          <p:sp>
            <p:nvSpPr>
              <p:cNvPr id="1079" name="Oval 128"/>
              <p:cNvSpPr/>
              <p:nvPr/>
            </p:nvSpPr>
            <p:spPr>
              <a:xfrm>
                <a:off x="1525680" y="4149720"/>
                <a:ext cx="323280" cy="336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Group 129"/>
              <p:cNvGrpSpPr/>
              <p:nvPr/>
            </p:nvGrpSpPr>
            <p:grpSpPr>
              <a:xfrm>
                <a:off x="1669320" y="4025160"/>
                <a:ext cx="199080" cy="112320"/>
                <a:chOff x="1669320" y="4025160"/>
                <a:chExt cx="199080" cy="112320"/>
              </a:xfrm>
            </p:grpSpPr>
            <p:sp>
              <p:nvSpPr>
                <p:cNvPr id="1081" name="Line 130"/>
                <p:cNvSpPr/>
                <p:nvPr/>
              </p:nvSpPr>
              <p:spPr>
                <a:xfrm flipV="1">
                  <a:off x="1669320" y="4042440"/>
                  <a:ext cx="64440" cy="9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31"/>
                <p:cNvSpPr/>
                <p:nvPr/>
              </p:nvSpPr>
              <p:spPr>
                <a:xfrm>
                  <a:off x="1731240" y="4035240"/>
                  <a:ext cx="6444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132"/>
                <p:cNvSpPr/>
                <p:nvPr/>
              </p:nvSpPr>
              <p:spPr>
                <a:xfrm flipV="1">
                  <a:off x="1797480" y="4036680"/>
                  <a:ext cx="48240" cy="6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33"/>
                <p:cNvSpPr/>
                <p:nvPr/>
              </p:nvSpPr>
              <p:spPr>
                <a:xfrm>
                  <a:off x="1853280" y="4030560"/>
                  <a:ext cx="1512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34"/>
                <p:cNvSpPr/>
                <p:nvPr/>
              </p:nvSpPr>
              <p:spPr>
                <a:xfrm flipH="1">
                  <a:off x="1810800" y="4025160"/>
                  <a:ext cx="38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6" name="Group 135"/>
            <p:cNvGrpSpPr/>
            <p:nvPr/>
          </p:nvGrpSpPr>
          <p:grpSpPr>
            <a:xfrm>
              <a:off x="639720" y="4973760"/>
              <a:ext cx="1265400" cy="304560"/>
              <a:chOff x="639720" y="4973760"/>
              <a:chExt cx="1265400" cy="304560"/>
            </a:xfrm>
          </p:grpSpPr>
          <p:sp>
            <p:nvSpPr>
              <p:cNvPr id="1087" name="Line 136"/>
              <p:cNvSpPr/>
              <p:nvPr/>
            </p:nvSpPr>
            <p:spPr>
              <a:xfrm>
                <a:off x="943920" y="5107680"/>
                <a:ext cx="68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8" name="Group 137"/>
              <p:cNvGrpSpPr/>
              <p:nvPr/>
            </p:nvGrpSpPr>
            <p:grpSpPr>
              <a:xfrm>
                <a:off x="639720" y="4973760"/>
                <a:ext cx="304200" cy="304560"/>
                <a:chOff x="639720" y="4973760"/>
                <a:chExt cx="304200" cy="304560"/>
              </a:xfrm>
            </p:grpSpPr>
            <p:sp>
              <p:nvSpPr>
                <p:cNvPr id="1089" name="Oval 138"/>
                <p:cNvSpPr/>
                <p:nvPr/>
              </p:nvSpPr>
              <p:spPr>
                <a:xfrm>
                  <a:off x="653400" y="4988880"/>
                  <a:ext cx="290520" cy="253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Rectangle 139"/>
                <p:cNvSpPr/>
                <p:nvPr/>
              </p:nvSpPr>
              <p:spPr>
                <a:xfrm>
                  <a:off x="639720" y="4973760"/>
                  <a:ext cx="16488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140"/>
              <p:cNvGrpSpPr/>
              <p:nvPr/>
            </p:nvGrpSpPr>
            <p:grpSpPr>
              <a:xfrm>
                <a:off x="1629720" y="4973760"/>
                <a:ext cx="275400" cy="304560"/>
                <a:chOff x="1629720" y="4973760"/>
                <a:chExt cx="275400" cy="304560"/>
              </a:xfrm>
            </p:grpSpPr>
            <p:sp>
              <p:nvSpPr>
                <p:cNvPr id="1092" name="Oval 141"/>
                <p:cNvSpPr/>
                <p:nvPr/>
              </p:nvSpPr>
              <p:spPr>
                <a:xfrm flipH="1">
                  <a:off x="1629360" y="4988880"/>
                  <a:ext cx="263160" cy="253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142"/>
                <p:cNvSpPr/>
                <p:nvPr/>
              </p:nvSpPr>
              <p:spPr>
                <a:xfrm flipH="1">
                  <a:off x="1755360" y="4973760"/>
                  <a:ext cx="1494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4" name="Group 143"/>
            <p:cNvGrpSpPr/>
            <p:nvPr/>
          </p:nvGrpSpPr>
          <p:grpSpPr>
            <a:xfrm>
              <a:off x="657360" y="4525920"/>
              <a:ext cx="1185840" cy="379440"/>
              <a:chOff x="657360" y="4525920"/>
              <a:chExt cx="1185840" cy="379440"/>
            </a:xfrm>
          </p:grpSpPr>
          <p:sp>
            <p:nvSpPr>
              <p:cNvPr id="1095" name="Rectangle 144"/>
              <p:cNvSpPr/>
              <p:nvPr/>
            </p:nvSpPr>
            <p:spPr>
              <a:xfrm>
                <a:off x="657360" y="4695480"/>
                <a:ext cx="34992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145"/>
              <p:cNvSpPr/>
              <p:nvPr/>
            </p:nvSpPr>
            <p:spPr>
              <a:xfrm>
                <a:off x="1493280" y="4695480"/>
                <a:ext cx="34992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146"/>
              <p:cNvSpPr/>
              <p:nvPr/>
            </p:nvSpPr>
            <p:spPr>
              <a:xfrm>
                <a:off x="1011240" y="4753440"/>
                <a:ext cx="484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147"/>
              <p:cNvSpPr/>
              <p:nvPr/>
            </p:nvSpPr>
            <p:spPr>
              <a:xfrm>
                <a:off x="1037160" y="4525920"/>
                <a:ext cx="379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Абон.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ТЛГ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AutoShape 157"/>
            <p:cNvSpPr/>
            <p:nvPr/>
          </p:nvSpPr>
          <p:spPr>
            <a:xfrm>
              <a:off x="1547640" y="3614760"/>
              <a:ext cx="379440" cy="304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58"/>
            <p:cNvSpPr/>
            <p:nvPr/>
          </p:nvSpPr>
          <p:spPr>
            <a:xfrm>
              <a:off x="1514520" y="3805200"/>
              <a:ext cx="379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C-7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159"/>
            <p:cNvGrpSpPr/>
            <p:nvPr/>
          </p:nvGrpSpPr>
          <p:grpSpPr>
            <a:xfrm>
              <a:off x="1755000" y="3461400"/>
              <a:ext cx="234720" cy="129600"/>
              <a:chOff x="1755000" y="3461400"/>
              <a:chExt cx="234720" cy="129600"/>
            </a:xfrm>
          </p:grpSpPr>
          <p:sp>
            <p:nvSpPr>
              <p:cNvPr id="1102" name="Line 160"/>
              <p:cNvSpPr/>
              <p:nvPr/>
            </p:nvSpPr>
            <p:spPr>
              <a:xfrm flipV="1">
                <a:off x="1755000" y="3480480"/>
                <a:ext cx="76680" cy="11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161"/>
              <p:cNvSpPr/>
              <p:nvPr/>
            </p:nvSpPr>
            <p:spPr>
              <a:xfrm>
                <a:off x="1828080" y="3472560"/>
                <a:ext cx="75960" cy="7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62"/>
              <p:cNvSpPr/>
              <p:nvPr/>
            </p:nvSpPr>
            <p:spPr>
              <a:xfrm flipV="1">
                <a:off x="1905840" y="3474360"/>
                <a:ext cx="5760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163"/>
              <p:cNvSpPr/>
              <p:nvPr/>
            </p:nvSpPr>
            <p:spPr>
              <a:xfrm>
                <a:off x="1971000" y="3467160"/>
                <a:ext cx="1872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164"/>
              <p:cNvSpPr/>
              <p:nvPr/>
            </p:nvSpPr>
            <p:spPr>
              <a:xfrm flipH="1">
                <a:off x="1921320" y="3461400"/>
                <a:ext cx="4572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65"/>
            <p:cNvGrpSpPr/>
            <p:nvPr/>
          </p:nvGrpSpPr>
          <p:grpSpPr>
            <a:xfrm>
              <a:off x="609480" y="2705760"/>
              <a:ext cx="421200" cy="415440"/>
              <a:chOff x="609480" y="2705760"/>
              <a:chExt cx="421200" cy="415440"/>
            </a:xfrm>
          </p:grpSpPr>
          <p:sp>
            <p:nvSpPr>
              <p:cNvPr id="1108" name="AutoShape 166"/>
              <p:cNvSpPr/>
              <p:nvPr/>
            </p:nvSpPr>
            <p:spPr>
              <a:xfrm>
                <a:off x="609480" y="2817000"/>
                <a:ext cx="380160" cy="30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167"/>
              <p:cNvSpPr/>
              <p:nvPr/>
            </p:nvSpPr>
            <p:spPr>
              <a:xfrm>
                <a:off x="609480" y="2969280"/>
                <a:ext cx="38016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Group 168"/>
              <p:cNvGrpSpPr/>
              <p:nvPr/>
            </p:nvGrpSpPr>
            <p:grpSpPr>
              <a:xfrm>
                <a:off x="795600" y="2705760"/>
                <a:ext cx="235080" cy="127440"/>
                <a:chOff x="795600" y="2705760"/>
                <a:chExt cx="235080" cy="127440"/>
              </a:xfrm>
            </p:grpSpPr>
            <p:sp>
              <p:nvSpPr>
                <p:cNvPr id="1111" name="Line 169"/>
                <p:cNvSpPr/>
                <p:nvPr/>
              </p:nvSpPr>
              <p:spPr>
                <a:xfrm flipV="1">
                  <a:off x="795600" y="2724120"/>
                  <a:ext cx="7740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170"/>
                <p:cNvSpPr/>
                <p:nvPr/>
              </p:nvSpPr>
              <p:spPr>
                <a:xfrm>
                  <a:off x="869040" y="2716560"/>
                  <a:ext cx="7596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171"/>
                <p:cNvSpPr/>
                <p:nvPr/>
              </p:nvSpPr>
              <p:spPr>
                <a:xfrm flipV="1">
                  <a:off x="946440" y="2718360"/>
                  <a:ext cx="5832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172"/>
                <p:cNvSpPr/>
                <p:nvPr/>
              </p:nvSpPr>
              <p:spPr>
                <a:xfrm>
                  <a:off x="1011960" y="2711160"/>
                  <a:ext cx="187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173"/>
                <p:cNvSpPr/>
                <p:nvPr/>
              </p:nvSpPr>
              <p:spPr>
                <a:xfrm flipH="1">
                  <a:off x="963000" y="2705760"/>
                  <a:ext cx="45360" cy="2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 Box 278"/>
            <p:cNvSpPr/>
            <p:nvPr/>
          </p:nvSpPr>
          <p:spPr>
            <a:xfrm>
              <a:off x="2519280" y="2481120"/>
              <a:ext cx="455760" cy="3945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279"/>
            <p:cNvGrpSpPr/>
            <p:nvPr/>
          </p:nvGrpSpPr>
          <p:grpSpPr>
            <a:xfrm>
              <a:off x="2590920" y="4025160"/>
              <a:ext cx="342720" cy="461160"/>
              <a:chOff x="2590920" y="4025160"/>
              <a:chExt cx="342720" cy="461160"/>
            </a:xfrm>
          </p:grpSpPr>
          <p:sp>
            <p:nvSpPr>
              <p:cNvPr id="1118" name="Oval 280"/>
              <p:cNvSpPr/>
              <p:nvPr/>
            </p:nvSpPr>
            <p:spPr>
              <a:xfrm>
                <a:off x="2590920" y="4149720"/>
                <a:ext cx="323280" cy="336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281"/>
              <p:cNvGrpSpPr/>
              <p:nvPr/>
            </p:nvGrpSpPr>
            <p:grpSpPr>
              <a:xfrm>
                <a:off x="2734560" y="4025160"/>
                <a:ext cx="199080" cy="112320"/>
                <a:chOff x="2734560" y="4025160"/>
                <a:chExt cx="199080" cy="112320"/>
              </a:xfrm>
            </p:grpSpPr>
            <p:sp>
              <p:nvSpPr>
                <p:cNvPr id="1120" name="Line 282"/>
                <p:cNvSpPr/>
                <p:nvPr/>
              </p:nvSpPr>
              <p:spPr>
                <a:xfrm flipV="1">
                  <a:off x="2734560" y="4042440"/>
                  <a:ext cx="64440" cy="9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283"/>
                <p:cNvSpPr/>
                <p:nvPr/>
              </p:nvSpPr>
              <p:spPr>
                <a:xfrm>
                  <a:off x="2796480" y="4035240"/>
                  <a:ext cx="6444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284"/>
                <p:cNvSpPr/>
                <p:nvPr/>
              </p:nvSpPr>
              <p:spPr>
                <a:xfrm flipV="1">
                  <a:off x="2862720" y="4036680"/>
                  <a:ext cx="48240" cy="6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285"/>
                <p:cNvSpPr/>
                <p:nvPr/>
              </p:nvSpPr>
              <p:spPr>
                <a:xfrm>
                  <a:off x="2918520" y="4030560"/>
                  <a:ext cx="1512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286"/>
                <p:cNvSpPr/>
                <p:nvPr/>
              </p:nvSpPr>
              <p:spPr>
                <a:xfrm flipH="1">
                  <a:off x="2876040" y="4025160"/>
                  <a:ext cx="38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288"/>
            <p:cNvSpPr/>
            <p:nvPr/>
          </p:nvSpPr>
          <p:spPr>
            <a:xfrm>
              <a:off x="1047600" y="2860560"/>
              <a:ext cx="4557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/с 2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289"/>
            <p:cNvSpPr/>
            <p:nvPr/>
          </p:nvSpPr>
          <p:spPr>
            <a:xfrm>
              <a:off x="2514600" y="2014560"/>
              <a:ext cx="45396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Д УФСБ обла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290"/>
            <p:cNvSpPr/>
            <p:nvPr/>
          </p:nvSpPr>
          <p:spPr>
            <a:xfrm>
              <a:off x="4267080" y="2014560"/>
              <a:ext cx="427320" cy="30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ЕДДС-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91"/>
            <p:cNvSpPr/>
            <p:nvPr/>
          </p:nvSpPr>
          <p:spPr>
            <a:xfrm>
              <a:off x="4267080" y="2319480"/>
              <a:ext cx="427320" cy="4106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Group 292"/>
            <p:cNvGrpSpPr/>
            <p:nvPr/>
          </p:nvGrpSpPr>
          <p:grpSpPr>
            <a:xfrm>
              <a:off x="4313160" y="4022280"/>
              <a:ext cx="346320" cy="463680"/>
              <a:chOff x="4313160" y="4022280"/>
              <a:chExt cx="346320" cy="463680"/>
            </a:xfrm>
          </p:grpSpPr>
          <p:sp>
            <p:nvSpPr>
              <p:cNvPr id="1130" name="Oval 293"/>
              <p:cNvSpPr/>
              <p:nvPr/>
            </p:nvSpPr>
            <p:spPr>
              <a:xfrm>
                <a:off x="4313160" y="4147560"/>
                <a:ext cx="326520" cy="3384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Group 294"/>
              <p:cNvGrpSpPr/>
              <p:nvPr/>
            </p:nvGrpSpPr>
            <p:grpSpPr>
              <a:xfrm>
                <a:off x="4458240" y="4022280"/>
                <a:ext cx="201240" cy="113400"/>
                <a:chOff x="4458240" y="4022280"/>
                <a:chExt cx="201240" cy="113400"/>
              </a:xfrm>
            </p:grpSpPr>
            <p:sp>
              <p:nvSpPr>
                <p:cNvPr id="1132" name="Line 295"/>
                <p:cNvSpPr/>
                <p:nvPr/>
              </p:nvSpPr>
              <p:spPr>
                <a:xfrm flipV="1">
                  <a:off x="4458240" y="4039920"/>
                  <a:ext cx="6552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296"/>
                <p:cNvSpPr/>
                <p:nvPr/>
              </p:nvSpPr>
              <p:spPr>
                <a:xfrm>
                  <a:off x="4520880" y="4032360"/>
                  <a:ext cx="65160" cy="6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297"/>
                <p:cNvSpPr/>
                <p:nvPr/>
              </p:nvSpPr>
              <p:spPr>
                <a:xfrm flipV="1">
                  <a:off x="4587840" y="4034160"/>
                  <a:ext cx="48960" cy="6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298"/>
                <p:cNvSpPr/>
                <p:nvPr/>
              </p:nvSpPr>
              <p:spPr>
                <a:xfrm>
                  <a:off x="4644000" y="4027680"/>
                  <a:ext cx="154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299"/>
                <p:cNvSpPr/>
                <p:nvPr/>
              </p:nvSpPr>
              <p:spPr>
                <a:xfrm flipH="1">
                  <a:off x="4601160" y="4022280"/>
                  <a:ext cx="3924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7" name="Group 320"/>
            <p:cNvGrpSpPr/>
            <p:nvPr/>
          </p:nvGrpSpPr>
          <p:grpSpPr>
            <a:xfrm>
              <a:off x="4975200" y="5358960"/>
              <a:ext cx="393840" cy="319320"/>
              <a:chOff x="4975200" y="5358960"/>
              <a:chExt cx="393840" cy="319320"/>
            </a:xfrm>
          </p:grpSpPr>
          <p:sp>
            <p:nvSpPr>
              <p:cNvPr id="1138" name="Line 321"/>
              <p:cNvSpPr/>
              <p:nvPr/>
            </p:nvSpPr>
            <p:spPr>
              <a:xfrm flipV="1">
                <a:off x="5369040" y="5481360"/>
                <a:ext cx="0" cy="19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9" name="Group 322"/>
              <p:cNvGrpSpPr/>
              <p:nvPr/>
            </p:nvGrpSpPr>
            <p:grpSpPr>
              <a:xfrm>
                <a:off x="4975200" y="5358960"/>
                <a:ext cx="393840" cy="304200"/>
                <a:chOff x="4975200" y="5358960"/>
                <a:chExt cx="393840" cy="304200"/>
              </a:xfrm>
            </p:grpSpPr>
            <p:sp>
              <p:nvSpPr>
                <p:cNvPr id="1140" name="Oval 323"/>
                <p:cNvSpPr/>
                <p:nvPr/>
              </p:nvSpPr>
              <p:spPr>
                <a:xfrm flipV="1">
                  <a:off x="4982400" y="5363640"/>
                  <a:ext cx="253440" cy="253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Rectangle 324"/>
                <p:cNvSpPr/>
                <p:nvPr/>
              </p:nvSpPr>
              <p:spPr>
                <a:xfrm flipV="1">
                  <a:off x="4975200" y="5358600"/>
                  <a:ext cx="14364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Oval 325"/>
                <p:cNvSpPr/>
                <p:nvPr/>
              </p:nvSpPr>
              <p:spPr>
                <a:xfrm flipV="1">
                  <a:off x="5095800" y="5492520"/>
                  <a:ext cx="10080" cy="97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8880" bIns="-38880"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326"/>
                <p:cNvSpPr/>
                <p:nvPr/>
              </p:nvSpPr>
              <p:spPr>
                <a:xfrm>
                  <a:off x="5236200" y="5481720"/>
                  <a:ext cx="132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Group 327"/>
            <p:cNvGrpSpPr/>
            <p:nvPr/>
          </p:nvGrpSpPr>
          <p:grpSpPr>
            <a:xfrm>
              <a:off x="576000" y="5288040"/>
              <a:ext cx="455760" cy="646200"/>
              <a:chOff x="576000" y="5288040"/>
              <a:chExt cx="455760" cy="646200"/>
            </a:xfrm>
          </p:grpSpPr>
          <p:grpSp>
            <p:nvGrpSpPr>
              <p:cNvPr id="1145" name="Group 328"/>
              <p:cNvGrpSpPr/>
              <p:nvPr/>
            </p:nvGrpSpPr>
            <p:grpSpPr>
              <a:xfrm>
                <a:off x="576000" y="5477760"/>
                <a:ext cx="357480" cy="456480"/>
                <a:chOff x="576000" y="5477760"/>
                <a:chExt cx="357480" cy="456480"/>
              </a:xfrm>
            </p:grpSpPr>
            <p:sp>
              <p:nvSpPr>
                <p:cNvPr id="1146" name="Line 329"/>
                <p:cNvSpPr/>
                <p:nvPr/>
              </p:nvSpPr>
              <p:spPr>
                <a:xfrm flipV="1">
                  <a:off x="576000" y="547776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AutoShape 330"/>
                <p:cNvSpPr/>
                <p:nvPr/>
              </p:nvSpPr>
              <p:spPr>
                <a:xfrm flipH="1" flipV="1" rot="16200000">
                  <a:off x="778320" y="5779080"/>
                  <a:ext cx="166680" cy="142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 vert="eaVer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331"/>
                <p:cNvSpPr/>
                <p:nvPr/>
              </p:nvSpPr>
              <p:spPr>
                <a:xfrm flipH="1">
                  <a:off x="576000" y="5855400"/>
                  <a:ext cx="21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Oval 332"/>
              <p:cNvSpPr/>
              <p:nvPr/>
            </p:nvSpPr>
            <p:spPr>
              <a:xfrm flipH="1" flipV="1">
                <a:off x="745200" y="5343120"/>
                <a:ext cx="27324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Group 333"/>
              <p:cNvGrpSpPr/>
              <p:nvPr/>
            </p:nvGrpSpPr>
            <p:grpSpPr>
              <a:xfrm>
                <a:off x="845280" y="5288040"/>
                <a:ext cx="186480" cy="344160"/>
                <a:chOff x="845280" y="5288040"/>
                <a:chExt cx="186480" cy="344160"/>
              </a:xfrm>
            </p:grpSpPr>
            <p:sp>
              <p:nvSpPr>
                <p:cNvPr id="1151" name="Rectangle 334"/>
                <p:cNvSpPr/>
                <p:nvPr/>
              </p:nvSpPr>
              <p:spPr>
                <a:xfrm flipH="1" flipV="1">
                  <a:off x="845280" y="5288040"/>
                  <a:ext cx="186480" cy="34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Oval 335"/>
                <p:cNvSpPr/>
                <p:nvPr/>
              </p:nvSpPr>
              <p:spPr>
                <a:xfrm flipH="1" flipV="1">
                  <a:off x="858960" y="5454720"/>
                  <a:ext cx="10800" cy="1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7080" bIns="-37080"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3" name="Line 336"/>
              <p:cNvSpPr/>
              <p:nvPr/>
            </p:nvSpPr>
            <p:spPr>
              <a:xfrm flipH="1">
                <a:off x="576360" y="5479560"/>
                <a:ext cx="17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337"/>
            <p:cNvGrpSpPr/>
            <p:nvPr/>
          </p:nvGrpSpPr>
          <p:grpSpPr>
            <a:xfrm>
              <a:off x="1525680" y="5364000"/>
              <a:ext cx="449640" cy="577800"/>
              <a:chOff x="1525680" y="5364000"/>
              <a:chExt cx="449640" cy="577800"/>
            </a:xfrm>
          </p:grpSpPr>
          <p:grpSp>
            <p:nvGrpSpPr>
              <p:cNvPr id="1155" name="Group 338"/>
              <p:cNvGrpSpPr/>
              <p:nvPr/>
            </p:nvGrpSpPr>
            <p:grpSpPr>
              <a:xfrm>
                <a:off x="1596240" y="5486400"/>
                <a:ext cx="378720" cy="455400"/>
                <a:chOff x="1596240" y="5486400"/>
                <a:chExt cx="378720" cy="455400"/>
              </a:xfrm>
            </p:grpSpPr>
            <p:sp>
              <p:nvSpPr>
                <p:cNvPr id="1156" name="Line 339"/>
                <p:cNvSpPr/>
                <p:nvPr/>
              </p:nvSpPr>
              <p:spPr>
                <a:xfrm flipV="1">
                  <a:off x="1974960" y="5486400"/>
                  <a:ext cx="0" cy="37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AutoShape 340"/>
                <p:cNvSpPr/>
                <p:nvPr/>
              </p:nvSpPr>
              <p:spPr>
                <a:xfrm flipV="1" rot="5400000">
                  <a:off x="1588680" y="5782680"/>
                  <a:ext cx="166320" cy="151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" bIns="468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341"/>
                <p:cNvSpPr/>
                <p:nvPr/>
              </p:nvSpPr>
              <p:spPr>
                <a:xfrm>
                  <a:off x="1747800" y="5863320"/>
                  <a:ext cx="227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9" name="Oval 342"/>
              <p:cNvSpPr/>
              <p:nvPr/>
            </p:nvSpPr>
            <p:spPr>
              <a:xfrm flipV="1">
                <a:off x="1533960" y="5368320"/>
                <a:ext cx="28944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343"/>
              <p:cNvSpPr/>
              <p:nvPr/>
            </p:nvSpPr>
            <p:spPr>
              <a:xfrm flipV="1">
                <a:off x="1525680" y="5364000"/>
                <a:ext cx="1641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Oval 344"/>
              <p:cNvSpPr/>
              <p:nvPr/>
            </p:nvSpPr>
            <p:spPr>
              <a:xfrm flipV="1">
                <a:off x="1663560" y="5497560"/>
                <a:ext cx="1152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345"/>
              <p:cNvSpPr/>
              <p:nvPr/>
            </p:nvSpPr>
            <p:spPr>
              <a:xfrm>
                <a:off x="1823760" y="5486760"/>
                <a:ext cx="151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Group 346"/>
            <p:cNvGrpSpPr/>
            <p:nvPr/>
          </p:nvGrpSpPr>
          <p:grpSpPr>
            <a:xfrm>
              <a:off x="3524400" y="5360760"/>
              <a:ext cx="437760" cy="577800"/>
              <a:chOff x="3524400" y="5360760"/>
              <a:chExt cx="437760" cy="577800"/>
            </a:xfrm>
          </p:grpSpPr>
          <p:grpSp>
            <p:nvGrpSpPr>
              <p:cNvPr id="1164" name="Group 347"/>
              <p:cNvGrpSpPr/>
              <p:nvPr/>
            </p:nvGrpSpPr>
            <p:grpSpPr>
              <a:xfrm>
                <a:off x="3592800" y="5483880"/>
                <a:ext cx="369360" cy="454680"/>
                <a:chOff x="3592800" y="5483880"/>
                <a:chExt cx="369360" cy="454680"/>
              </a:xfrm>
            </p:grpSpPr>
            <p:sp>
              <p:nvSpPr>
                <p:cNvPr id="1165" name="Line 348"/>
                <p:cNvSpPr/>
                <p:nvPr/>
              </p:nvSpPr>
              <p:spPr>
                <a:xfrm flipV="1">
                  <a:off x="3962160" y="5483880"/>
                  <a:ext cx="0" cy="37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AutoShape 349"/>
                <p:cNvSpPr/>
                <p:nvPr/>
              </p:nvSpPr>
              <p:spPr>
                <a:xfrm flipV="1" rot="5400000">
                  <a:off x="3583440" y="5781600"/>
                  <a:ext cx="166320" cy="14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0" bIns="36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350"/>
                <p:cNvSpPr/>
                <p:nvPr/>
              </p:nvSpPr>
              <p:spPr>
                <a:xfrm>
                  <a:off x="3740400" y="5860440"/>
                  <a:ext cx="22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8" name="Oval 351"/>
              <p:cNvSpPr/>
              <p:nvPr/>
            </p:nvSpPr>
            <p:spPr>
              <a:xfrm flipV="1">
                <a:off x="3532320" y="5365440"/>
                <a:ext cx="28224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352"/>
              <p:cNvSpPr/>
              <p:nvPr/>
            </p:nvSpPr>
            <p:spPr>
              <a:xfrm flipV="1">
                <a:off x="3524400" y="5360400"/>
                <a:ext cx="159840" cy="30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353"/>
              <p:cNvSpPr/>
              <p:nvPr/>
            </p:nvSpPr>
            <p:spPr>
              <a:xfrm flipV="1">
                <a:off x="3659040" y="5494680"/>
                <a:ext cx="1116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54"/>
              <p:cNvSpPr/>
              <p:nvPr/>
            </p:nvSpPr>
            <p:spPr>
              <a:xfrm>
                <a:off x="3814560" y="5483520"/>
                <a:ext cx="14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387"/>
            <p:cNvGrpSpPr/>
            <p:nvPr/>
          </p:nvGrpSpPr>
          <p:grpSpPr>
            <a:xfrm>
              <a:off x="4299120" y="5343120"/>
              <a:ext cx="358560" cy="577800"/>
              <a:chOff x="4299120" y="5343120"/>
              <a:chExt cx="358560" cy="577800"/>
            </a:xfrm>
          </p:grpSpPr>
          <p:grpSp>
            <p:nvGrpSpPr>
              <p:cNvPr id="1173" name="Group 388"/>
              <p:cNvGrpSpPr/>
              <p:nvPr/>
            </p:nvGrpSpPr>
            <p:grpSpPr>
              <a:xfrm>
                <a:off x="4355280" y="5466240"/>
                <a:ext cx="302400" cy="454680"/>
                <a:chOff x="4355280" y="5466240"/>
                <a:chExt cx="302400" cy="454680"/>
              </a:xfrm>
            </p:grpSpPr>
            <p:sp>
              <p:nvSpPr>
                <p:cNvPr id="1174" name="Line 389"/>
                <p:cNvSpPr/>
                <p:nvPr/>
              </p:nvSpPr>
              <p:spPr>
                <a:xfrm flipV="1">
                  <a:off x="4657680" y="5466240"/>
                  <a:ext cx="0" cy="37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AutoShape 390"/>
                <p:cNvSpPr/>
                <p:nvPr/>
              </p:nvSpPr>
              <p:spPr>
                <a:xfrm flipV="1" rot="5400000">
                  <a:off x="4332600" y="5777280"/>
                  <a:ext cx="166320" cy="12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5400" bIns="-54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391"/>
                <p:cNvSpPr/>
                <p:nvPr/>
              </p:nvSpPr>
              <p:spPr>
                <a:xfrm>
                  <a:off x="4476240" y="5842800"/>
                  <a:ext cx="18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Oval 392"/>
              <p:cNvSpPr/>
              <p:nvPr/>
            </p:nvSpPr>
            <p:spPr>
              <a:xfrm flipV="1">
                <a:off x="4306320" y="5347800"/>
                <a:ext cx="23076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393"/>
              <p:cNvSpPr/>
              <p:nvPr/>
            </p:nvSpPr>
            <p:spPr>
              <a:xfrm flipV="1">
                <a:off x="4299120" y="5342760"/>
                <a:ext cx="131040" cy="30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394"/>
              <p:cNvSpPr/>
              <p:nvPr/>
            </p:nvSpPr>
            <p:spPr>
              <a:xfrm flipV="1">
                <a:off x="4409640" y="5477040"/>
                <a:ext cx="900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395"/>
              <p:cNvSpPr/>
              <p:nvPr/>
            </p:nvSpPr>
            <p:spPr>
              <a:xfrm>
                <a:off x="4536720" y="5465880"/>
                <a:ext cx="12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Text Box 158"/>
            <p:cNvSpPr/>
            <p:nvPr/>
          </p:nvSpPr>
          <p:spPr>
            <a:xfrm>
              <a:off x="1492200" y="2992320"/>
              <a:ext cx="379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C-7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337"/>
            <p:cNvGrpSpPr/>
            <p:nvPr/>
          </p:nvGrpSpPr>
          <p:grpSpPr>
            <a:xfrm>
              <a:off x="2548440" y="5338440"/>
              <a:ext cx="426600" cy="577800"/>
              <a:chOff x="2548440" y="5338440"/>
              <a:chExt cx="426600" cy="577800"/>
            </a:xfrm>
          </p:grpSpPr>
          <p:grpSp>
            <p:nvGrpSpPr>
              <p:cNvPr id="1183" name="Group 338"/>
              <p:cNvGrpSpPr/>
              <p:nvPr/>
            </p:nvGrpSpPr>
            <p:grpSpPr>
              <a:xfrm>
                <a:off x="2615040" y="5461560"/>
                <a:ext cx="360000" cy="454680"/>
                <a:chOff x="2615040" y="5461560"/>
                <a:chExt cx="360000" cy="454680"/>
              </a:xfrm>
            </p:grpSpPr>
            <p:sp>
              <p:nvSpPr>
                <p:cNvPr id="1184" name="Line 339"/>
                <p:cNvSpPr/>
                <p:nvPr/>
              </p:nvSpPr>
              <p:spPr>
                <a:xfrm flipV="1">
                  <a:off x="2975040" y="5461560"/>
                  <a:ext cx="0" cy="37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AutoShape 340"/>
                <p:cNvSpPr/>
                <p:nvPr/>
              </p:nvSpPr>
              <p:spPr>
                <a:xfrm flipV="1" rot="5400000">
                  <a:off x="2603880" y="5761080"/>
                  <a:ext cx="166320" cy="144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341"/>
                <p:cNvSpPr/>
                <p:nvPr/>
              </p:nvSpPr>
              <p:spPr>
                <a:xfrm>
                  <a:off x="2759040" y="5838120"/>
                  <a:ext cx="216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Oval 342"/>
              <p:cNvSpPr/>
              <p:nvPr/>
            </p:nvSpPr>
            <p:spPr>
              <a:xfrm flipV="1">
                <a:off x="2556000" y="5343120"/>
                <a:ext cx="27504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343"/>
              <p:cNvSpPr/>
              <p:nvPr/>
            </p:nvSpPr>
            <p:spPr>
              <a:xfrm flipV="1">
                <a:off x="2548440" y="5338080"/>
                <a:ext cx="155880" cy="30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344"/>
              <p:cNvSpPr/>
              <p:nvPr/>
            </p:nvSpPr>
            <p:spPr>
              <a:xfrm flipV="1">
                <a:off x="2679120" y="5472360"/>
                <a:ext cx="1080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345"/>
              <p:cNvSpPr/>
              <p:nvPr/>
            </p:nvSpPr>
            <p:spPr>
              <a:xfrm>
                <a:off x="2831040" y="5461200"/>
                <a:ext cx="14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250"/>
            <p:cNvGrpSpPr/>
            <p:nvPr/>
          </p:nvGrpSpPr>
          <p:grpSpPr>
            <a:xfrm>
              <a:off x="700920" y="4218120"/>
              <a:ext cx="236160" cy="385200"/>
              <a:chOff x="700920" y="4218120"/>
              <a:chExt cx="236160" cy="385200"/>
            </a:xfrm>
          </p:grpSpPr>
          <p:sp>
            <p:nvSpPr>
              <p:cNvPr id="1192" name="AutoShape 251"/>
              <p:cNvSpPr/>
              <p:nvPr/>
            </p:nvSpPr>
            <p:spPr>
              <a:xfrm>
                <a:off x="711360" y="4390200"/>
                <a:ext cx="212400" cy="213120"/>
              </a:xfrm>
              <a:prstGeom prst="triangle">
                <a:avLst>
                  <a:gd name="adj" fmla="val 50000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52"/>
              <p:cNvSpPr/>
              <p:nvPr/>
            </p:nvSpPr>
            <p:spPr>
              <a:xfrm rot="3097800">
                <a:off x="766800" y="4217040"/>
                <a:ext cx="104040" cy="21888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Text Box 60"/>
            <p:cNvSpPr/>
            <p:nvPr/>
          </p:nvSpPr>
          <p:spPr>
            <a:xfrm>
              <a:off x="6265800" y="2014560"/>
              <a:ext cx="438120" cy="30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Д УВД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61"/>
            <p:cNvSpPr/>
            <p:nvPr/>
          </p:nvSpPr>
          <p:spPr>
            <a:xfrm>
              <a:off x="6265800" y="2319480"/>
              <a:ext cx="438120" cy="4106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62"/>
            <p:cNvGrpSpPr/>
            <p:nvPr/>
          </p:nvGrpSpPr>
          <p:grpSpPr>
            <a:xfrm>
              <a:off x="6316560" y="4022280"/>
              <a:ext cx="341280" cy="463680"/>
              <a:chOff x="6316560" y="4022280"/>
              <a:chExt cx="341280" cy="463680"/>
            </a:xfrm>
          </p:grpSpPr>
          <p:sp>
            <p:nvSpPr>
              <p:cNvPr id="1197" name="Oval 63"/>
              <p:cNvSpPr/>
              <p:nvPr/>
            </p:nvSpPr>
            <p:spPr>
              <a:xfrm>
                <a:off x="6316560" y="4147560"/>
                <a:ext cx="321840" cy="3384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8" name="Group 64"/>
              <p:cNvGrpSpPr/>
              <p:nvPr/>
            </p:nvGrpSpPr>
            <p:grpSpPr>
              <a:xfrm>
                <a:off x="6459480" y="4022280"/>
                <a:ext cx="198360" cy="113040"/>
                <a:chOff x="6459480" y="4022280"/>
                <a:chExt cx="198360" cy="113040"/>
              </a:xfrm>
            </p:grpSpPr>
            <p:sp>
              <p:nvSpPr>
                <p:cNvPr id="1199" name="Line 65"/>
                <p:cNvSpPr/>
                <p:nvPr/>
              </p:nvSpPr>
              <p:spPr>
                <a:xfrm flipV="1">
                  <a:off x="6459480" y="4040280"/>
                  <a:ext cx="64080" cy="9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66"/>
                <p:cNvSpPr/>
                <p:nvPr/>
              </p:nvSpPr>
              <p:spPr>
                <a:xfrm>
                  <a:off x="6521040" y="4032360"/>
                  <a:ext cx="64080" cy="6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67"/>
                <p:cNvSpPr/>
                <p:nvPr/>
              </p:nvSpPr>
              <p:spPr>
                <a:xfrm flipV="1">
                  <a:off x="6586560" y="4034160"/>
                  <a:ext cx="48240" cy="6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68"/>
                <p:cNvSpPr/>
                <p:nvPr/>
              </p:nvSpPr>
              <p:spPr>
                <a:xfrm>
                  <a:off x="6642720" y="4027680"/>
                  <a:ext cx="1512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69"/>
                <p:cNvSpPr/>
                <p:nvPr/>
              </p:nvSpPr>
              <p:spPr>
                <a:xfrm flipH="1">
                  <a:off x="6600240" y="4022280"/>
                  <a:ext cx="38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4" name="Text Box 92"/>
            <p:cNvSpPr/>
            <p:nvPr/>
          </p:nvSpPr>
          <p:spPr>
            <a:xfrm>
              <a:off x="7775640" y="2004840"/>
              <a:ext cx="604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С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93"/>
            <p:cNvSpPr/>
            <p:nvPr/>
          </p:nvSpPr>
          <p:spPr>
            <a:xfrm>
              <a:off x="7775640" y="2320920"/>
              <a:ext cx="604800" cy="410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51"/>
            <p:cNvSpPr/>
            <p:nvPr/>
          </p:nvSpPr>
          <p:spPr>
            <a:xfrm>
              <a:off x="6994440" y="2014560"/>
              <a:ext cx="4669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ОВ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52"/>
            <p:cNvSpPr/>
            <p:nvPr/>
          </p:nvSpPr>
          <p:spPr>
            <a:xfrm>
              <a:off x="6994440" y="2320920"/>
              <a:ext cx="471600" cy="410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53"/>
            <p:cNvSpPr/>
            <p:nvPr/>
          </p:nvSpPr>
          <p:spPr>
            <a:xfrm>
              <a:off x="6994440" y="5970600"/>
              <a:ext cx="45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94"/>
            <p:cNvGrpSpPr/>
            <p:nvPr/>
          </p:nvGrpSpPr>
          <p:grpSpPr>
            <a:xfrm>
              <a:off x="7924680" y="4015800"/>
              <a:ext cx="348120" cy="460800"/>
              <a:chOff x="7924680" y="4015800"/>
              <a:chExt cx="348120" cy="460800"/>
            </a:xfrm>
          </p:grpSpPr>
          <p:sp>
            <p:nvSpPr>
              <p:cNvPr id="1210" name="Oval 195"/>
              <p:cNvSpPr/>
              <p:nvPr/>
            </p:nvSpPr>
            <p:spPr>
              <a:xfrm>
                <a:off x="7924680" y="4140360"/>
                <a:ext cx="327960" cy="336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Group 196"/>
              <p:cNvGrpSpPr/>
              <p:nvPr/>
            </p:nvGrpSpPr>
            <p:grpSpPr>
              <a:xfrm>
                <a:off x="8070120" y="4015800"/>
                <a:ext cx="202680" cy="112320"/>
                <a:chOff x="8070120" y="4015800"/>
                <a:chExt cx="202680" cy="112320"/>
              </a:xfrm>
            </p:grpSpPr>
            <p:sp>
              <p:nvSpPr>
                <p:cNvPr id="1212" name="Line 197"/>
                <p:cNvSpPr/>
                <p:nvPr/>
              </p:nvSpPr>
              <p:spPr>
                <a:xfrm flipV="1">
                  <a:off x="8070120" y="4032720"/>
                  <a:ext cx="65880" cy="95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Line 198"/>
                <p:cNvSpPr/>
                <p:nvPr/>
              </p:nvSpPr>
              <p:spPr>
                <a:xfrm>
                  <a:off x="8133120" y="4025880"/>
                  <a:ext cx="6552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99"/>
                <p:cNvSpPr/>
                <p:nvPr/>
              </p:nvSpPr>
              <p:spPr>
                <a:xfrm flipV="1">
                  <a:off x="8200080" y="4027320"/>
                  <a:ext cx="49320" cy="6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200"/>
                <p:cNvSpPr/>
                <p:nvPr/>
              </p:nvSpPr>
              <p:spPr>
                <a:xfrm>
                  <a:off x="8256960" y="4021200"/>
                  <a:ext cx="158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201"/>
                <p:cNvSpPr/>
                <p:nvPr/>
              </p:nvSpPr>
              <p:spPr>
                <a:xfrm flipH="1">
                  <a:off x="8214120" y="4015800"/>
                  <a:ext cx="3960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Group 302"/>
            <p:cNvGrpSpPr/>
            <p:nvPr/>
          </p:nvGrpSpPr>
          <p:grpSpPr>
            <a:xfrm>
              <a:off x="6288480" y="5359320"/>
              <a:ext cx="387360" cy="579600"/>
              <a:chOff x="6288480" y="5359320"/>
              <a:chExt cx="387360" cy="579600"/>
            </a:xfrm>
          </p:grpSpPr>
          <p:grpSp>
            <p:nvGrpSpPr>
              <p:cNvPr id="1218" name="Group 303"/>
              <p:cNvGrpSpPr/>
              <p:nvPr/>
            </p:nvGrpSpPr>
            <p:grpSpPr>
              <a:xfrm>
                <a:off x="6349320" y="5482440"/>
                <a:ext cx="326520" cy="456480"/>
                <a:chOff x="6349320" y="5482440"/>
                <a:chExt cx="326520" cy="456480"/>
              </a:xfrm>
            </p:grpSpPr>
            <p:sp>
              <p:nvSpPr>
                <p:cNvPr id="1219" name="Line 304"/>
                <p:cNvSpPr/>
                <p:nvPr/>
              </p:nvSpPr>
              <p:spPr>
                <a:xfrm flipV="1">
                  <a:off x="6675840" y="548244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AutoShape 305"/>
                <p:cNvSpPr/>
                <p:nvPr/>
              </p:nvSpPr>
              <p:spPr>
                <a:xfrm flipV="1" rot="5400000">
                  <a:off x="6331320" y="5789880"/>
                  <a:ext cx="166680" cy="130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" bIns="-18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306"/>
                <p:cNvSpPr/>
                <p:nvPr/>
              </p:nvSpPr>
              <p:spPr>
                <a:xfrm>
                  <a:off x="6480000" y="5860080"/>
                  <a:ext cx="195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2" name="Oval 307"/>
              <p:cNvSpPr/>
              <p:nvPr/>
            </p:nvSpPr>
            <p:spPr>
              <a:xfrm flipV="1">
                <a:off x="6295680" y="5363640"/>
                <a:ext cx="24948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Rectangle 308"/>
              <p:cNvSpPr/>
              <p:nvPr/>
            </p:nvSpPr>
            <p:spPr>
              <a:xfrm flipV="1">
                <a:off x="6288480" y="5359320"/>
                <a:ext cx="14148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Oval 309"/>
              <p:cNvSpPr/>
              <p:nvPr/>
            </p:nvSpPr>
            <p:spPr>
              <a:xfrm flipV="1">
                <a:off x="6407640" y="5493240"/>
                <a:ext cx="972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310"/>
              <p:cNvSpPr/>
              <p:nvPr/>
            </p:nvSpPr>
            <p:spPr>
              <a:xfrm>
                <a:off x="6545160" y="5482080"/>
                <a:ext cx="13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55"/>
            <p:cNvGrpSpPr/>
            <p:nvPr/>
          </p:nvGrpSpPr>
          <p:grpSpPr>
            <a:xfrm>
              <a:off x="7848720" y="5343480"/>
              <a:ext cx="453960" cy="327240"/>
              <a:chOff x="7848720" y="5343480"/>
              <a:chExt cx="453960" cy="327240"/>
            </a:xfrm>
          </p:grpSpPr>
          <p:grpSp>
            <p:nvGrpSpPr>
              <p:cNvPr id="1227" name="Group 356"/>
              <p:cNvGrpSpPr/>
              <p:nvPr/>
            </p:nvGrpSpPr>
            <p:grpSpPr>
              <a:xfrm>
                <a:off x="7848720" y="5343480"/>
                <a:ext cx="453960" cy="306000"/>
                <a:chOff x="7848720" y="5343480"/>
                <a:chExt cx="453960" cy="306000"/>
              </a:xfrm>
            </p:grpSpPr>
            <p:sp>
              <p:nvSpPr>
                <p:cNvPr id="1228" name="Oval 357"/>
                <p:cNvSpPr/>
                <p:nvPr/>
              </p:nvSpPr>
              <p:spPr>
                <a:xfrm flipV="1">
                  <a:off x="7857000" y="5347800"/>
                  <a:ext cx="292320" cy="25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Rectangle 358"/>
                <p:cNvSpPr/>
                <p:nvPr/>
              </p:nvSpPr>
              <p:spPr>
                <a:xfrm flipV="1">
                  <a:off x="7848720" y="5343480"/>
                  <a:ext cx="165600" cy="30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Oval 359"/>
                <p:cNvSpPr/>
                <p:nvPr/>
              </p:nvSpPr>
              <p:spPr>
                <a:xfrm flipV="1">
                  <a:off x="7987680" y="5478480"/>
                  <a:ext cx="11520" cy="100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8520" bIns="-38520"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360"/>
                <p:cNvSpPr/>
                <p:nvPr/>
              </p:nvSpPr>
              <p:spPr>
                <a:xfrm>
                  <a:off x="8149680" y="5466600"/>
                  <a:ext cx="153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Line 361"/>
              <p:cNvSpPr/>
              <p:nvPr/>
            </p:nvSpPr>
            <p:spPr>
              <a:xfrm>
                <a:off x="8300520" y="5472720"/>
                <a:ext cx="0" cy="19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371"/>
            <p:cNvGrpSpPr/>
            <p:nvPr/>
          </p:nvGrpSpPr>
          <p:grpSpPr>
            <a:xfrm>
              <a:off x="7054920" y="5359320"/>
              <a:ext cx="361800" cy="579600"/>
              <a:chOff x="7054920" y="5359320"/>
              <a:chExt cx="361800" cy="579600"/>
            </a:xfrm>
          </p:grpSpPr>
          <p:grpSp>
            <p:nvGrpSpPr>
              <p:cNvPr id="1234" name="Group 372"/>
              <p:cNvGrpSpPr/>
              <p:nvPr/>
            </p:nvGrpSpPr>
            <p:grpSpPr>
              <a:xfrm>
                <a:off x="7111800" y="5482440"/>
                <a:ext cx="304920" cy="456480"/>
                <a:chOff x="7111800" y="5482440"/>
                <a:chExt cx="304920" cy="456480"/>
              </a:xfrm>
            </p:grpSpPr>
            <p:sp>
              <p:nvSpPr>
                <p:cNvPr id="1235" name="Line 373"/>
                <p:cNvSpPr/>
                <p:nvPr/>
              </p:nvSpPr>
              <p:spPr>
                <a:xfrm flipV="1">
                  <a:off x="7416720" y="5482440"/>
                  <a:ext cx="0" cy="37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AutoShape 374"/>
                <p:cNvSpPr/>
                <p:nvPr/>
              </p:nvSpPr>
              <p:spPr>
                <a:xfrm flipV="1" rot="5400000">
                  <a:off x="7089480" y="5794200"/>
                  <a:ext cx="166680" cy="122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680" bIns="-468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375"/>
                <p:cNvSpPr/>
                <p:nvPr/>
              </p:nvSpPr>
              <p:spPr>
                <a:xfrm>
                  <a:off x="7233840" y="5860080"/>
                  <a:ext cx="182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8" name="Oval 376"/>
              <p:cNvSpPr/>
              <p:nvPr/>
            </p:nvSpPr>
            <p:spPr>
              <a:xfrm flipV="1">
                <a:off x="7061760" y="5363640"/>
                <a:ext cx="23292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377"/>
              <p:cNvSpPr/>
              <p:nvPr/>
            </p:nvSpPr>
            <p:spPr>
              <a:xfrm flipV="1">
                <a:off x="7054920" y="5359320"/>
                <a:ext cx="13212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Oval 378"/>
              <p:cNvSpPr/>
              <p:nvPr/>
            </p:nvSpPr>
            <p:spPr>
              <a:xfrm flipV="1">
                <a:off x="7166160" y="5493240"/>
                <a:ext cx="900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379"/>
              <p:cNvSpPr/>
              <p:nvPr/>
            </p:nvSpPr>
            <p:spPr>
              <a:xfrm>
                <a:off x="7294680" y="5482080"/>
                <a:ext cx="12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Group 9"/>
            <p:cNvGrpSpPr/>
            <p:nvPr/>
          </p:nvGrpSpPr>
          <p:grpSpPr>
            <a:xfrm>
              <a:off x="11428560" y="1941480"/>
              <a:ext cx="531720" cy="4484520"/>
              <a:chOff x="11428560" y="1941480"/>
              <a:chExt cx="531720" cy="4484520"/>
            </a:xfrm>
          </p:grpSpPr>
          <p:grpSp>
            <p:nvGrpSpPr>
              <p:cNvPr id="1243" name="Group 10"/>
              <p:cNvGrpSpPr/>
              <p:nvPr/>
            </p:nvGrpSpPr>
            <p:grpSpPr>
              <a:xfrm>
                <a:off x="11502360" y="1941480"/>
                <a:ext cx="457920" cy="4332600"/>
                <a:chOff x="11502360" y="1941480"/>
                <a:chExt cx="457920" cy="4332600"/>
              </a:xfrm>
            </p:grpSpPr>
            <p:sp>
              <p:nvSpPr>
                <p:cNvPr id="1244" name="Text Box 11"/>
                <p:cNvSpPr/>
                <p:nvPr/>
              </p:nvSpPr>
              <p:spPr>
                <a:xfrm>
                  <a:off x="11502360" y="1941480"/>
                  <a:ext cx="457920" cy="295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Text Box 12"/>
                <p:cNvSpPr/>
                <p:nvPr/>
              </p:nvSpPr>
              <p:spPr>
                <a:xfrm>
                  <a:off x="11502360" y="2236680"/>
                  <a:ext cx="457920" cy="403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6" name="Text Box 13"/>
              <p:cNvSpPr/>
              <p:nvPr/>
            </p:nvSpPr>
            <p:spPr>
              <a:xfrm>
                <a:off x="11466000" y="2017440"/>
                <a:ext cx="457920" cy="390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Text Box 14"/>
              <p:cNvSpPr/>
              <p:nvPr/>
            </p:nvSpPr>
            <p:spPr>
              <a:xfrm>
                <a:off x="11466000" y="2408400"/>
                <a:ext cx="448200" cy="3926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Text Box 15"/>
              <p:cNvSpPr/>
              <p:nvPr/>
            </p:nvSpPr>
            <p:spPr>
              <a:xfrm>
                <a:off x="11428560" y="2015640"/>
                <a:ext cx="457920" cy="303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Отделы ГОЧС гор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и районов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Text Box 16"/>
              <p:cNvSpPr/>
              <p:nvPr/>
            </p:nvSpPr>
            <p:spPr>
              <a:xfrm>
                <a:off x="11428560" y="2321280"/>
                <a:ext cx="455760" cy="4104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0" name="Group 17"/>
              <p:cNvGrpSpPr/>
              <p:nvPr/>
            </p:nvGrpSpPr>
            <p:grpSpPr>
              <a:xfrm>
                <a:off x="11448720" y="5361840"/>
                <a:ext cx="392400" cy="579240"/>
                <a:chOff x="11448720" y="5361840"/>
                <a:chExt cx="392400" cy="579240"/>
              </a:xfrm>
            </p:grpSpPr>
            <p:grpSp>
              <p:nvGrpSpPr>
                <p:cNvPr id="1251" name="Group 18"/>
                <p:cNvGrpSpPr/>
                <p:nvPr/>
              </p:nvGrpSpPr>
              <p:grpSpPr>
                <a:xfrm>
                  <a:off x="11510280" y="5484600"/>
                  <a:ext cx="330480" cy="456480"/>
                  <a:chOff x="11510280" y="5484600"/>
                  <a:chExt cx="330480" cy="456480"/>
                </a:xfrm>
              </p:grpSpPr>
              <p:sp>
                <p:nvSpPr>
                  <p:cNvPr id="1252" name="Line 19"/>
                  <p:cNvSpPr/>
                  <p:nvPr/>
                </p:nvSpPr>
                <p:spPr>
                  <a:xfrm flipV="1">
                    <a:off x="11840760" y="5484600"/>
                    <a:ext cx="0" cy="37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AutoShape 20"/>
                  <p:cNvSpPr/>
                  <p:nvPr/>
                </p:nvSpPr>
                <p:spPr>
                  <a:xfrm flipV="1" rot="5400000">
                    <a:off x="11493000" y="5791320"/>
                    <a:ext cx="166680" cy="132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800" bIns="-1800" anchor="t" vert="eaVert">
                    <a:noAutofit/>
                  </a:bodyPr>
                  <a:p>
                    <a:pPr>
                      <a:tabLst>
                        <a:tab algn="l" pos="0"/>
                        <a:tab algn="l" pos="912960"/>
                        <a:tab algn="l" pos="1825560"/>
                        <a:tab algn="l" pos="2738520"/>
                        <a:tab algn="l" pos="3651120"/>
                        <a:tab algn="l" pos="4564080"/>
                        <a:tab algn="l" pos="5477040"/>
                        <a:tab algn="l" pos="6389640"/>
                        <a:tab algn="l" pos="7302600"/>
                        <a:tab algn="l" pos="8215200"/>
                        <a:tab algn="l" pos="9128160"/>
                        <a:tab algn="l" pos="10040760"/>
                        <a:tab algn="l" pos="1095372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21"/>
                  <p:cNvSpPr/>
                  <p:nvPr/>
                </p:nvSpPr>
                <p:spPr>
                  <a:xfrm>
                    <a:off x="11642400" y="5862240"/>
                    <a:ext cx="198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5" name="Oval 22"/>
                <p:cNvSpPr/>
                <p:nvPr/>
              </p:nvSpPr>
              <p:spPr>
                <a:xfrm flipV="1">
                  <a:off x="11456640" y="5367240"/>
                  <a:ext cx="252360" cy="254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Rectangle 23"/>
                <p:cNvSpPr/>
                <p:nvPr/>
              </p:nvSpPr>
              <p:spPr>
                <a:xfrm flipV="1">
                  <a:off x="11448720" y="5361480"/>
                  <a:ext cx="14328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24"/>
                <p:cNvSpPr/>
                <p:nvPr/>
              </p:nvSpPr>
              <p:spPr>
                <a:xfrm flipV="1">
                  <a:off x="11568960" y="5495760"/>
                  <a:ext cx="10080" cy="97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8880" bIns="-38880" anchor="t" rot="10800000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25"/>
                <p:cNvSpPr/>
                <p:nvPr/>
              </p:nvSpPr>
              <p:spPr>
                <a:xfrm>
                  <a:off x="11709000" y="5484960"/>
                  <a:ext cx="13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9" name="Group 27"/>
            <p:cNvGrpSpPr/>
            <p:nvPr/>
          </p:nvGrpSpPr>
          <p:grpSpPr>
            <a:xfrm>
              <a:off x="10818720" y="1941480"/>
              <a:ext cx="457200" cy="4333680"/>
              <a:chOff x="10818720" y="1941480"/>
              <a:chExt cx="457200" cy="4333680"/>
            </a:xfrm>
          </p:grpSpPr>
          <p:sp>
            <p:nvSpPr>
              <p:cNvPr id="1260" name="Text Box 28"/>
              <p:cNvSpPr/>
              <p:nvPr/>
            </p:nvSpPr>
            <p:spPr>
              <a:xfrm>
                <a:off x="10818720" y="1941480"/>
                <a:ext cx="457200" cy="295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Text Box 29"/>
              <p:cNvSpPr/>
              <p:nvPr/>
            </p:nvSpPr>
            <p:spPr>
              <a:xfrm>
                <a:off x="10818720" y="2236680"/>
                <a:ext cx="457200" cy="4038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2" name="Text Box 30"/>
            <p:cNvSpPr/>
            <p:nvPr/>
          </p:nvSpPr>
          <p:spPr>
            <a:xfrm>
              <a:off x="10780560" y="2016000"/>
              <a:ext cx="462240" cy="39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 Box 31"/>
            <p:cNvSpPr/>
            <p:nvPr/>
          </p:nvSpPr>
          <p:spPr>
            <a:xfrm>
              <a:off x="10780560" y="2408400"/>
              <a:ext cx="451080" cy="392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32"/>
            <p:cNvSpPr/>
            <p:nvPr/>
          </p:nvSpPr>
          <p:spPr>
            <a:xfrm>
              <a:off x="10742760" y="2054160"/>
              <a:ext cx="460080" cy="96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ЧС и ПБ город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 район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3"/>
            <p:cNvSpPr/>
            <p:nvPr/>
          </p:nvSpPr>
          <p:spPr>
            <a:xfrm>
              <a:off x="10742760" y="2763720"/>
              <a:ext cx="460080" cy="366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34"/>
            <p:cNvGrpSpPr/>
            <p:nvPr/>
          </p:nvGrpSpPr>
          <p:grpSpPr>
            <a:xfrm>
              <a:off x="10765440" y="5361120"/>
              <a:ext cx="393480" cy="580320"/>
              <a:chOff x="10765440" y="5361120"/>
              <a:chExt cx="393480" cy="580320"/>
            </a:xfrm>
          </p:grpSpPr>
          <p:grpSp>
            <p:nvGrpSpPr>
              <p:cNvPr id="1267" name="Group 35"/>
              <p:cNvGrpSpPr/>
              <p:nvPr/>
            </p:nvGrpSpPr>
            <p:grpSpPr>
              <a:xfrm>
                <a:off x="10826640" y="5483880"/>
                <a:ext cx="331920" cy="457560"/>
                <a:chOff x="10826640" y="5483880"/>
                <a:chExt cx="331920" cy="457560"/>
              </a:xfrm>
            </p:grpSpPr>
            <p:sp>
              <p:nvSpPr>
                <p:cNvPr id="1268" name="Line 36"/>
                <p:cNvSpPr/>
                <p:nvPr/>
              </p:nvSpPr>
              <p:spPr>
                <a:xfrm flipV="1">
                  <a:off x="11158560" y="5483880"/>
                  <a:ext cx="0" cy="37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AutoShape 37"/>
                <p:cNvSpPr/>
                <p:nvPr/>
              </p:nvSpPr>
              <p:spPr>
                <a:xfrm flipV="1" rot="5400000">
                  <a:off x="10809360" y="5791320"/>
                  <a:ext cx="167040" cy="132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38"/>
                <p:cNvSpPr/>
                <p:nvPr/>
              </p:nvSpPr>
              <p:spPr>
                <a:xfrm>
                  <a:off x="10959480" y="5862600"/>
                  <a:ext cx="199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1" name="Oval 39"/>
              <p:cNvSpPr/>
              <p:nvPr/>
            </p:nvSpPr>
            <p:spPr>
              <a:xfrm flipV="1">
                <a:off x="10772280" y="5365440"/>
                <a:ext cx="25344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40"/>
              <p:cNvSpPr/>
              <p:nvPr/>
            </p:nvSpPr>
            <p:spPr>
              <a:xfrm flipV="1">
                <a:off x="10765440" y="5361120"/>
                <a:ext cx="143640" cy="30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41"/>
              <p:cNvSpPr/>
              <p:nvPr/>
            </p:nvSpPr>
            <p:spPr>
              <a:xfrm flipV="1">
                <a:off x="10885680" y="54961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520" bIns="-3852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42"/>
              <p:cNvSpPr/>
              <p:nvPr/>
            </p:nvSpPr>
            <p:spPr>
              <a:xfrm>
                <a:off x="11026080" y="5484240"/>
                <a:ext cx="13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44"/>
            <p:cNvGrpSpPr/>
            <p:nvPr/>
          </p:nvGrpSpPr>
          <p:grpSpPr>
            <a:xfrm>
              <a:off x="8761320" y="1941480"/>
              <a:ext cx="457200" cy="4333680"/>
              <a:chOff x="8761320" y="1941480"/>
              <a:chExt cx="457200" cy="4333680"/>
            </a:xfrm>
          </p:grpSpPr>
          <p:sp>
            <p:nvSpPr>
              <p:cNvPr id="1276" name="Text Box 45"/>
              <p:cNvSpPr/>
              <p:nvPr/>
            </p:nvSpPr>
            <p:spPr>
              <a:xfrm>
                <a:off x="8761320" y="1941480"/>
                <a:ext cx="457200" cy="295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Text Box 46"/>
              <p:cNvSpPr/>
              <p:nvPr/>
            </p:nvSpPr>
            <p:spPr>
              <a:xfrm>
                <a:off x="8761320" y="2236680"/>
                <a:ext cx="457200" cy="4038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Text Box 47"/>
            <p:cNvSpPr/>
            <p:nvPr/>
          </p:nvSpPr>
          <p:spPr>
            <a:xfrm>
              <a:off x="8723160" y="2016000"/>
              <a:ext cx="460440" cy="39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48"/>
            <p:cNvSpPr/>
            <p:nvPr/>
          </p:nvSpPr>
          <p:spPr>
            <a:xfrm>
              <a:off x="8723160" y="2408400"/>
              <a:ext cx="449280" cy="392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49"/>
            <p:cNvSpPr/>
            <p:nvPr/>
          </p:nvSpPr>
          <p:spPr>
            <a:xfrm>
              <a:off x="8685360" y="2014560"/>
              <a:ext cx="460080" cy="67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одразделения ПСС «01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-н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50"/>
            <p:cNvSpPr/>
            <p:nvPr/>
          </p:nvSpPr>
          <p:spPr>
            <a:xfrm>
              <a:off x="8685360" y="2693880"/>
              <a:ext cx="455400" cy="373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roup 51"/>
            <p:cNvGrpSpPr/>
            <p:nvPr/>
          </p:nvGrpSpPr>
          <p:grpSpPr>
            <a:xfrm>
              <a:off x="8707320" y="5361120"/>
              <a:ext cx="389160" cy="580320"/>
              <a:chOff x="8707320" y="5361120"/>
              <a:chExt cx="389160" cy="580320"/>
            </a:xfrm>
          </p:grpSpPr>
          <p:grpSp>
            <p:nvGrpSpPr>
              <p:cNvPr id="1283" name="Group 52"/>
              <p:cNvGrpSpPr/>
              <p:nvPr/>
            </p:nvGrpSpPr>
            <p:grpSpPr>
              <a:xfrm>
                <a:off x="8768520" y="5483880"/>
                <a:ext cx="327960" cy="457560"/>
                <a:chOff x="8768520" y="5483880"/>
                <a:chExt cx="327960" cy="457560"/>
              </a:xfrm>
            </p:grpSpPr>
            <p:sp>
              <p:nvSpPr>
                <p:cNvPr id="1284" name="Line 53"/>
                <p:cNvSpPr/>
                <p:nvPr/>
              </p:nvSpPr>
              <p:spPr>
                <a:xfrm flipV="1">
                  <a:off x="9096480" y="5483880"/>
                  <a:ext cx="0" cy="37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AutoShape 54"/>
                <p:cNvSpPr/>
                <p:nvPr/>
              </p:nvSpPr>
              <p:spPr>
                <a:xfrm flipV="1" rot="5400000">
                  <a:off x="8750520" y="5792400"/>
                  <a:ext cx="167040" cy="13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" bIns="-180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55"/>
                <p:cNvSpPr/>
                <p:nvPr/>
              </p:nvSpPr>
              <p:spPr>
                <a:xfrm>
                  <a:off x="8899560" y="5862600"/>
                  <a:ext cx="196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7" name="Oval 56"/>
              <p:cNvSpPr/>
              <p:nvPr/>
            </p:nvSpPr>
            <p:spPr>
              <a:xfrm flipV="1">
                <a:off x="8714520" y="5365440"/>
                <a:ext cx="25056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57"/>
              <p:cNvSpPr/>
              <p:nvPr/>
            </p:nvSpPr>
            <p:spPr>
              <a:xfrm flipV="1">
                <a:off x="8707320" y="5361120"/>
                <a:ext cx="142200" cy="30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58"/>
              <p:cNvSpPr/>
              <p:nvPr/>
            </p:nvSpPr>
            <p:spPr>
              <a:xfrm flipV="1">
                <a:off x="8826840" y="5496120"/>
                <a:ext cx="9720" cy="10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520" bIns="-3852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59"/>
              <p:cNvSpPr/>
              <p:nvPr/>
            </p:nvSpPr>
            <p:spPr>
              <a:xfrm>
                <a:off x="8965080" y="5484240"/>
                <a:ext cx="131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Rectangle 98"/>
            <p:cNvSpPr/>
            <p:nvPr/>
          </p:nvSpPr>
          <p:spPr>
            <a:xfrm>
              <a:off x="9982080" y="4537080"/>
              <a:ext cx="228600" cy="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113"/>
            <p:cNvSpPr/>
            <p:nvPr/>
          </p:nvSpPr>
          <p:spPr>
            <a:xfrm>
              <a:off x="9977400" y="1941480"/>
              <a:ext cx="46044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114"/>
            <p:cNvSpPr/>
            <p:nvPr/>
          </p:nvSpPr>
          <p:spPr>
            <a:xfrm>
              <a:off x="9977400" y="2332080"/>
              <a:ext cx="460440" cy="3943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115"/>
            <p:cNvSpPr/>
            <p:nvPr/>
          </p:nvSpPr>
          <p:spPr>
            <a:xfrm>
              <a:off x="9944280" y="2016000"/>
              <a:ext cx="455400" cy="39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116"/>
            <p:cNvSpPr/>
            <p:nvPr/>
          </p:nvSpPr>
          <p:spPr>
            <a:xfrm>
              <a:off x="9944280" y="2408400"/>
              <a:ext cx="455400" cy="394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117"/>
            <p:cNvSpPr/>
            <p:nvPr/>
          </p:nvSpPr>
          <p:spPr>
            <a:xfrm>
              <a:off x="9904320" y="2016000"/>
              <a:ext cx="461880" cy="46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ГУМЧС кат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город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118"/>
            <p:cNvSpPr/>
            <p:nvPr/>
          </p:nvSpPr>
          <p:spPr>
            <a:xfrm>
              <a:off x="9904320" y="2481120"/>
              <a:ext cx="461880" cy="3945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Group 119"/>
            <p:cNvGrpSpPr/>
            <p:nvPr/>
          </p:nvGrpSpPr>
          <p:grpSpPr>
            <a:xfrm>
              <a:off x="9966240" y="4025160"/>
              <a:ext cx="346320" cy="461160"/>
              <a:chOff x="9966240" y="4025160"/>
              <a:chExt cx="346320" cy="461160"/>
            </a:xfrm>
          </p:grpSpPr>
          <p:sp>
            <p:nvSpPr>
              <p:cNvPr id="1299" name="Oval 120"/>
              <p:cNvSpPr/>
              <p:nvPr/>
            </p:nvSpPr>
            <p:spPr>
              <a:xfrm>
                <a:off x="9966240" y="4149720"/>
                <a:ext cx="326520" cy="336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0" name="Group 121"/>
              <p:cNvGrpSpPr/>
              <p:nvPr/>
            </p:nvGrpSpPr>
            <p:grpSpPr>
              <a:xfrm>
                <a:off x="10111320" y="4025160"/>
                <a:ext cx="201240" cy="112320"/>
                <a:chOff x="10111320" y="4025160"/>
                <a:chExt cx="201240" cy="112320"/>
              </a:xfrm>
            </p:grpSpPr>
            <p:sp>
              <p:nvSpPr>
                <p:cNvPr id="1301" name="Line 122"/>
                <p:cNvSpPr/>
                <p:nvPr/>
              </p:nvSpPr>
              <p:spPr>
                <a:xfrm flipV="1">
                  <a:off x="10111320" y="4042440"/>
                  <a:ext cx="65520" cy="9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23"/>
                <p:cNvSpPr/>
                <p:nvPr/>
              </p:nvSpPr>
              <p:spPr>
                <a:xfrm>
                  <a:off x="10173960" y="4035240"/>
                  <a:ext cx="6516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24"/>
                <p:cNvSpPr/>
                <p:nvPr/>
              </p:nvSpPr>
              <p:spPr>
                <a:xfrm flipV="1">
                  <a:off x="10240920" y="4036680"/>
                  <a:ext cx="48960" cy="6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Line 125"/>
                <p:cNvSpPr/>
                <p:nvPr/>
              </p:nvSpPr>
              <p:spPr>
                <a:xfrm>
                  <a:off x="10297080" y="4030560"/>
                  <a:ext cx="154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26"/>
                <p:cNvSpPr/>
                <p:nvPr/>
              </p:nvSpPr>
              <p:spPr>
                <a:xfrm flipH="1">
                  <a:off x="10254240" y="4025160"/>
                  <a:ext cx="3924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6" name="Text Box 148"/>
            <p:cNvSpPr/>
            <p:nvPr/>
          </p:nvSpPr>
          <p:spPr>
            <a:xfrm>
              <a:off x="9904320" y="4905360"/>
              <a:ext cx="45576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362"/>
            <p:cNvGrpSpPr/>
            <p:nvPr/>
          </p:nvGrpSpPr>
          <p:grpSpPr>
            <a:xfrm>
              <a:off x="9937800" y="5364000"/>
              <a:ext cx="393120" cy="577800"/>
              <a:chOff x="9937800" y="5364000"/>
              <a:chExt cx="393120" cy="577800"/>
            </a:xfrm>
          </p:grpSpPr>
          <p:grpSp>
            <p:nvGrpSpPr>
              <p:cNvPr id="1308" name="Group 363"/>
              <p:cNvGrpSpPr/>
              <p:nvPr/>
            </p:nvGrpSpPr>
            <p:grpSpPr>
              <a:xfrm>
                <a:off x="9999000" y="5486400"/>
                <a:ext cx="331920" cy="455400"/>
                <a:chOff x="9999000" y="5486400"/>
                <a:chExt cx="331920" cy="455400"/>
              </a:xfrm>
            </p:grpSpPr>
            <p:sp>
              <p:nvSpPr>
                <p:cNvPr id="1309" name="Line 364"/>
                <p:cNvSpPr/>
                <p:nvPr/>
              </p:nvSpPr>
              <p:spPr>
                <a:xfrm flipV="1">
                  <a:off x="10330920" y="5486400"/>
                  <a:ext cx="0" cy="37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AutoShape 365"/>
                <p:cNvSpPr/>
                <p:nvPr/>
              </p:nvSpPr>
              <p:spPr>
                <a:xfrm flipV="1" rot="5400000">
                  <a:off x="9982080" y="5792040"/>
                  <a:ext cx="166320" cy="132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 vert="eaVer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366"/>
                <p:cNvSpPr/>
                <p:nvPr/>
              </p:nvSpPr>
              <p:spPr>
                <a:xfrm>
                  <a:off x="10131840" y="5863320"/>
                  <a:ext cx="199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2" name="Oval 367"/>
              <p:cNvSpPr/>
              <p:nvPr/>
            </p:nvSpPr>
            <p:spPr>
              <a:xfrm flipV="1">
                <a:off x="9945000" y="5368320"/>
                <a:ext cx="25344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368"/>
              <p:cNvSpPr/>
              <p:nvPr/>
            </p:nvSpPr>
            <p:spPr>
              <a:xfrm flipV="1">
                <a:off x="9937800" y="5364000"/>
                <a:ext cx="14364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Oval 369"/>
              <p:cNvSpPr/>
              <p:nvPr/>
            </p:nvSpPr>
            <p:spPr>
              <a:xfrm flipV="1">
                <a:off x="10058040" y="5497560"/>
                <a:ext cx="10080" cy="97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t" rot="10800000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370"/>
              <p:cNvSpPr/>
              <p:nvPr/>
            </p:nvSpPr>
            <p:spPr>
              <a:xfrm>
                <a:off x="10198440" y="5486760"/>
                <a:ext cx="13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6" name="Line 396"/>
            <p:cNvSpPr/>
            <p:nvPr/>
          </p:nvSpPr>
          <p:spPr>
            <a:xfrm>
              <a:off x="533520" y="5659560"/>
              <a:ext cx="117331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4"/>
            <p:cNvSpPr/>
            <p:nvPr/>
          </p:nvSpPr>
          <p:spPr>
            <a:xfrm>
              <a:off x="609480" y="31305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288"/>
            <p:cNvSpPr/>
            <p:nvPr/>
          </p:nvSpPr>
          <p:spPr>
            <a:xfrm>
              <a:off x="2135160" y="3637080"/>
              <a:ext cx="4557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РЦ 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97"/>
            <p:cNvSpPr/>
            <p:nvPr/>
          </p:nvSpPr>
          <p:spPr>
            <a:xfrm flipH="1">
              <a:off x="1549440" y="3930480"/>
              <a:ext cx="1071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89"/>
            <p:cNvSpPr/>
            <p:nvPr/>
          </p:nvSpPr>
          <p:spPr>
            <a:xfrm>
              <a:off x="11658600" y="3602160"/>
              <a:ext cx="98892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/с №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ГУ 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р/с №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ГУ 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301"/>
            <p:cNvSpPr/>
            <p:nvPr/>
          </p:nvSpPr>
          <p:spPr>
            <a:xfrm>
              <a:off x="1649520" y="4497480"/>
              <a:ext cx="1061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301"/>
            <p:cNvSpPr/>
            <p:nvPr/>
          </p:nvSpPr>
          <p:spPr>
            <a:xfrm>
              <a:off x="762120" y="4614840"/>
              <a:ext cx="510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442"/>
            <p:cNvSpPr/>
            <p:nvPr/>
          </p:nvSpPr>
          <p:spPr>
            <a:xfrm>
              <a:off x="5867280" y="4614840"/>
              <a:ext cx="0" cy="409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441"/>
            <p:cNvSpPr/>
            <p:nvPr/>
          </p:nvSpPr>
          <p:spPr>
            <a:xfrm flipV="1">
              <a:off x="5867280" y="8670960"/>
              <a:ext cx="472284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442"/>
            <p:cNvSpPr/>
            <p:nvPr/>
          </p:nvSpPr>
          <p:spPr>
            <a:xfrm>
              <a:off x="6091200" y="4492800"/>
              <a:ext cx="0" cy="37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437"/>
            <p:cNvSpPr/>
            <p:nvPr/>
          </p:nvSpPr>
          <p:spPr>
            <a:xfrm>
              <a:off x="5638680" y="5665680"/>
              <a:ext cx="0" cy="250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442"/>
            <p:cNvSpPr/>
            <p:nvPr/>
          </p:nvSpPr>
          <p:spPr>
            <a:xfrm>
              <a:off x="7618320" y="3949560"/>
              <a:ext cx="0" cy="374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264"/>
          <p:cNvSpPr/>
          <p:nvPr/>
        </p:nvSpPr>
        <p:spPr>
          <a:xfrm>
            <a:off x="-7920" y="1055520"/>
            <a:ext cx="1280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рганизации связи с органами управления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й подсистемы РСЧС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"/>
          <p:cNvSpPr/>
          <p:nvPr/>
        </p:nvSpPr>
        <p:spPr>
          <a:xfrm>
            <a:off x="-7920" y="1128600"/>
            <a:ext cx="12801600" cy="103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рганизации связи с органами управле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й подсистемы РСЧ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4"/>
          <p:cNvSpPr/>
          <p:nvPr/>
        </p:nvSpPr>
        <p:spPr>
          <a:xfrm>
            <a:off x="-7920" y="-23760"/>
            <a:ext cx="1280160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39720" y="119988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5"/>
          <p:cNvGrpSpPr/>
          <p:nvPr/>
        </p:nvGrpSpPr>
        <p:grpSpPr>
          <a:xfrm>
            <a:off x="135000" y="2036880"/>
            <a:ext cx="12568320" cy="7401960"/>
            <a:chOff x="135000" y="2036880"/>
            <a:chExt cx="12568320" cy="7401960"/>
          </a:xfrm>
        </p:grpSpPr>
        <p:sp>
          <p:nvSpPr>
            <p:cNvPr id="1333" name="Rectangle 6"/>
            <p:cNvSpPr/>
            <p:nvPr/>
          </p:nvSpPr>
          <p:spPr>
            <a:xfrm>
              <a:off x="4680000" y="2120760"/>
              <a:ext cx="1503360" cy="7237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7"/>
            <p:cNvSpPr/>
            <p:nvPr/>
          </p:nvSpPr>
          <p:spPr>
            <a:xfrm>
              <a:off x="4665600" y="2889360"/>
              <a:ext cx="15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Text Box 8"/>
            <p:cNvSpPr/>
            <p:nvPr/>
          </p:nvSpPr>
          <p:spPr>
            <a:xfrm>
              <a:off x="4732200" y="2166840"/>
              <a:ext cx="139068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Г ГУ МЧС России по НС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9"/>
            <p:cNvSpPr/>
            <p:nvPr/>
          </p:nvSpPr>
          <p:spPr>
            <a:xfrm>
              <a:off x="5032440" y="9066240"/>
              <a:ext cx="7110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AutoShape 10"/>
            <p:cNvSpPr/>
            <p:nvPr/>
          </p:nvSpPr>
          <p:spPr>
            <a:xfrm flipH="1">
              <a:off x="5232240" y="8669160"/>
              <a:ext cx="68400" cy="244800"/>
            </a:xfrm>
            <a:custGeom>
              <a:avLst/>
              <a:gdLst>
                <a:gd name="textAreaLeft" fmla="*/ 20520 w 68400"/>
                <a:gd name="textAreaRight" fmla="*/ 69120 w 6840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Group 11"/>
            <p:cNvGrpSpPr/>
            <p:nvPr/>
          </p:nvGrpSpPr>
          <p:grpSpPr>
            <a:xfrm>
              <a:off x="5283360" y="8466120"/>
              <a:ext cx="326520" cy="595080"/>
              <a:chOff x="5283360" y="8466120"/>
              <a:chExt cx="326520" cy="595080"/>
            </a:xfrm>
          </p:grpSpPr>
          <p:sp>
            <p:nvSpPr>
              <p:cNvPr id="1339" name="Freeform 12"/>
              <p:cNvSpPr/>
              <p:nvPr/>
            </p:nvSpPr>
            <p:spPr>
              <a:xfrm>
                <a:off x="5283360" y="8466120"/>
                <a:ext cx="326520" cy="2246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22320">
                <a:solidFill>
                  <a:srgbClr val="000000"/>
                </a:solidFill>
                <a:round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13"/>
              <p:cNvSpPr/>
              <p:nvPr/>
            </p:nvSpPr>
            <p:spPr>
              <a:xfrm>
                <a:off x="5433840" y="8791920"/>
                <a:ext cx="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14"/>
              <p:cNvSpPr/>
              <p:nvPr/>
            </p:nvSpPr>
            <p:spPr>
              <a:xfrm>
                <a:off x="5291280" y="879192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15"/>
            <p:cNvGrpSpPr/>
            <p:nvPr/>
          </p:nvGrpSpPr>
          <p:grpSpPr>
            <a:xfrm>
              <a:off x="4888080" y="3239640"/>
              <a:ext cx="350280" cy="584280"/>
              <a:chOff x="4888080" y="3239640"/>
              <a:chExt cx="350280" cy="584280"/>
            </a:xfrm>
          </p:grpSpPr>
          <p:sp>
            <p:nvSpPr>
              <p:cNvPr id="1343" name="AutoShape 16"/>
              <p:cNvSpPr/>
              <p:nvPr/>
            </p:nvSpPr>
            <p:spPr>
              <a:xfrm>
                <a:off x="4888080" y="3472920"/>
                <a:ext cx="33228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7"/>
              <p:cNvSpPr/>
              <p:nvPr/>
            </p:nvSpPr>
            <p:spPr>
              <a:xfrm>
                <a:off x="5053680" y="3356280"/>
                <a:ext cx="7452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18"/>
              <p:cNvSpPr/>
              <p:nvPr/>
            </p:nvSpPr>
            <p:spPr>
              <a:xfrm flipV="1">
                <a:off x="5128560" y="3239640"/>
                <a:ext cx="10980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Text Box 19"/>
            <p:cNvSpPr/>
            <p:nvPr/>
          </p:nvSpPr>
          <p:spPr>
            <a:xfrm>
              <a:off x="4913280" y="346860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Group 20"/>
            <p:cNvGrpSpPr/>
            <p:nvPr/>
          </p:nvGrpSpPr>
          <p:grpSpPr>
            <a:xfrm>
              <a:off x="5521320" y="3195360"/>
              <a:ext cx="352080" cy="627120"/>
              <a:chOff x="5521320" y="3195360"/>
              <a:chExt cx="352080" cy="627120"/>
            </a:xfrm>
          </p:grpSpPr>
          <p:sp>
            <p:nvSpPr>
              <p:cNvPr id="1348" name="Oval 21"/>
              <p:cNvSpPr/>
              <p:nvPr/>
            </p:nvSpPr>
            <p:spPr>
              <a:xfrm>
                <a:off x="5595480" y="344844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9" name="Group 22"/>
              <p:cNvGrpSpPr/>
              <p:nvPr/>
            </p:nvGrpSpPr>
            <p:grpSpPr>
              <a:xfrm>
                <a:off x="5521320" y="3195360"/>
                <a:ext cx="320760" cy="619200"/>
                <a:chOff x="5521320" y="3195360"/>
                <a:chExt cx="320760" cy="619200"/>
              </a:xfrm>
            </p:grpSpPr>
            <p:sp>
              <p:nvSpPr>
                <p:cNvPr id="1350" name="Line 23"/>
                <p:cNvSpPr/>
                <p:nvPr/>
              </p:nvSpPr>
              <p:spPr>
                <a:xfrm flipV="1">
                  <a:off x="5743800" y="3195360"/>
                  <a:ext cx="98280" cy="20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Group 24"/>
                <p:cNvGrpSpPr/>
                <p:nvPr/>
              </p:nvGrpSpPr>
              <p:grpSpPr>
                <a:xfrm>
                  <a:off x="5521320" y="3324600"/>
                  <a:ext cx="278280" cy="489960"/>
                  <a:chOff x="5521320" y="3324600"/>
                  <a:chExt cx="278280" cy="489960"/>
                </a:xfrm>
              </p:grpSpPr>
              <p:sp>
                <p:nvSpPr>
                  <p:cNvPr id="1352" name="Oval 25"/>
                  <p:cNvSpPr/>
                  <p:nvPr/>
                </p:nvSpPr>
                <p:spPr>
                  <a:xfrm>
                    <a:off x="5521320" y="3440520"/>
                    <a:ext cx="278280" cy="37404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Freeform 26"/>
                  <p:cNvSpPr/>
                  <p:nvPr/>
                </p:nvSpPr>
                <p:spPr>
                  <a:xfrm>
                    <a:off x="5673960" y="3324600"/>
                    <a:ext cx="66600" cy="110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54" name="AutoShape 27"/>
            <p:cNvSpPr/>
            <p:nvPr/>
          </p:nvSpPr>
          <p:spPr>
            <a:xfrm>
              <a:off x="5288040" y="4624560"/>
              <a:ext cx="288720" cy="28872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8"/>
            <p:cNvSpPr/>
            <p:nvPr/>
          </p:nvSpPr>
          <p:spPr>
            <a:xfrm rot="3097800">
              <a:off x="5388120" y="4501440"/>
              <a:ext cx="73080" cy="17316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Group 29"/>
            <p:cNvGrpSpPr/>
            <p:nvPr/>
          </p:nvGrpSpPr>
          <p:grpSpPr>
            <a:xfrm>
              <a:off x="5243400" y="3866760"/>
              <a:ext cx="350640" cy="582480"/>
              <a:chOff x="5243400" y="3866760"/>
              <a:chExt cx="350640" cy="582480"/>
            </a:xfrm>
          </p:grpSpPr>
          <p:sp>
            <p:nvSpPr>
              <p:cNvPr id="1357" name="AutoShape 30"/>
              <p:cNvSpPr/>
              <p:nvPr/>
            </p:nvSpPr>
            <p:spPr>
              <a:xfrm>
                <a:off x="5243400" y="4099320"/>
                <a:ext cx="332640" cy="34992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31"/>
              <p:cNvSpPr/>
              <p:nvPr/>
            </p:nvSpPr>
            <p:spPr>
              <a:xfrm>
                <a:off x="5409000" y="3983040"/>
                <a:ext cx="74880" cy="11628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2"/>
              <p:cNvSpPr/>
              <p:nvPr/>
            </p:nvSpPr>
            <p:spPr>
              <a:xfrm flipV="1">
                <a:off x="5483880" y="3866760"/>
                <a:ext cx="110160" cy="21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Text Box 33"/>
            <p:cNvSpPr/>
            <p:nvPr/>
          </p:nvSpPr>
          <p:spPr>
            <a:xfrm>
              <a:off x="5235480" y="4222800"/>
              <a:ext cx="5191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Group 34"/>
            <p:cNvGrpSpPr/>
            <p:nvPr/>
          </p:nvGrpSpPr>
          <p:grpSpPr>
            <a:xfrm>
              <a:off x="5257800" y="5135400"/>
              <a:ext cx="353520" cy="587160"/>
              <a:chOff x="5257800" y="5135400"/>
              <a:chExt cx="353520" cy="587160"/>
            </a:xfrm>
          </p:grpSpPr>
          <p:sp>
            <p:nvSpPr>
              <p:cNvPr id="1362" name="AutoShape 35"/>
              <p:cNvSpPr/>
              <p:nvPr/>
            </p:nvSpPr>
            <p:spPr>
              <a:xfrm>
                <a:off x="5257800" y="5369400"/>
                <a:ext cx="335160" cy="35316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36"/>
              <p:cNvSpPr/>
              <p:nvPr/>
            </p:nvSpPr>
            <p:spPr>
              <a:xfrm>
                <a:off x="5424840" y="5252040"/>
                <a:ext cx="7524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37"/>
              <p:cNvSpPr/>
              <p:nvPr/>
            </p:nvSpPr>
            <p:spPr>
              <a:xfrm flipV="1">
                <a:off x="5500440" y="5135400"/>
                <a:ext cx="110880" cy="2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5" name="Text Box 38"/>
            <p:cNvSpPr/>
            <p:nvPr/>
          </p:nvSpPr>
          <p:spPr>
            <a:xfrm>
              <a:off x="5251320" y="5491080"/>
              <a:ext cx="5209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39"/>
            <p:cNvSpPr/>
            <p:nvPr/>
          </p:nvSpPr>
          <p:spPr>
            <a:xfrm>
              <a:off x="2035080" y="2112840"/>
              <a:ext cx="2121120" cy="725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40"/>
            <p:cNvSpPr/>
            <p:nvPr/>
          </p:nvSpPr>
          <p:spPr>
            <a:xfrm flipH="1">
              <a:off x="3102120" y="2687760"/>
              <a:ext cx="7920" cy="67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41"/>
            <p:cNvSpPr/>
            <p:nvPr/>
          </p:nvSpPr>
          <p:spPr>
            <a:xfrm>
              <a:off x="2055960" y="2687760"/>
              <a:ext cx="21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42"/>
            <p:cNvSpPr/>
            <p:nvPr/>
          </p:nvSpPr>
          <p:spPr>
            <a:xfrm>
              <a:off x="1995480" y="2138400"/>
              <a:ext cx="22226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У МЧС России по НСО г.Новосибир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43"/>
            <p:cNvSpPr/>
            <p:nvPr/>
          </p:nvSpPr>
          <p:spPr>
            <a:xfrm>
              <a:off x="2038320" y="3139920"/>
              <a:ext cx="210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44"/>
            <p:cNvSpPr/>
            <p:nvPr/>
          </p:nvSpPr>
          <p:spPr>
            <a:xfrm>
              <a:off x="2027160" y="2743200"/>
              <a:ext cx="91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УК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45"/>
            <p:cNvSpPr/>
            <p:nvPr/>
          </p:nvSpPr>
          <p:spPr>
            <a:xfrm>
              <a:off x="3317760" y="2743200"/>
              <a:ext cx="716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46"/>
            <p:cNvSpPr/>
            <p:nvPr/>
          </p:nvSpPr>
          <p:spPr>
            <a:xfrm>
              <a:off x="2120760" y="9096480"/>
              <a:ext cx="6843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47"/>
            <p:cNvSpPr/>
            <p:nvPr/>
          </p:nvSpPr>
          <p:spPr>
            <a:xfrm>
              <a:off x="3309840" y="9096480"/>
              <a:ext cx="750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"/>
            <p:cNvSpPr/>
            <p:nvPr/>
          </p:nvSpPr>
          <p:spPr>
            <a:xfrm>
              <a:off x="2409840" y="8466120"/>
              <a:ext cx="325440" cy="2253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49"/>
            <p:cNvSpPr/>
            <p:nvPr/>
          </p:nvSpPr>
          <p:spPr>
            <a:xfrm flipH="1">
              <a:off x="2345760" y="8669160"/>
              <a:ext cx="75960" cy="2448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50"/>
            <p:cNvSpPr/>
            <p:nvPr/>
          </p:nvSpPr>
          <p:spPr>
            <a:xfrm>
              <a:off x="2557440" y="879156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1"/>
            <p:cNvSpPr/>
            <p:nvPr/>
          </p:nvSpPr>
          <p:spPr>
            <a:xfrm>
              <a:off x="2421000" y="8791560"/>
              <a:ext cx="13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2"/>
            <p:cNvSpPr/>
            <p:nvPr/>
          </p:nvSpPr>
          <p:spPr>
            <a:xfrm>
              <a:off x="3595680" y="8466120"/>
              <a:ext cx="328680" cy="2253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53"/>
            <p:cNvSpPr/>
            <p:nvPr/>
          </p:nvSpPr>
          <p:spPr>
            <a:xfrm flipH="1">
              <a:off x="3534480" y="8669160"/>
              <a:ext cx="71640" cy="244800"/>
            </a:xfrm>
            <a:custGeom>
              <a:avLst/>
              <a:gdLst>
                <a:gd name="textAreaLeft" fmla="*/ 20520 w 71640"/>
                <a:gd name="textAreaRight" fmla="*/ 71640 w 7164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54"/>
            <p:cNvSpPr/>
            <p:nvPr/>
          </p:nvSpPr>
          <p:spPr>
            <a:xfrm>
              <a:off x="3746520" y="879156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5"/>
            <p:cNvSpPr/>
            <p:nvPr/>
          </p:nvSpPr>
          <p:spPr>
            <a:xfrm>
              <a:off x="3605040" y="8791560"/>
              <a:ext cx="1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56"/>
            <p:cNvSpPr/>
            <p:nvPr/>
          </p:nvSpPr>
          <p:spPr>
            <a:xfrm>
              <a:off x="2544840" y="9034560"/>
              <a:ext cx="31680" cy="48960"/>
            </a:xfrm>
            <a:prstGeom prst="ellipse">
              <a:avLst/>
            </a:prstGeom>
            <a:solidFill>
              <a:srgbClr val="000000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4" name="Group 57"/>
            <p:cNvGrpSpPr/>
            <p:nvPr/>
          </p:nvGrpSpPr>
          <p:grpSpPr>
            <a:xfrm>
              <a:off x="3398760" y="3239640"/>
              <a:ext cx="347400" cy="584280"/>
              <a:chOff x="3398760" y="3239640"/>
              <a:chExt cx="347400" cy="584280"/>
            </a:xfrm>
          </p:grpSpPr>
          <p:sp>
            <p:nvSpPr>
              <p:cNvPr id="1385" name="AutoShape 58"/>
              <p:cNvSpPr/>
              <p:nvPr/>
            </p:nvSpPr>
            <p:spPr>
              <a:xfrm>
                <a:off x="3398760" y="3472920"/>
                <a:ext cx="32940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59"/>
              <p:cNvSpPr/>
              <p:nvPr/>
            </p:nvSpPr>
            <p:spPr>
              <a:xfrm>
                <a:off x="3562920" y="3356280"/>
                <a:ext cx="7416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60"/>
              <p:cNvSpPr/>
              <p:nvPr/>
            </p:nvSpPr>
            <p:spPr>
              <a:xfrm flipV="1">
                <a:off x="3637080" y="3239640"/>
                <a:ext cx="10908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8" name="Text Box 61"/>
            <p:cNvSpPr/>
            <p:nvPr/>
          </p:nvSpPr>
          <p:spPr>
            <a:xfrm>
              <a:off x="3417840" y="3468600"/>
              <a:ext cx="354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62"/>
            <p:cNvSpPr/>
            <p:nvPr/>
          </p:nvSpPr>
          <p:spPr>
            <a:xfrm>
              <a:off x="2373480" y="7432560"/>
              <a:ext cx="0" cy="744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63"/>
            <p:cNvSpPr/>
            <p:nvPr/>
          </p:nvSpPr>
          <p:spPr>
            <a:xfrm>
              <a:off x="2376360" y="8180280"/>
              <a:ext cx="112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64"/>
            <p:cNvSpPr/>
            <p:nvPr/>
          </p:nvSpPr>
          <p:spPr>
            <a:xfrm>
              <a:off x="2376360" y="7432560"/>
              <a:ext cx="112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65"/>
            <p:cNvSpPr/>
            <p:nvPr/>
          </p:nvSpPr>
          <p:spPr>
            <a:xfrm flipV="1">
              <a:off x="1854360" y="7785000"/>
              <a:ext cx="590400" cy="6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66"/>
            <p:cNvSpPr/>
            <p:nvPr/>
          </p:nvSpPr>
          <p:spPr>
            <a:xfrm>
              <a:off x="2421000" y="7691400"/>
              <a:ext cx="344520" cy="185760"/>
            </a:xfrm>
            <a:prstGeom prst="diamond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67"/>
            <p:cNvSpPr/>
            <p:nvPr/>
          </p:nvSpPr>
          <p:spPr>
            <a:xfrm rot="16200000">
              <a:off x="2418480" y="8071560"/>
              <a:ext cx="325440" cy="203040"/>
            </a:xfrm>
            <a:prstGeom prst="flowChartMerge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68"/>
            <p:cNvSpPr/>
            <p:nvPr/>
          </p:nvSpPr>
          <p:spPr>
            <a:xfrm flipH="1" rot="10726200">
              <a:off x="2501280" y="7294680"/>
              <a:ext cx="77760" cy="271080"/>
            </a:xfrm>
            <a:custGeom>
              <a:avLst/>
              <a:gdLst>
                <a:gd name="textAreaLeft" fmla="*/ 22680 w 77760"/>
                <a:gd name="textAreaRight" fmla="*/ 78120 w 77760"/>
                <a:gd name="textAreaTop" fmla="*/ 63000 h 271080"/>
                <a:gd name="textAreaBottom" fmla="*/ 20808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69"/>
            <p:cNvGrpSpPr/>
            <p:nvPr/>
          </p:nvGrpSpPr>
          <p:grpSpPr>
            <a:xfrm>
              <a:off x="3268800" y="7275960"/>
              <a:ext cx="984960" cy="1029600"/>
              <a:chOff x="3268800" y="7275960"/>
              <a:chExt cx="984960" cy="1029600"/>
            </a:xfrm>
          </p:grpSpPr>
          <p:sp>
            <p:nvSpPr>
              <p:cNvPr id="1397" name="Line 70"/>
              <p:cNvSpPr/>
              <p:nvPr/>
            </p:nvSpPr>
            <p:spPr>
              <a:xfrm>
                <a:off x="3759840" y="7404840"/>
                <a:ext cx="0" cy="743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71"/>
              <p:cNvSpPr/>
              <p:nvPr/>
            </p:nvSpPr>
            <p:spPr>
              <a:xfrm>
                <a:off x="3641040" y="8146440"/>
                <a:ext cx="116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72"/>
              <p:cNvSpPr/>
              <p:nvPr/>
            </p:nvSpPr>
            <p:spPr>
              <a:xfrm>
                <a:off x="3631680" y="7416720"/>
                <a:ext cx="116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73"/>
              <p:cNvSpPr/>
              <p:nvPr/>
            </p:nvSpPr>
            <p:spPr>
              <a:xfrm>
                <a:off x="3616200" y="7789320"/>
                <a:ext cx="63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AutoShape 74"/>
              <p:cNvSpPr/>
              <p:nvPr/>
            </p:nvSpPr>
            <p:spPr>
              <a:xfrm>
                <a:off x="3268800" y="7700040"/>
                <a:ext cx="344160" cy="184320"/>
              </a:xfrm>
              <a:prstGeom prst="diamond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75"/>
              <p:cNvSpPr/>
              <p:nvPr/>
            </p:nvSpPr>
            <p:spPr>
              <a:xfrm rot="5400000">
                <a:off x="3372480" y="8040960"/>
                <a:ext cx="325800" cy="20304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76"/>
              <p:cNvSpPr/>
              <p:nvPr/>
            </p:nvSpPr>
            <p:spPr>
              <a:xfrm rot="10725600">
                <a:off x="3533400" y="7276680"/>
                <a:ext cx="79200" cy="271800"/>
              </a:xfrm>
              <a:custGeom>
                <a:avLst/>
                <a:gdLst>
                  <a:gd name="textAreaLeft" fmla="*/ 23040 w 79200"/>
                  <a:gd name="textAreaRight" fmla="*/ 79560 w 79200"/>
                  <a:gd name="textAreaTop" fmla="*/ 63000 h 271800"/>
                  <a:gd name="textAreaBottom" fmla="*/ 208800 h 27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25"/>
                      <a:pt x="0" y="10050"/>
                    </a:cubicBezTo>
                    <a:lnTo>
                      <a:pt x="0" y="11550"/>
                    </a:lnTo>
                    <a:cubicBezTo>
                      <a:pt x="0" y="16575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Oval 77"/>
            <p:cNvSpPr/>
            <p:nvPr/>
          </p:nvSpPr>
          <p:spPr>
            <a:xfrm>
              <a:off x="3724200" y="9023400"/>
              <a:ext cx="36720" cy="49320"/>
            </a:xfrm>
            <a:prstGeom prst="ellipse">
              <a:avLst/>
            </a:prstGeom>
            <a:solidFill>
              <a:srgbClr val="000000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5" name="Group 78"/>
            <p:cNvGrpSpPr/>
            <p:nvPr/>
          </p:nvGrpSpPr>
          <p:grpSpPr>
            <a:xfrm>
              <a:off x="3502080" y="3868200"/>
              <a:ext cx="353520" cy="586080"/>
              <a:chOff x="3502080" y="3868200"/>
              <a:chExt cx="353520" cy="586080"/>
            </a:xfrm>
          </p:grpSpPr>
          <p:sp>
            <p:nvSpPr>
              <p:cNvPr id="1406" name="AutoShape 79"/>
              <p:cNvSpPr/>
              <p:nvPr/>
            </p:nvSpPr>
            <p:spPr>
              <a:xfrm>
                <a:off x="3502080" y="4102200"/>
                <a:ext cx="335160" cy="35208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0"/>
              <p:cNvSpPr/>
              <p:nvPr/>
            </p:nvSpPr>
            <p:spPr>
              <a:xfrm>
                <a:off x="3669120" y="3985200"/>
                <a:ext cx="7524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81"/>
              <p:cNvSpPr/>
              <p:nvPr/>
            </p:nvSpPr>
            <p:spPr>
              <a:xfrm flipV="1">
                <a:off x="3744720" y="3868200"/>
                <a:ext cx="110880" cy="214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 Box 82"/>
            <p:cNvSpPr/>
            <p:nvPr/>
          </p:nvSpPr>
          <p:spPr>
            <a:xfrm>
              <a:off x="3490920" y="4199040"/>
              <a:ext cx="4665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Group 83"/>
            <p:cNvGrpSpPr/>
            <p:nvPr/>
          </p:nvGrpSpPr>
          <p:grpSpPr>
            <a:xfrm>
              <a:off x="3540240" y="5143320"/>
              <a:ext cx="353520" cy="580680"/>
              <a:chOff x="3540240" y="5143320"/>
              <a:chExt cx="353520" cy="580680"/>
            </a:xfrm>
          </p:grpSpPr>
          <p:sp>
            <p:nvSpPr>
              <p:cNvPr id="1411" name="AutoShape 84"/>
              <p:cNvSpPr/>
              <p:nvPr/>
            </p:nvSpPr>
            <p:spPr>
              <a:xfrm>
                <a:off x="3540240" y="5375160"/>
                <a:ext cx="335160" cy="34884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5"/>
              <p:cNvSpPr/>
              <p:nvPr/>
            </p:nvSpPr>
            <p:spPr>
              <a:xfrm>
                <a:off x="3707280" y="5259240"/>
                <a:ext cx="75240" cy="11592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86"/>
              <p:cNvSpPr/>
              <p:nvPr/>
            </p:nvSpPr>
            <p:spPr>
              <a:xfrm flipV="1">
                <a:off x="3782880" y="5143320"/>
                <a:ext cx="110880" cy="212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4" name="Text Box 87"/>
            <p:cNvSpPr/>
            <p:nvPr/>
          </p:nvSpPr>
          <p:spPr>
            <a:xfrm>
              <a:off x="3511440" y="5513400"/>
              <a:ext cx="4669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88"/>
            <p:cNvSpPr/>
            <p:nvPr/>
          </p:nvSpPr>
          <p:spPr>
            <a:xfrm>
              <a:off x="262080" y="2076480"/>
              <a:ext cx="1504800" cy="7281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89"/>
            <p:cNvSpPr/>
            <p:nvPr/>
          </p:nvSpPr>
          <p:spPr>
            <a:xfrm>
              <a:off x="246240" y="286848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90"/>
            <p:cNvSpPr/>
            <p:nvPr/>
          </p:nvSpPr>
          <p:spPr>
            <a:xfrm>
              <a:off x="250920" y="2166840"/>
              <a:ext cx="1573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Р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.Краснояр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91"/>
            <p:cNvSpPr/>
            <p:nvPr/>
          </p:nvSpPr>
          <p:spPr>
            <a:xfrm>
              <a:off x="515880" y="9112320"/>
              <a:ext cx="7351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92"/>
            <p:cNvSpPr/>
            <p:nvPr/>
          </p:nvSpPr>
          <p:spPr>
            <a:xfrm>
              <a:off x="915840" y="8478720"/>
              <a:ext cx="324000" cy="22392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AutoShape 93"/>
            <p:cNvSpPr/>
            <p:nvPr/>
          </p:nvSpPr>
          <p:spPr>
            <a:xfrm flipH="1">
              <a:off x="853920" y="8680320"/>
              <a:ext cx="69840" cy="244440"/>
            </a:xfrm>
            <a:custGeom>
              <a:avLst/>
              <a:gdLst>
                <a:gd name="textAreaLeft" fmla="*/ 20880 w 69840"/>
                <a:gd name="textAreaRight" fmla="*/ 70200 w 69840"/>
                <a:gd name="textAreaTop" fmla="*/ 56880 h 244440"/>
                <a:gd name="textAreaBottom" fmla="*/ 18756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94"/>
            <p:cNvSpPr/>
            <p:nvPr/>
          </p:nvSpPr>
          <p:spPr>
            <a:xfrm>
              <a:off x="1062000" y="880272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95"/>
            <p:cNvSpPr/>
            <p:nvPr/>
          </p:nvSpPr>
          <p:spPr>
            <a:xfrm>
              <a:off x="922320" y="8802720"/>
              <a:ext cx="139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96"/>
            <p:cNvSpPr/>
            <p:nvPr/>
          </p:nvSpPr>
          <p:spPr>
            <a:xfrm>
              <a:off x="977760" y="7445520"/>
              <a:ext cx="0" cy="742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97"/>
            <p:cNvSpPr/>
            <p:nvPr/>
          </p:nvSpPr>
          <p:spPr>
            <a:xfrm>
              <a:off x="982800" y="8191440"/>
              <a:ext cx="11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98"/>
            <p:cNvSpPr/>
            <p:nvPr/>
          </p:nvSpPr>
          <p:spPr>
            <a:xfrm>
              <a:off x="982800" y="7445520"/>
              <a:ext cx="11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99"/>
            <p:cNvSpPr/>
            <p:nvPr/>
          </p:nvSpPr>
          <p:spPr>
            <a:xfrm>
              <a:off x="135000" y="7794720"/>
              <a:ext cx="919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100"/>
            <p:cNvSpPr/>
            <p:nvPr/>
          </p:nvSpPr>
          <p:spPr>
            <a:xfrm>
              <a:off x="1023840" y="7702560"/>
              <a:ext cx="344520" cy="187200"/>
            </a:xfrm>
            <a:prstGeom prst="diamond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101"/>
            <p:cNvSpPr/>
            <p:nvPr/>
          </p:nvSpPr>
          <p:spPr>
            <a:xfrm rot="16200000">
              <a:off x="1023840" y="8086680"/>
              <a:ext cx="330480" cy="200160"/>
            </a:xfrm>
            <a:prstGeom prst="flowChartMerge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02"/>
            <p:cNvSpPr/>
            <p:nvPr/>
          </p:nvSpPr>
          <p:spPr>
            <a:xfrm flipH="1" rot="10726200">
              <a:off x="1108440" y="7305480"/>
              <a:ext cx="79560" cy="271440"/>
            </a:xfrm>
            <a:custGeom>
              <a:avLst/>
              <a:gdLst>
                <a:gd name="textAreaLeft" fmla="*/ 23400 w 79560"/>
                <a:gd name="textAreaRight" fmla="*/ 79920 w 79560"/>
                <a:gd name="textAreaTop" fmla="*/ 63000 h 271440"/>
                <a:gd name="textAreaBottom" fmla="*/ 20844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103"/>
            <p:cNvSpPr/>
            <p:nvPr/>
          </p:nvSpPr>
          <p:spPr>
            <a:xfrm>
              <a:off x="853920" y="4632480"/>
              <a:ext cx="281160" cy="29052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4"/>
            <p:cNvSpPr/>
            <p:nvPr/>
          </p:nvSpPr>
          <p:spPr>
            <a:xfrm rot="3097800">
              <a:off x="950400" y="4487760"/>
              <a:ext cx="76320" cy="16812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2" name="Group 105"/>
            <p:cNvGrpSpPr/>
            <p:nvPr/>
          </p:nvGrpSpPr>
          <p:grpSpPr>
            <a:xfrm>
              <a:off x="898560" y="3868200"/>
              <a:ext cx="352080" cy="586080"/>
              <a:chOff x="898560" y="3868200"/>
              <a:chExt cx="352080" cy="586080"/>
            </a:xfrm>
          </p:grpSpPr>
          <p:sp>
            <p:nvSpPr>
              <p:cNvPr id="1433" name="AutoShape 106"/>
              <p:cNvSpPr/>
              <p:nvPr/>
            </p:nvSpPr>
            <p:spPr>
              <a:xfrm>
                <a:off x="898560" y="4102200"/>
                <a:ext cx="333720" cy="35208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7"/>
              <p:cNvSpPr/>
              <p:nvPr/>
            </p:nvSpPr>
            <p:spPr>
              <a:xfrm>
                <a:off x="1064880" y="3985200"/>
                <a:ext cx="7488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108"/>
              <p:cNvSpPr/>
              <p:nvPr/>
            </p:nvSpPr>
            <p:spPr>
              <a:xfrm flipV="1">
                <a:off x="1140120" y="3868200"/>
                <a:ext cx="110520" cy="214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Text Box 109"/>
            <p:cNvSpPr/>
            <p:nvPr/>
          </p:nvSpPr>
          <p:spPr>
            <a:xfrm>
              <a:off x="876240" y="4199040"/>
              <a:ext cx="5256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Group 110"/>
            <p:cNvGrpSpPr/>
            <p:nvPr/>
          </p:nvGrpSpPr>
          <p:grpSpPr>
            <a:xfrm>
              <a:off x="915840" y="5143320"/>
              <a:ext cx="352080" cy="580680"/>
              <a:chOff x="915840" y="5143320"/>
              <a:chExt cx="352080" cy="580680"/>
            </a:xfrm>
          </p:grpSpPr>
          <p:sp>
            <p:nvSpPr>
              <p:cNvPr id="1438" name="AutoShape 111"/>
              <p:cNvSpPr/>
              <p:nvPr/>
            </p:nvSpPr>
            <p:spPr>
              <a:xfrm>
                <a:off x="915840" y="5375160"/>
                <a:ext cx="333720" cy="34884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12"/>
              <p:cNvSpPr/>
              <p:nvPr/>
            </p:nvSpPr>
            <p:spPr>
              <a:xfrm>
                <a:off x="1082160" y="5259240"/>
                <a:ext cx="74880" cy="11592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13"/>
              <p:cNvSpPr/>
              <p:nvPr/>
            </p:nvSpPr>
            <p:spPr>
              <a:xfrm flipV="1">
                <a:off x="1157400" y="5143320"/>
                <a:ext cx="110520" cy="212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Text Box 114"/>
            <p:cNvSpPr/>
            <p:nvPr/>
          </p:nvSpPr>
          <p:spPr>
            <a:xfrm>
              <a:off x="895320" y="5468760"/>
              <a:ext cx="5256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115"/>
            <p:cNvSpPr/>
            <p:nvPr/>
          </p:nvSpPr>
          <p:spPr>
            <a:xfrm flipH="1">
              <a:off x="3416040" y="3828960"/>
              <a:ext cx="23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16"/>
            <p:cNvSpPr/>
            <p:nvPr/>
          </p:nvSpPr>
          <p:spPr>
            <a:xfrm>
              <a:off x="4065480" y="3468600"/>
              <a:ext cx="912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/с №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117"/>
            <p:cNvSpPr/>
            <p:nvPr/>
          </p:nvSpPr>
          <p:spPr>
            <a:xfrm>
              <a:off x="954000" y="4916520"/>
              <a:ext cx="458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118"/>
            <p:cNvSpPr/>
            <p:nvPr/>
          </p:nvSpPr>
          <p:spPr>
            <a:xfrm flipH="1">
              <a:off x="1020600" y="4454640"/>
              <a:ext cx="451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119"/>
            <p:cNvSpPr/>
            <p:nvPr/>
          </p:nvSpPr>
          <p:spPr>
            <a:xfrm>
              <a:off x="3773520" y="3851280"/>
              <a:ext cx="14698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/с №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повещения СРЦ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120"/>
            <p:cNvSpPr/>
            <p:nvPr/>
          </p:nvSpPr>
          <p:spPr>
            <a:xfrm flipH="1">
              <a:off x="904680" y="5724360"/>
              <a:ext cx="456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121"/>
            <p:cNvSpPr/>
            <p:nvPr/>
          </p:nvSpPr>
          <p:spPr>
            <a:xfrm>
              <a:off x="3932280" y="5029200"/>
              <a:ext cx="12556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/с №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122"/>
            <p:cNvSpPr/>
            <p:nvPr/>
          </p:nvSpPr>
          <p:spPr>
            <a:xfrm flipV="1">
              <a:off x="917640" y="7073640"/>
              <a:ext cx="4803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AutoShape 123"/>
            <p:cNvSpPr/>
            <p:nvPr/>
          </p:nvSpPr>
          <p:spPr>
            <a:xfrm>
              <a:off x="5332320" y="6945480"/>
              <a:ext cx="422280" cy="2458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AutoShape 124"/>
            <p:cNvSpPr/>
            <p:nvPr/>
          </p:nvSpPr>
          <p:spPr>
            <a:xfrm>
              <a:off x="3476520" y="6954840"/>
              <a:ext cx="424080" cy="2476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utoShape 125"/>
            <p:cNvSpPr/>
            <p:nvPr/>
          </p:nvSpPr>
          <p:spPr>
            <a:xfrm>
              <a:off x="2349360" y="6945480"/>
              <a:ext cx="422280" cy="2458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AutoShape 126"/>
            <p:cNvSpPr/>
            <p:nvPr/>
          </p:nvSpPr>
          <p:spPr>
            <a:xfrm>
              <a:off x="746280" y="6946920"/>
              <a:ext cx="422280" cy="25236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27"/>
            <p:cNvGrpSpPr/>
            <p:nvPr/>
          </p:nvGrpSpPr>
          <p:grpSpPr>
            <a:xfrm>
              <a:off x="4557600" y="7293240"/>
              <a:ext cx="888120" cy="1041840"/>
              <a:chOff x="4557600" y="7293240"/>
              <a:chExt cx="888120" cy="1041840"/>
            </a:xfrm>
          </p:grpSpPr>
          <p:sp>
            <p:nvSpPr>
              <p:cNvPr id="1455" name="AutoShape 128"/>
              <p:cNvSpPr/>
              <p:nvPr/>
            </p:nvSpPr>
            <p:spPr>
              <a:xfrm rot="16200000">
                <a:off x="5119920" y="8071920"/>
                <a:ext cx="32616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129"/>
              <p:cNvGrpSpPr/>
              <p:nvPr/>
            </p:nvGrpSpPr>
            <p:grpSpPr>
              <a:xfrm>
                <a:off x="4557600" y="7293240"/>
                <a:ext cx="888120" cy="885960"/>
                <a:chOff x="4557600" y="7293240"/>
                <a:chExt cx="888120" cy="885960"/>
              </a:xfrm>
            </p:grpSpPr>
            <p:sp>
              <p:nvSpPr>
                <p:cNvPr id="1457" name="Line 130"/>
                <p:cNvSpPr/>
                <p:nvPr/>
              </p:nvSpPr>
              <p:spPr>
                <a:xfrm>
                  <a:off x="5050800" y="7431480"/>
                  <a:ext cx="0" cy="7430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131"/>
                <p:cNvSpPr/>
                <p:nvPr/>
              </p:nvSpPr>
              <p:spPr>
                <a:xfrm>
                  <a:off x="5055120" y="817920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132"/>
                <p:cNvSpPr/>
                <p:nvPr/>
              </p:nvSpPr>
              <p:spPr>
                <a:xfrm>
                  <a:off x="5055120" y="74314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AutoShape 133"/>
                <p:cNvSpPr/>
                <p:nvPr/>
              </p:nvSpPr>
              <p:spPr>
                <a:xfrm>
                  <a:off x="5100480" y="7690680"/>
                  <a:ext cx="34524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AutoShape 134"/>
                <p:cNvSpPr/>
                <p:nvPr/>
              </p:nvSpPr>
              <p:spPr>
                <a:xfrm flipH="1" rot="10726200">
                  <a:off x="5182200" y="7293960"/>
                  <a:ext cx="80280" cy="26964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2640 h 269640"/>
                    <a:gd name="textAreaBottom" fmla="*/ 207000 h 26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Line 135"/>
                <p:cNvSpPr/>
                <p:nvPr/>
              </p:nvSpPr>
              <p:spPr>
                <a:xfrm flipV="1">
                  <a:off x="4557600" y="7785360"/>
                  <a:ext cx="59076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3" name="Rectangle 136"/>
            <p:cNvSpPr/>
            <p:nvPr/>
          </p:nvSpPr>
          <p:spPr>
            <a:xfrm>
              <a:off x="3368520" y="6499080"/>
              <a:ext cx="567000" cy="3844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137"/>
            <p:cNvSpPr/>
            <p:nvPr/>
          </p:nvSpPr>
          <p:spPr>
            <a:xfrm flipH="1">
              <a:off x="1049400" y="6705720"/>
              <a:ext cx="232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138"/>
            <p:cNvSpPr/>
            <p:nvPr/>
          </p:nvSpPr>
          <p:spPr>
            <a:xfrm>
              <a:off x="693720" y="6499080"/>
              <a:ext cx="563760" cy="384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39"/>
            <p:cNvSpPr/>
            <p:nvPr/>
          </p:nvSpPr>
          <p:spPr>
            <a:xfrm>
              <a:off x="2313000" y="6516720"/>
              <a:ext cx="565200" cy="384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140"/>
            <p:cNvSpPr/>
            <p:nvPr/>
          </p:nvSpPr>
          <p:spPr>
            <a:xfrm>
              <a:off x="811080" y="5924520"/>
              <a:ext cx="505080" cy="385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1"/>
            <p:cNvSpPr/>
            <p:nvPr/>
          </p:nvSpPr>
          <p:spPr>
            <a:xfrm>
              <a:off x="1320840" y="6113520"/>
              <a:ext cx="533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142"/>
            <p:cNvSpPr/>
            <p:nvPr/>
          </p:nvSpPr>
          <p:spPr>
            <a:xfrm>
              <a:off x="3416400" y="5924520"/>
              <a:ext cx="563400" cy="387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Line 143"/>
            <p:cNvSpPr/>
            <p:nvPr/>
          </p:nvSpPr>
          <p:spPr>
            <a:xfrm>
              <a:off x="3967200" y="6116760"/>
              <a:ext cx="350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144"/>
            <p:cNvSpPr/>
            <p:nvPr/>
          </p:nvSpPr>
          <p:spPr>
            <a:xfrm>
              <a:off x="1077840" y="9061560"/>
              <a:ext cx="466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45"/>
            <p:cNvSpPr/>
            <p:nvPr/>
          </p:nvSpPr>
          <p:spPr>
            <a:xfrm>
              <a:off x="4257720" y="8854920"/>
              <a:ext cx="58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" rIns="25200" tIns="15120" bIns="1512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Т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6"/>
            <p:cNvSpPr/>
            <p:nvPr/>
          </p:nvSpPr>
          <p:spPr>
            <a:xfrm>
              <a:off x="5265720" y="7499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147"/>
            <p:cNvSpPr/>
            <p:nvPr/>
          </p:nvSpPr>
          <p:spPr>
            <a:xfrm>
              <a:off x="2054160" y="5711760"/>
              <a:ext cx="332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48"/>
            <p:cNvSpPr/>
            <p:nvPr/>
          </p:nvSpPr>
          <p:spPr>
            <a:xfrm>
              <a:off x="7753320" y="2122560"/>
              <a:ext cx="1066680" cy="36147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Line 149"/>
            <p:cNvSpPr/>
            <p:nvPr/>
          </p:nvSpPr>
          <p:spPr>
            <a:xfrm>
              <a:off x="7736040" y="2925720"/>
              <a:ext cx="108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Text Box 150"/>
            <p:cNvSpPr/>
            <p:nvPr/>
          </p:nvSpPr>
          <p:spPr>
            <a:xfrm>
              <a:off x="7702560" y="2112840"/>
              <a:ext cx="11001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ВД 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8" name="Group 151"/>
            <p:cNvGrpSpPr/>
            <p:nvPr/>
          </p:nvGrpSpPr>
          <p:grpSpPr>
            <a:xfrm>
              <a:off x="7631280" y="3935880"/>
              <a:ext cx="884520" cy="1041840"/>
              <a:chOff x="7631280" y="3935880"/>
              <a:chExt cx="884520" cy="1041840"/>
            </a:xfrm>
          </p:grpSpPr>
          <p:sp>
            <p:nvSpPr>
              <p:cNvPr id="1479" name="AutoShape 152"/>
              <p:cNvSpPr/>
              <p:nvPr/>
            </p:nvSpPr>
            <p:spPr>
              <a:xfrm rot="16200000">
                <a:off x="8190720" y="4714920"/>
                <a:ext cx="326520" cy="19908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0" name="Group 153"/>
              <p:cNvGrpSpPr/>
              <p:nvPr/>
            </p:nvGrpSpPr>
            <p:grpSpPr>
              <a:xfrm>
                <a:off x="7631280" y="3935880"/>
                <a:ext cx="884520" cy="885960"/>
                <a:chOff x="7631280" y="3935880"/>
                <a:chExt cx="884520" cy="885960"/>
              </a:xfrm>
            </p:grpSpPr>
            <p:sp>
              <p:nvSpPr>
                <p:cNvPr id="1481" name="Line 154"/>
                <p:cNvSpPr/>
                <p:nvPr/>
              </p:nvSpPr>
              <p:spPr>
                <a:xfrm>
                  <a:off x="8122680" y="4074120"/>
                  <a:ext cx="0" cy="743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55"/>
                <p:cNvSpPr/>
                <p:nvPr/>
              </p:nvSpPr>
              <p:spPr>
                <a:xfrm>
                  <a:off x="8127000" y="482184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Line 156"/>
                <p:cNvSpPr/>
                <p:nvPr/>
              </p:nvSpPr>
              <p:spPr>
                <a:xfrm>
                  <a:off x="8127000" y="407412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AutoShape 157"/>
                <p:cNvSpPr/>
                <p:nvPr/>
              </p:nvSpPr>
              <p:spPr>
                <a:xfrm>
                  <a:off x="8172000" y="4332960"/>
                  <a:ext cx="34380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AutoShape 158"/>
                <p:cNvSpPr/>
                <p:nvPr/>
              </p:nvSpPr>
              <p:spPr>
                <a:xfrm flipH="1" rot="10726200">
                  <a:off x="8253720" y="3936600"/>
                  <a:ext cx="79920" cy="270000"/>
                </a:xfrm>
                <a:custGeom>
                  <a:avLst/>
                  <a:gdLst>
                    <a:gd name="textAreaLeft" fmla="*/ 23400 w 79920"/>
                    <a:gd name="textAreaRight" fmla="*/ 80280 w 79920"/>
                    <a:gd name="textAreaTop" fmla="*/ 62640 h 270000"/>
                    <a:gd name="textAreaBottom" fmla="*/ 207360 h 27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59"/>
                <p:cNvSpPr/>
                <p:nvPr/>
              </p:nvSpPr>
              <p:spPr>
                <a:xfrm flipV="1">
                  <a:off x="7631280" y="4427640"/>
                  <a:ext cx="58824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7" name="Line 160"/>
            <p:cNvSpPr/>
            <p:nvPr/>
          </p:nvSpPr>
          <p:spPr>
            <a:xfrm>
              <a:off x="11558520" y="6838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161"/>
            <p:cNvSpPr/>
            <p:nvPr/>
          </p:nvSpPr>
          <p:spPr>
            <a:xfrm>
              <a:off x="9083520" y="2124000"/>
              <a:ext cx="1067040" cy="3613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Line 162"/>
            <p:cNvSpPr/>
            <p:nvPr/>
          </p:nvSpPr>
          <p:spPr>
            <a:xfrm>
              <a:off x="9066240" y="2928960"/>
              <a:ext cx="10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63"/>
            <p:cNvGrpSpPr/>
            <p:nvPr/>
          </p:nvGrpSpPr>
          <p:grpSpPr>
            <a:xfrm>
              <a:off x="8991720" y="3935520"/>
              <a:ext cx="888120" cy="1044000"/>
              <a:chOff x="8991720" y="3935520"/>
              <a:chExt cx="888120" cy="1044000"/>
            </a:xfrm>
          </p:grpSpPr>
          <p:sp>
            <p:nvSpPr>
              <p:cNvPr id="1491" name="AutoShape 164"/>
              <p:cNvSpPr/>
              <p:nvPr/>
            </p:nvSpPr>
            <p:spPr>
              <a:xfrm rot="16200000">
                <a:off x="9553320" y="4716000"/>
                <a:ext cx="32688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2" name="Group 165"/>
              <p:cNvGrpSpPr/>
              <p:nvPr/>
            </p:nvGrpSpPr>
            <p:grpSpPr>
              <a:xfrm>
                <a:off x="8991720" y="3935520"/>
                <a:ext cx="888120" cy="887760"/>
                <a:chOff x="8991720" y="3935520"/>
                <a:chExt cx="888120" cy="887760"/>
              </a:xfrm>
            </p:grpSpPr>
            <p:sp>
              <p:nvSpPr>
                <p:cNvPr id="1493" name="Line 166"/>
                <p:cNvSpPr/>
                <p:nvPr/>
              </p:nvSpPr>
              <p:spPr>
                <a:xfrm>
                  <a:off x="9484560" y="4074120"/>
                  <a:ext cx="0" cy="744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Line 167"/>
                <p:cNvSpPr/>
                <p:nvPr/>
              </p:nvSpPr>
              <p:spPr>
                <a:xfrm>
                  <a:off x="9489240" y="48232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Line 168"/>
                <p:cNvSpPr/>
                <p:nvPr/>
              </p:nvSpPr>
              <p:spPr>
                <a:xfrm>
                  <a:off x="9489240" y="407412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AutoShape 169"/>
                <p:cNvSpPr/>
                <p:nvPr/>
              </p:nvSpPr>
              <p:spPr>
                <a:xfrm>
                  <a:off x="9534600" y="4333680"/>
                  <a:ext cx="345240" cy="18360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AutoShape 170"/>
                <p:cNvSpPr/>
                <p:nvPr/>
              </p:nvSpPr>
              <p:spPr>
                <a:xfrm flipH="1" rot="10726200">
                  <a:off x="9616320" y="3936240"/>
                  <a:ext cx="80280" cy="27036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2640 h 270360"/>
                    <a:gd name="textAreaBottom" fmla="*/ 207720 h 27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Line 171"/>
                <p:cNvSpPr/>
                <p:nvPr/>
              </p:nvSpPr>
              <p:spPr>
                <a:xfrm flipV="1">
                  <a:off x="8991720" y="442836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9" name="Line 172"/>
            <p:cNvSpPr/>
            <p:nvPr/>
          </p:nvSpPr>
          <p:spPr>
            <a:xfrm>
              <a:off x="11773080" y="7054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73"/>
            <p:cNvSpPr/>
            <p:nvPr/>
          </p:nvSpPr>
          <p:spPr>
            <a:xfrm>
              <a:off x="10314000" y="2124000"/>
              <a:ext cx="1066680" cy="3613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Line 174"/>
            <p:cNvSpPr/>
            <p:nvPr/>
          </p:nvSpPr>
          <p:spPr>
            <a:xfrm>
              <a:off x="10294920" y="2895480"/>
              <a:ext cx="108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Text Box 175"/>
            <p:cNvSpPr/>
            <p:nvPr/>
          </p:nvSpPr>
          <p:spPr>
            <a:xfrm>
              <a:off x="10261440" y="2087640"/>
              <a:ext cx="11606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пр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76"/>
            <p:cNvSpPr/>
            <p:nvPr/>
          </p:nvSpPr>
          <p:spPr>
            <a:xfrm>
              <a:off x="11988720" y="726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177"/>
            <p:cNvSpPr/>
            <p:nvPr/>
          </p:nvSpPr>
          <p:spPr>
            <a:xfrm>
              <a:off x="11620440" y="2106720"/>
              <a:ext cx="1067040" cy="36306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178"/>
            <p:cNvSpPr/>
            <p:nvPr/>
          </p:nvSpPr>
          <p:spPr>
            <a:xfrm>
              <a:off x="11603160" y="2876400"/>
              <a:ext cx="10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179"/>
            <p:cNvSpPr/>
            <p:nvPr/>
          </p:nvSpPr>
          <p:spPr>
            <a:xfrm>
              <a:off x="11572920" y="2077920"/>
              <a:ext cx="113040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тарн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7" name="Group 180"/>
            <p:cNvGrpSpPr/>
            <p:nvPr/>
          </p:nvGrpSpPr>
          <p:grpSpPr>
            <a:xfrm>
              <a:off x="10225080" y="3935880"/>
              <a:ext cx="888120" cy="1044720"/>
              <a:chOff x="10225080" y="3935880"/>
              <a:chExt cx="888120" cy="1044720"/>
            </a:xfrm>
          </p:grpSpPr>
          <p:sp>
            <p:nvSpPr>
              <p:cNvPr id="1508" name="AutoShape 181"/>
              <p:cNvSpPr/>
              <p:nvPr/>
            </p:nvSpPr>
            <p:spPr>
              <a:xfrm rot="16200000">
                <a:off x="10786680" y="4717080"/>
                <a:ext cx="32724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9" name="Group 182"/>
              <p:cNvGrpSpPr/>
              <p:nvPr/>
            </p:nvGrpSpPr>
            <p:grpSpPr>
              <a:xfrm>
                <a:off x="10225080" y="3935880"/>
                <a:ext cx="888120" cy="888840"/>
                <a:chOff x="10225080" y="3935880"/>
                <a:chExt cx="888120" cy="888840"/>
              </a:xfrm>
            </p:grpSpPr>
            <p:sp>
              <p:nvSpPr>
                <p:cNvPr id="1510" name="Line 183"/>
                <p:cNvSpPr/>
                <p:nvPr/>
              </p:nvSpPr>
              <p:spPr>
                <a:xfrm>
                  <a:off x="10717920" y="4074480"/>
                  <a:ext cx="0" cy="745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184"/>
                <p:cNvSpPr/>
                <p:nvPr/>
              </p:nvSpPr>
              <p:spPr>
                <a:xfrm>
                  <a:off x="10722600" y="482472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Line 185"/>
                <p:cNvSpPr/>
                <p:nvPr/>
              </p:nvSpPr>
              <p:spPr>
                <a:xfrm>
                  <a:off x="10722600" y="40744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AutoShape 186"/>
                <p:cNvSpPr/>
                <p:nvPr/>
              </p:nvSpPr>
              <p:spPr>
                <a:xfrm>
                  <a:off x="10767960" y="4334400"/>
                  <a:ext cx="345240" cy="18396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AutoShape 187"/>
                <p:cNvSpPr/>
                <p:nvPr/>
              </p:nvSpPr>
              <p:spPr>
                <a:xfrm flipH="1" rot="10726200">
                  <a:off x="10849680" y="3936600"/>
                  <a:ext cx="80280" cy="27072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3000 h 270720"/>
                    <a:gd name="textAreaBottom" fmla="*/ 207720 h 27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Line 188"/>
                <p:cNvSpPr/>
                <p:nvPr/>
              </p:nvSpPr>
              <p:spPr>
                <a:xfrm flipV="1">
                  <a:off x="10225080" y="442944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6" name="Line 189"/>
            <p:cNvSpPr/>
            <p:nvPr/>
          </p:nvSpPr>
          <p:spPr>
            <a:xfrm>
              <a:off x="12204720" y="7488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190"/>
            <p:cNvGrpSpPr/>
            <p:nvPr/>
          </p:nvGrpSpPr>
          <p:grpSpPr>
            <a:xfrm>
              <a:off x="11491920" y="3900600"/>
              <a:ext cx="888120" cy="1044000"/>
              <a:chOff x="11491920" y="3900600"/>
              <a:chExt cx="888120" cy="1044000"/>
            </a:xfrm>
          </p:grpSpPr>
          <p:sp>
            <p:nvSpPr>
              <p:cNvPr id="1518" name="AutoShape 191"/>
              <p:cNvSpPr/>
              <p:nvPr/>
            </p:nvSpPr>
            <p:spPr>
              <a:xfrm rot="16200000">
                <a:off x="12053520" y="4681080"/>
                <a:ext cx="32688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9" name="Group 192"/>
              <p:cNvGrpSpPr/>
              <p:nvPr/>
            </p:nvGrpSpPr>
            <p:grpSpPr>
              <a:xfrm>
                <a:off x="11491920" y="3900600"/>
                <a:ext cx="888120" cy="887760"/>
                <a:chOff x="11491920" y="3900600"/>
                <a:chExt cx="888120" cy="887760"/>
              </a:xfrm>
            </p:grpSpPr>
            <p:sp>
              <p:nvSpPr>
                <p:cNvPr id="1520" name="Line 193"/>
                <p:cNvSpPr/>
                <p:nvPr/>
              </p:nvSpPr>
              <p:spPr>
                <a:xfrm>
                  <a:off x="11984760" y="4039200"/>
                  <a:ext cx="0" cy="744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194"/>
                <p:cNvSpPr/>
                <p:nvPr/>
              </p:nvSpPr>
              <p:spPr>
                <a:xfrm>
                  <a:off x="11989440" y="478836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Line 195"/>
                <p:cNvSpPr/>
                <p:nvPr/>
              </p:nvSpPr>
              <p:spPr>
                <a:xfrm>
                  <a:off x="11989440" y="403920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AutoShape 196"/>
                <p:cNvSpPr/>
                <p:nvPr/>
              </p:nvSpPr>
              <p:spPr>
                <a:xfrm>
                  <a:off x="12034800" y="4298760"/>
                  <a:ext cx="345240" cy="18360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AutoShape 197"/>
                <p:cNvSpPr/>
                <p:nvPr/>
              </p:nvSpPr>
              <p:spPr>
                <a:xfrm flipH="1" rot="10726200">
                  <a:off x="12116520" y="3901320"/>
                  <a:ext cx="80280" cy="27036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2640 h 270360"/>
                    <a:gd name="textAreaBottom" fmla="*/ 207720 h 27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Line 198"/>
                <p:cNvSpPr/>
                <p:nvPr/>
              </p:nvSpPr>
              <p:spPr>
                <a:xfrm flipV="1">
                  <a:off x="11491920" y="439344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6" name="Text Box 199"/>
            <p:cNvSpPr/>
            <p:nvPr/>
          </p:nvSpPr>
          <p:spPr>
            <a:xfrm>
              <a:off x="8943840" y="2036880"/>
              <a:ext cx="13716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инфор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вяз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200"/>
            <p:cNvSpPr/>
            <p:nvPr/>
          </p:nvSpPr>
          <p:spPr>
            <a:xfrm>
              <a:off x="6465960" y="2127240"/>
              <a:ext cx="1066680" cy="3610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201"/>
            <p:cNvSpPr/>
            <p:nvPr/>
          </p:nvSpPr>
          <p:spPr>
            <a:xfrm>
              <a:off x="6448320" y="2928960"/>
              <a:ext cx="10843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Text Box 202"/>
            <p:cNvSpPr/>
            <p:nvPr/>
          </p:nvSpPr>
          <p:spPr>
            <a:xfrm>
              <a:off x="6332400" y="2093760"/>
              <a:ext cx="13543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партамент здравоохра-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Group 203"/>
            <p:cNvGrpSpPr/>
            <p:nvPr/>
          </p:nvGrpSpPr>
          <p:grpSpPr>
            <a:xfrm>
              <a:off x="6378480" y="3935880"/>
              <a:ext cx="885240" cy="1041840"/>
              <a:chOff x="6378480" y="3935880"/>
              <a:chExt cx="885240" cy="1041840"/>
            </a:xfrm>
          </p:grpSpPr>
          <p:sp>
            <p:nvSpPr>
              <p:cNvPr id="1531" name="AutoShape 204"/>
              <p:cNvSpPr/>
              <p:nvPr/>
            </p:nvSpPr>
            <p:spPr>
              <a:xfrm rot="16200000">
                <a:off x="6938280" y="4714920"/>
                <a:ext cx="326520" cy="19908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2" name="Group 205"/>
              <p:cNvGrpSpPr/>
              <p:nvPr/>
            </p:nvGrpSpPr>
            <p:grpSpPr>
              <a:xfrm>
                <a:off x="6378480" y="3935880"/>
                <a:ext cx="885240" cy="885960"/>
                <a:chOff x="6378480" y="3935880"/>
                <a:chExt cx="885240" cy="885960"/>
              </a:xfrm>
            </p:grpSpPr>
            <p:sp>
              <p:nvSpPr>
                <p:cNvPr id="1533" name="Line 206"/>
                <p:cNvSpPr/>
                <p:nvPr/>
              </p:nvSpPr>
              <p:spPr>
                <a:xfrm>
                  <a:off x="6869880" y="4074120"/>
                  <a:ext cx="0" cy="743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Line 207"/>
                <p:cNvSpPr/>
                <p:nvPr/>
              </p:nvSpPr>
              <p:spPr>
                <a:xfrm>
                  <a:off x="6874200" y="482184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Line 208"/>
                <p:cNvSpPr/>
                <p:nvPr/>
              </p:nvSpPr>
              <p:spPr>
                <a:xfrm>
                  <a:off x="6874200" y="407412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209"/>
                <p:cNvSpPr/>
                <p:nvPr/>
              </p:nvSpPr>
              <p:spPr>
                <a:xfrm>
                  <a:off x="6919560" y="4332960"/>
                  <a:ext cx="34416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AutoShape 210"/>
                <p:cNvSpPr/>
                <p:nvPr/>
              </p:nvSpPr>
              <p:spPr>
                <a:xfrm flipH="1" rot="10726200">
                  <a:off x="7001280" y="3936600"/>
                  <a:ext cx="79920" cy="270000"/>
                </a:xfrm>
                <a:custGeom>
                  <a:avLst/>
                  <a:gdLst>
                    <a:gd name="textAreaLeft" fmla="*/ 23400 w 79920"/>
                    <a:gd name="textAreaRight" fmla="*/ 80280 w 79920"/>
                    <a:gd name="textAreaTop" fmla="*/ 62640 h 270000"/>
                    <a:gd name="textAreaBottom" fmla="*/ 207360 h 27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Line 211"/>
                <p:cNvSpPr/>
                <p:nvPr/>
              </p:nvSpPr>
              <p:spPr>
                <a:xfrm flipV="1">
                  <a:off x="6378480" y="4427640"/>
                  <a:ext cx="5886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9" name="Group 212"/>
            <p:cNvGrpSpPr/>
            <p:nvPr/>
          </p:nvGrpSpPr>
          <p:grpSpPr>
            <a:xfrm>
              <a:off x="7091280" y="3114360"/>
              <a:ext cx="352080" cy="627120"/>
              <a:chOff x="7091280" y="3114360"/>
              <a:chExt cx="352080" cy="627120"/>
            </a:xfrm>
          </p:grpSpPr>
          <p:sp>
            <p:nvSpPr>
              <p:cNvPr id="1540" name="Oval 213"/>
              <p:cNvSpPr/>
              <p:nvPr/>
            </p:nvSpPr>
            <p:spPr>
              <a:xfrm>
                <a:off x="7165440" y="336744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1" name="Group 214"/>
              <p:cNvGrpSpPr/>
              <p:nvPr/>
            </p:nvGrpSpPr>
            <p:grpSpPr>
              <a:xfrm>
                <a:off x="7091280" y="3114360"/>
                <a:ext cx="320760" cy="619200"/>
                <a:chOff x="7091280" y="3114360"/>
                <a:chExt cx="320760" cy="619200"/>
              </a:xfrm>
            </p:grpSpPr>
            <p:sp>
              <p:nvSpPr>
                <p:cNvPr id="1542" name="Line 215"/>
                <p:cNvSpPr/>
                <p:nvPr/>
              </p:nvSpPr>
              <p:spPr>
                <a:xfrm flipV="1">
                  <a:off x="7313760" y="3114360"/>
                  <a:ext cx="98280" cy="20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Group 216"/>
                <p:cNvGrpSpPr/>
                <p:nvPr/>
              </p:nvGrpSpPr>
              <p:grpSpPr>
                <a:xfrm>
                  <a:off x="7091280" y="3243600"/>
                  <a:ext cx="278280" cy="489960"/>
                  <a:chOff x="7091280" y="3243600"/>
                  <a:chExt cx="278280" cy="489960"/>
                </a:xfrm>
              </p:grpSpPr>
              <p:sp>
                <p:nvSpPr>
                  <p:cNvPr id="1544" name="Oval 217"/>
                  <p:cNvSpPr/>
                  <p:nvPr/>
                </p:nvSpPr>
                <p:spPr>
                  <a:xfrm>
                    <a:off x="7091280" y="3359520"/>
                    <a:ext cx="278280" cy="37404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218"/>
                  <p:cNvSpPr/>
                  <p:nvPr/>
                </p:nvSpPr>
                <p:spPr>
                  <a:xfrm>
                    <a:off x="7243920" y="3243600"/>
                    <a:ext cx="66600" cy="110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46" name="Group 219"/>
            <p:cNvGrpSpPr/>
            <p:nvPr/>
          </p:nvGrpSpPr>
          <p:grpSpPr>
            <a:xfrm>
              <a:off x="6559560" y="3142800"/>
              <a:ext cx="350640" cy="584280"/>
              <a:chOff x="6559560" y="3142800"/>
              <a:chExt cx="350640" cy="584280"/>
            </a:xfrm>
          </p:grpSpPr>
          <p:sp>
            <p:nvSpPr>
              <p:cNvPr id="1547" name="AutoShape 220"/>
              <p:cNvSpPr/>
              <p:nvPr/>
            </p:nvSpPr>
            <p:spPr>
              <a:xfrm>
                <a:off x="6559560" y="3376080"/>
                <a:ext cx="33264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221"/>
              <p:cNvSpPr/>
              <p:nvPr/>
            </p:nvSpPr>
            <p:spPr>
              <a:xfrm>
                <a:off x="6725160" y="3259440"/>
                <a:ext cx="7488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222"/>
              <p:cNvSpPr/>
              <p:nvPr/>
            </p:nvSpPr>
            <p:spPr>
              <a:xfrm flipV="1">
                <a:off x="6800040" y="3142800"/>
                <a:ext cx="11016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Line 223"/>
            <p:cNvSpPr/>
            <p:nvPr/>
          </p:nvSpPr>
          <p:spPr>
            <a:xfrm flipH="1">
              <a:off x="6616440" y="3720960"/>
              <a:ext cx="71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Text Box 224"/>
            <p:cNvSpPr/>
            <p:nvPr/>
          </p:nvSpPr>
          <p:spPr>
            <a:xfrm>
              <a:off x="6559560" y="334656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225"/>
            <p:cNvGrpSpPr/>
            <p:nvPr/>
          </p:nvGrpSpPr>
          <p:grpSpPr>
            <a:xfrm>
              <a:off x="8353440" y="3017520"/>
              <a:ext cx="352080" cy="627120"/>
              <a:chOff x="8353440" y="3017520"/>
              <a:chExt cx="352080" cy="627120"/>
            </a:xfrm>
          </p:grpSpPr>
          <p:sp>
            <p:nvSpPr>
              <p:cNvPr id="1553" name="Oval 226"/>
              <p:cNvSpPr/>
              <p:nvPr/>
            </p:nvSpPr>
            <p:spPr>
              <a:xfrm>
                <a:off x="8427600" y="327060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4" name="Group 227"/>
              <p:cNvGrpSpPr/>
              <p:nvPr/>
            </p:nvGrpSpPr>
            <p:grpSpPr>
              <a:xfrm>
                <a:off x="8353440" y="3017520"/>
                <a:ext cx="320760" cy="619200"/>
                <a:chOff x="8353440" y="3017520"/>
                <a:chExt cx="320760" cy="619200"/>
              </a:xfrm>
            </p:grpSpPr>
            <p:sp>
              <p:nvSpPr>
                <p:cNvPr id="1555" name="Line 228"/>
                <p:cNvSpPr/>
                <p:nvPr/>
              </p:nvSpPr>
              <p:spPr>
                <a:xfrm flipV="1">
                  <a:off x="8575920" y="3017520"/>
                  <a:ext cx="98280" cy="20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Group 229"/>
                <p:cNvGrpSpPr/>
                <p:nvPr/>
              </p:nvGrpSpPr>
              <p:grpSpPr>
                <a:xfrm>
                  <a:off x="8353440" y="3146760"/>
                  <a:ext cx="278280" cy="489960"/>
                  <a:chOff x="8353440" y="3146760"/>
                  <a:chExt cx="278280" cy="489960"/>
                </a:xfrm>
              </p:grpSpPr>
              <p:sp>
                <p:nvSpPr>
                  <p:cNvPr id="1557" name="Oval 230"/>
                  <p:cNvSpPr/>
                  <p:nvPr/>
                </p:nvSpPr>
                <p:spPr>
                  <a:xfrm>
                    <a:off x="8353440" y="3262680"/>
                    <a:ext cx="278280" cy="37404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Freeform 231"/>
                  <p:cNvSpPr/>
                  <p:nvPr/>
                </p:nvSpPr>
                <p:spPr>
                  <a:xfrm>
                    <a:off x="8506080" y="3146760"/>
                    <a:ext cx="66600" cy="110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59" name="Group 232"/>
            <p:cNvGrpSpPr/>
            <p:nvPr/>
          </p:nvGrpSpPr>
          <p:grpSpPr>
            <a:xfrm>
              <a:off x="7821720" y="3045960"/>
              <a:ext cx="350280" cy="584280"/>
              <a:chOff x="7821720" y="3045960"/>
              <a:chExt cx="350280" cy="584280"/>
            </a:xfrm>
          </p:grpSpPr>
          <p:sp>
            <p:nvSpPr>
              <p:cNvPr id="1560" name="AutoShape 233"/>
              <p:cNvSpPr/>
              <p:nvPr/>
            </p:nvSpPr>
            <p:spPr>
              <a:xfrm>
                <a:off x="7821720" y="3279240"/>
                <a:ext cx="33228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234"/>
              <p:cNvSpPr/>
              <p:nvPr/>
            </p:nvSpPr>
            <p:spPr>
              <a:xfrm>
                <a:off x="7987320" y="3162600"/>
                <a:ext cx="7452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235"/>
              <p:cNvSpPr/>
              <p:nvPr/>
            </p:nvSpPr>
            <p:spPr>
              <a:xfrm flipV="1">
                <a:off x="8062200" y="3045960"/>
                <a:ext cx="10980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3" name="Line 236"/>
            <p:cNvSpPr/>
            <p:nvPr/>
          </p:nvSpPr>
          <p:spPr>
            <a:xfrm flipH="1">
              <a:off x="7878600" y="362412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 Box 237"/>
            <p:cNvSpPr/>
            <p:nvPr/>
          </p:nvSpPr>
          <p:spPr>
            <a:xfrm>
              <a:off x="7826400" y="324468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38"/>
            <p:cNvSpPr/>
            <p:nvPr/>
          </p:nvSpPr>
          <p:spPr>
            <a:xfrm>
              <a:off x="6467400" y="5799240"/>
              <a:ext cx="1067040" cy="3609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239"/>
            <p:cNvSpPr/>
            <p:nvPr/>
          </p:nvSpPr>
          <p:spPr>
            <a:xfrm>
              <a:off x="6450120" y="6600960"/>
              <a:ext cx="108432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240"/>
            <p:cNvGrpSpPr/>
            <p:nvPr/>
          </p:nvGrpSpPr>
          <p:grpSpPr>
            <a:xfrm>
              <a:off x="6380280" y="7607880"/>
              <a:ext cx="884520" cy="1041840"/>
              <a:chOff x="6380280" y="7607880"/>
              <a:chExt cx="884520" cy="1041840"/>
            </a:xfrm>
          </p:grpSpPr>
          <p:sp>
            <p:nvSpPr>
              <p:cNvPr id="1568" name="AutoShape 241"/>
              <p:cNvSpPr/>
              <p:nvPr/>
            </p:nvSpPr>
            <p:spPr>
              <a:xfrm rot="16200000">
                <a:off x="6939720" y="8386920"/>
                <a:ext cx="326520" cy="19908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9" name="Group 242"/>
              <p:cNvGrpSpPr/>
              <p:nvPr/>
            </p:nvGrpSpPr>
            <p:grpSpPr>
              <a:xfrm>
                <a:off x="6380280" y="7607880"/>
                <a:ext cx="884520" cy="885960"/>
                <a:chOff x="6380280" y="7607880"/>
                <a:chExt cx="884520" cy="885960"/>
              </a:xfrm>
            </p:grpSpPr>
            <p:sp>
              <p:nvSpPr>
                <p:cNvPr id="1570" name="Line 243"/>
                <p:cNvSpPr/>
                <p:nvPr/>
              </p:nvSpPr>
              <p:spPr>
                <a:xfrm>
                  <a:off x="6871680" y="7746120"/>
                  <a:ext cx="0" cy="743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244"/>
                <p:cNvSpPr/>
                <p:nvPr/>
              </p:nvSpPr>
              <p:spPr>
                <a:xfrm>
                  <a:off x="6876000" y="849384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245"/>
                <p:cNvSpPr/>
                <p:nvPr/>
              </p:nvSpPr>
              <p:spPr>
                <a:xfrm>
                  <a:off x="6876000" y="774612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AutoShape 246"/>
                <p:cNvSpPr/>
                <p:nvPr/>
              </p:nvSpPr>
              <p:spPr>
                <a:xfrm>
                  <a:off x="6921000" y="8004960"/>
                  <a:ext cx="34380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AutoShape 247"/>
                <p:cNvSpPr/>
                <p:nvPr/>
              </p:nvSpPr>
              <p:spPr>
                <a:xfrm flipH="1" rot="10726200">
                  <a:off x="7002720" y="7608600"/>
                  <a:ext cx="79920" cy="270000"/>
                </a:xfrm>
                <a:custGeom>
                  <a:avLst/>
                  <a:gdLst>
                    <a:gd name="textAreaLeft" fmla="*/ 23400 w 79920"/>
                    <a:gd name="textAreaRight" fmla="*/ 80280 w 79920"/>
                    <a:gd name="textAreaTop" fmla="*/ 62640 h 270000"/>
                    <a:gd name="textAreaBottom" fmla="*/ 207360 h 27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248"/>
                <p:cNvSpPr/>
                <p:nvPr/>
              </p:nvSpPr>
              <p:spPr>
                <a:xfrm flipV="1">
                  <a:off x="6380280" y="8099640"/>
                  <a:ext cx="58824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6" name="Group 249"/>
            <p:cNvGrpSpPr/>
            <p:nvPr/>
          </p:nvGrpSpPr>
          <p:grpSpPr>
            <a:xfrm>
              <a:off x="7093080" y="6786720"/>
              <a:ext cx="352080" cy="626400"/>
              <a:chOff x="7093080" y="6786720"/>
              <a:chExt cx="352080" cy="626400"/>
            </a:xfrm>
          </p:grpSpPr>
          <p:sp>
            <p:nvSpPr>
              <p:cNvPr id="1577" name="Oval 250"/>
              <p:cNvSpPr/>
              <p:nvPr/>
            </p:nvSpPr>
            <p:spPr>
              <a:xfrm>
                <a:off x="7167240" y="703908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8" name="Group 251"/>
              <p:cNvGrpSpPr/>
              <p:nvPr/>
            </p:nvGrpSpPr>
            <p:grpSpPr>
              <a:xfrm>
                <a:off x="7093080" y="6786720"/>
                <a:ext cx="320760" cy="618480"/>
                <a:chOff x="7093080" y="6786720"/>
                <a:chExt cx="320760" cy="618480"/>
              </a:xfrm>
            </p:grpSpPr>
            <p:sp>
              <p:nvSpPr>
                <p:cNvPr id="1579" name="Line 252"/>
                <p:cNvSpPr/>
                <p:nvPr/>
              </p:nvSpPr>
              <p:spPr>
                <a:xfrm flipV="1">
                  <a:off x="7315560" y="6786720"/>
                  <a:ext cx="98280" cy="20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0" name="Group 253"/>
                <p:cNvGrpSpPr/>
                <p:nvPr/>
              </p:nvGrpSpPr>
              <p:grpSpPr>
                <a:xfrm>
                  <a:off x="7093080" y="6915600"/>
                  <a:ext cx="278280" cy="489600"/>
                  <a:chOff x="7093080" y="6915600"/>
                  <a:chExt cx="278280" cy="489600"/>
                </a:xfrm>
              </p:grpSpPr>
              <p:sp>
                <p:nvSpPr>
                  <p:cNvPr id="1581" name="Oval 254"/>
                  <p:cNvSpPr/>
                  <p:nvPr/>
                </p:nvSpPr>
                <p:spPr>
                  <a:xfrm>
                    <a:off x="7093080" y="7031520"/>
                    <a:ext cx="278280" cy="37368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Freeform 255"/>
                  <p:cNvSpPr/>
                  <p:nvPr/>
                </p:nvSpPr>
                <p:spPr>
                  <a:xfrm>
                    <a:off x="7245720" y="6915600"/>
                    <a:ext cx="66600" cy="1098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83" name="Group 256"/>
            <p:cNvGrpSpPr/>
            <p:nvPr/>
          </p:nvGrpSpPr>
          <p:grpSpPr>
            <a:xfrm>
              <a:off x="6561000" y="6814800"/>
              <a:ext cx="350640" cy="584280"/>
              <a:chOff x="6561000" y="6814800"/>
              <a:chExt cx="350640" cy="584280"/>
            </a:xfrm>
          </p:grpSpPr>
          <p:sp>
            <p:nvSpPr>
              <p:cNvPr id="1584" name="AutoShape 257"/>
              <p:cNvSpPr/>
              <p:nvPr/>
            </p:nvSpPr>
            <p:spPr>
              <a:xfrm>
                <a:off x="6561000" y="7048080"/>
                <a:ext cx="33264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258"/>
              <p:cNvSpPr/>
              <p:nvPr/>
            </p:nvSpPr>
            <p:spPr>
              <a:xfrm>
                <a:off x="6726600" y="6931440"/>
                <a:ext cx="7488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Line 259"/>
              <p:cNvSpPr/>
              <p:nvPr/>
            </p:nvSpPr>
            <p:spPr>
              <a:xfrm flipV="1">
                <a:off x="6801480" y="6814800"/>
                <a:ext cx="11016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7" name="Line 260"/>
            <p:cNvSpPr/>
            <p:nvPr/>
          </p:nvSpPr>
          <p:spPr>
            <a:xfrm flipH="1">
              <a:off x="6618240" y="73929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261"/>
            <p:cNvSpPr/>
            <p:nvPr/>
          </p:nvSpPr>
          <p:spPr>
            <a:xfrm>
              <a:off x="6561000" y="701820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Text Box 262"/>
            <p:cNvSpPr/>
            <p:nvPr/>
          </p:nvSpPr>
          <p:spPr>
            <a:xfrm>
              <a:off x="6310440" y="5813280"/>
              <a:ext cx="135396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П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ЧС 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Text Box 2"/>
          <p:cNvSpPr/>
          <p:nvPr/>
        </p:nvSpPr>
        <p:spPr>
          <a:xfrm>
            <a:off x="0" y="1004760"/>
            <a:ext cx="12801600" cy="103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рганизации связи с органами управле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й подсистемы РСЧ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4"/>
          <p:cNvSpPr/>
          <p:nvPr/>
        </p:nvSpPr>
        <p:spPr>
          <a:xfrm>
            <a:off x="0" y="-23760"/>
            <a:ext cx="12801600" cy="82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Group 4"/>
          <p:cNvGrpSpPr/>
          <p:nvPr/>
        </p:nvGrpSpPr>
        <p:grpSpPr>
          <a:xfrm>
            <a:off x="492120" y="2162160"/>
            <a:ext cx="11525040" cy="7394040"/>
            <a:chOff x="492120" y="2162160"/>
            <a:chExt cx="11525040" cy="7394040"/>
          </a:xfrm>
        </p:grpSpPr>
        <p:sp>
          <p:nvSpPr>
            <p:cNvPr id="1593" name="Rectangle 5"/>
            <p:cNvSpPr/>
            <p:nvPr/>
          </p:nvSpPr>
          <p:spPr>
            <a:xfrm>
              <a:off x="5037120" y="2238120"/>
              <a:ext cx="1503360" cy="7237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6"/>
            <p:cNvSpPr/>
            <p:nvPr/>
          </p:nvSpPr>
          <p:spPr>
            <a:xfrm>
              <a:off x="5022720" y="3006720"/>
              <a:ext cx="15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7"/>
            <p:cNvSpPr/>
            <p:nvPr/>
          </p:nvSpPr>
          <p:spPr>
            <a:xfrm>
              <a:off x="5089320" y="2284200"/>
              <a:ext cx="139068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Г ГУ МЧС России по НС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8"/>
            <p:cNvSpPr/>
            <p:nvPr/>
          </p:nvSpPr>
          <p:spPr>
            <a:xfrm>
              <a:off x="5389560" y="9183600"/>
              <a:ext cx="7110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AutoShape 9"/>
            <p:cNvSpPr/>
            <p:nvPr/>
          </p:nvSpPr>
          <p:spPr>
            <a:xfrm flipH="1">
              <a:off x="5589360" y="8786520"/>
              <a:ext cx="68400" cy="244800"/>
            </a:xfrm>
            <a:custGeom>
              <a:avLst/>
              <a:gdLst>
                <a:gd name="textAreaLeft" fmla="*/ 20520 w 68400"/>
                <a:gd name="textAreaRight" fmla="*/ 69120 w 6840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8" name="Group 10"/>
            <p:cNvGrpSpPr/>
            <p:nvPr/>
          </p:nvGrpSpPr>
          <p:grpSpPr>
            <a:xfrm>
              <a:off x="5640480" y="8583480"/>
              <a:ext cx="326520" cy="595080"/>
              <a:chOff x="5640480" y="8583480"/>
              <a:chExt cx="326520" cy="595080"/>
            </a:xfrm>
          </p:grpSpPr>
          <p:sp>
            <p:nvSpPr>
              <p:cNvPr id="1599" name="Freeform 11"/>
              <p:cNvSpPr/>
              <p:nvPr/>
            </p:nvSpPr>
            <p:spPr>
              <a:xfrm>
                <a:off x="5640480" y="8583480"/>
                <a:ext cx="326520" cy="2246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22320">
                <a:solidFill>
                  <a:srgbClr val="000000"/>
                </a:solidFill>
                <a:round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12"/>
              <p:cNvSpPr/>
              <p:nvPr/>
            </p:nvSpPr>
            <p:spPr>
              <a:xfrm>
                <a:off x="5790960" y="8909280"/>
                <a:ext cx="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13"/>
              <p:cNvSpPr/>
              <p:nvPr/>
            </p:nvSpPr>
            <p:spPr>
              <a:xfrm>
                <a:off x="5648400" y="890928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Group 14"/>
            <p:cNvGrpSpPr/>
            <p:nvPr/>
          </p:nvGrpSpPr>
          <p:grpSpPr>
            <a:xfrm>
              <a:off x="5245200" y="3357000"/>
              <a:ext cx="350280" cy="584280"/>
              <a:chOff x="5245200" y="3357000"/>
              <a:chExt cx="350280" cy="584280"/>
            </a:xfrm>
          </p:grpSpPr>
          <p:sp>
            <p:nvSpPr>
              <p:cNvPr id="1603" name="AutoShape 15"/>
              <p:cNvSpPr/>
              <p:nvPr/>
            </p:nvSpPr>
            <p:spPr>
              <a:xfrm>
                <a:off x="5245200" y="3590280"/>
                <a:ext cx="33228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6"/>
              <p:cNvSpPr/>
              <p:nvPr/>
            </p:nvSpPr>
            <p:spPr>
              <a:xfrm>
                <a:off x="5410800" y="3473640"/>
                <a:ext cx="7452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17"/>
              <p:cNvSpPr/>
              <p:nvPr/>
            </p:nvSpPr>
            <p:spPr>
              <a:xfrm flipV="1">
                <a:off x="5485680" y="3357000"/>
                <a:ext cx="10980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Text Box 18"/>
            <p:cNvSpPr/>
            <p:nvPr/>
          </p:nvSpPr>
          <p:spPr>
            <a:xfrm>
              <a:off x="5270400" y="358596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7" name="Group 19"/>
            <p:cNvGrpSpPr/>
            <p:nvPr/>
          </p:nvGrpSpPr>
          <p:grpSpPr>
            <a:xfrm>
              <a:off x="5878440" y="3312720"/>
              <a:ext cx="352080" cy="627120"/>
              <a:chOff x="5878440" y="3312720"/>
              <a:chExt cx="352080" cy="627120"/>
            </a:xfrm>
          </p:grpSpPr>
          <p:sp>
            <p:nvSpPr>
              <p:cNvPr id="1608" name="Oval 20"/>
              <p:cNvSpPr/>
              <p:nvPr/>
            </p:nvSpPr>
            <p:spPr>
              <a:xfrm>
                <a:off x="5952600" y="356580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Group 21"/>
              <p:cNvGrpSpPr/>
              <p:nvPr/>
            </p:nvGrpSpPr>
            <p:grpSpPr>
              <a:xfrm>
                <a:off x="5878440" y="3312720"/>
                <a:ext cx="320760" cy="619200"/>
                <a:chOff x="5878440" y="3312720"/>
                <a:chExt cx="320760" cy="619200"/>
              </a:xfrm>
            </p:grpSpPr>
            <p:sp>
              <p:nvSpPr>
                <p:cNvPr id="1610" name="Line 22"/>
                <p:cNvSpPr/>
                <p:nvPr/>
              </p:nvSpPr>
              <p:spPr>
                <a:xfrm flipV="1">
                  <a:off x="6100920" y="3312720"/>
                  <a:ext cx="98280" cy="20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1" name="Group 23"/>
                <p:cNvGrpSpPr/>
                <p:nvPr/>
              </p:nvGrpSpPr>
              <p:grpSpPr>
                <a:xfrm>
                  <a:off x="5878440" y="3441960"/>
                  <a:ext cx="278280" cy="489960"/>
                  <a:chOff x="5878440" y="3441960"/>
                  <a:chExt cx="278280" cy="489960"/>
                </a:xfrm>
              </p:grpSpPr>
              <p:sp>
                <p:nvSpPr>
                  <p:cNvPr id="1612" name="Oval 24"/>
                  <p:cNvSpPr/>
                  <p:nvPr/>
                </p:nvSpPr>
                <p:spPr>
                  <a:xfrm>
                    <a:off x="5878440" y="3557880"/>
                    <a:ext cx="278280" cy="37404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Freeform 25"/>
                  <p:cNvSpPr/>
                  <p:nvPr/>
                </p:nvSpPr>
                <p:spPr>
                  <a:xfrm>
                    <a:off x="6031080" y="3441960"/>
                    <a:ext cx="66600" cy="110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14" name="AutoShape 26"/>
            <p:cNvSpPr/>
            <p:nvPr/>
          </p:nvSpPr>
          <p:spPr>
            <a:xfrm>
              <a:off x="5645160" y="4741920"/>
              <a:ext cx="288720" cy="28872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7"/>
            <p:cNvSpPr/>
            <p:nvPr/>
          </p:nvSpPr>
          <p:spPr>
            <a:xfrm rot="3097800">
              <a:off x="5745240" y="4618800"/>
              <a:ext cx="73080" cy="17316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Group 28"/>
            <p:cNvGrpSpPr/>
            <p:nvPr/>
          </p:nvGrpSpPr>
          <p:grpSpPr>
            <a:xfrm>
              <a:off x="5600520" y="3984120"/>
              <a:ext cx="350640" cy="582480"/>
              <a:chOff x="5600520" y="3984120"/>
              <a:chExt cx="350640" cy="582480"/>
            </a:xfrm>
          </p:grpSpPr>
          <p:sp>
            <p:nvSpPr>
              <p:cNvPr id="1617" name="AutoShape 29"/>
              <p:cNvSpPr/>
              <p:nvPr/>
            </p:nvSpPr>
            <p:spPr>
              <a:xfrm>
                <a:off x="5600520" y="4216680"/>
                <a:ext cx="332640" cy="34992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30"/>
              <p:cNvSpPr/>
              <p:nvPr/>
            </p:nvSpPr>
            <p:spPr>
              <a:xfrm>
                <a:off x="5766120" y="4100400"/>
                <a:ext cx="74880" cy="11628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Line 31"/>
              <p:cNvSpPr/>
              <p:nvPr/>
            </p:nvSpPr>
            <p:spPr>
              <a:xfrm flipV="1">
                <a:off x="5841000" y="3984120"/>
                <a:ext cx="110160" cy="21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0" name="Text Box 32"/>
            <p:cNvSpPr/>
            <p:nvPr/>
          </p:nvSpPr>
          <p:spPr>
            <a:xfrm>
              <a:off x="5592600" y="4340160"/>
              <a:ext cx="5191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1" name="Group 33"/>
            <p:cNvGrpSpPr/>
            <p:nvPr/>
          </p:nvGrpSpPr>
          <p:grpSpPr>
            <a:xfrm>
              <a:off x="5614920" y="5252760"/>
              <a:ext cx="353520" cy="587160"/>
              <a:chOff x="5614920" y="5252760"/>
              <a:chExt cx="353520" cy="587160"/>
            </a:xfrm>
          </p:grpSpPr>
          <p:sp>
            <p:nvSpPr>
              <p:cNvPr id="1622" name="AutoShape 34"/>
              <p:cNvSpPr/>
              <p:nvPr/>
            </p:nvSpPr>
            <p:spPr>
              <a:xfrm>
                <a:off x="5614920" y="5486760"/>
                <a:ext cx="335160" cy="35316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35"/>
              <p:cNvSpPr/>
              <p:nvPr/>
            </p:nvSpPr>
            <p:spPr>
              <a:xfrm>
                <a:off x="5781960" y="5369400"/>
                <a:ext cx="7524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36"/>
              <p:cNvSpPr/>
              <p:nvPr/>
            </p:nvSpPr>
            <p:spPr>
              <a:xfrm flipV="1">
                <a:off x="5857560" y="5252760"/>
                <a:ext cx="110880" cy="2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Text Box 37"/>
            <p:cNvSpPr/>
            <p:nvPr/>
          </p:nvSpPr>
          <p:spPr>
            <a:xfrm>
              <a:off x="5608440" y="5608440"/>
              <a:ext cx="5209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38"/>
            <p:cNvSpPr/>
            <p:nvPr/>
          </p:nvSpPr>
          <p:spPr>
            <a:xfrm>
              <a:off x="2392200" y="2230200"/>
              <a:ext cx="2121120" cy="725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Line 39"/>
            <p:cNvSpPr/>
            <p:nvPr/>
          </p:nvSpPr>
          <p:spPr>
            <a:xfrm flipH="1">
              <a:off x="3459240" y="2805120"/>
              <a:ext cx="7920" cy="67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Line 40"/>
            <p:cNvSpPr/>
            <p:nvPr/>
          </p:nvSpPr>
          <p:spPr>
            <a:xfrm>
              <a:off x="2413080" y="2805120"/>
              <a:ext cx="21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41"/>
            <p:cNvSpPr/>
            <p:nvPr/>
          </p:nvSpPr>
          <p:spPr>
            <a:xfrm>
              <a:off x="2352600" y="2255760"/>
              <a:ext cx="22226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У МЧС России по НСО г.Новосибир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42"/>
            <p:cNvSpPr/>
            <p:nvPr/>
          </p:nvSpPr>
          <p:spPr>
            <a:xfrm>
              <a:off x="2395440" y="3257280"/>
              <a:ext cx="210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43"/>
            <p:cNvSpPr/>
            <p:nvPr/>
          </p:nvSpPr>
          <p:spPr>
            <a:xfrm>
              <a:off x="2384280" y="2860560"/>
              <a:ext cx="91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ЦУК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44"/>
            <p:cNvSpPr/>
            <p:nvPr/>
          </p:nvSpPr>
          <p:spPr>
            <a:xfrm>
              <a:off x="3674880" y="2860560"/>
              <a:ext cx="716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45"/>
            <p:cNvSpPr/>
            <p:nvPr/>
          </p:nvSpPr>
          <p:spPr>
            <a:xfrm>
              <a:off x="2477880" y="9213840"/>
              <a:ext cx="6843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Text Box 46"/>
            <p:cNvSpPr/>
            <p:nvPr/>
          </p:nvSpPr>
          <p:spPr>
            <a:xfrm>
              <a:off x="3666960" y="9213840"/>
              <a:ext cx="750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7"/>
            <p:cNvSpPr/>
            <p:nvPr/>
          </p:nvSpPr>
          <p:spPr>
            <a:xfrm>
              <a:off x="2766960" y="8583480"/>
              <a:ext cx="325440" cy="2253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48"/>
            <p:cNvSpPr/>
            <p:nvPr/>
          </p:nvSpPr>
          <p:spPr>
            <a:xfrm flipH="1">
              <a:off x="2702880" y="8786520"/>
              <a:ext cx="75960" cy="2448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49"/>
            <p:cNvSpPr/>
            <p:nvPr/>
          </p:nvSpPr>
          <p:spPr>
            <a:xfrm>
              <a:off x="2914560" y="890892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50"/>
            <p:cNvSpPr/>
            <p:nvPr/>
          </p:nvSpPr>
          <p:spPr>
            <a:xfrm>
              <a:off x="2778120" y="8908920"/>
              <a:ext cx="13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51"/>
            <p:cNvSpPr/>
            <p:nvPr/>
          </p:nvSpPr>
          <p:spPr>
            <a:xfrm>
              <a:off x="3952800" y="8583480"/>
              <a:ext cx="328680" cy="2253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AutoShape 52"/>
            <p:cNvSpPr/>
            <p:nvPr/>
          </p:nvSpPr>
          <p:spPr>
            <a:xfrm flipH="1">
              <a:off x="3891600" y="8786520"/>
              <a:ext cx="71640" cy="244800"/>
            </a:xfrm>
            <a:custGeom>
              <a:avLst/>
              <a:gdLst>
                <a:gd name="textAreaLeft" fmla="*/ 20520 w 71640"/>
                <a:gd name="textAreaRight" fmla="*/ 71640 w 71640"/>
                <a:gd name="textAreaTop" fmla="*/ 56880 h 244800"/>
                <a:gd name="textAreaBottom" fmla="*/ 18792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53"/>
            <p:cNvSpPr/>
            <p:nvPr/>
          </p:nvSpPr>
          <p:spPr>
            <a:xfrm>
              <a:off x="4103640" y="890892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Line 54"/>
            <p:cNvSpPr/>
            <p:nvPr/>
          </p:nvSpPr>
          <p:spPr>
            <a:xfrm>
              <a:off x="3962160" y="8908920"/>
              <a:ext cx="1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5"/>
            <p:cNvSpPr/>
            <p:nvPr/>
          </p:nvSpPr>
          <p:spPr>
            <a:xfrm>
              <a:off x="2901960" y="9151920"/>
              <a:ext cx="31680" cy="48960"/>
            </a:xfrm>
            <a:prstGeom prst="ellipse">
              <a:avLst/>
            </a:prstGeom>
            <a:solidFill>
              <a:srgbClr val="000000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4" name="Group 56"/>
            <p:cNvGrpSpPr/>
            <p:nvPr/>
          </p:nvGrpSpPr>
          <p:grpSpPr>
            <a:xfrm>
              <a:off x="3755880" y="3357000"/>
              <a:ext cx="347400" cy="584280"/>
              <a:chOff x="3755880" y="3357000"/>
              <a:chExt cx="347400" cy="584280"/>
            </a:xfrm>
          </p:grpSpPr>
          <p:sp>
            <p:nvSpPr>
              <p:cNvPr id="1645" name="AutoShape 57"/>
              <p:cNvSpPr/>
              <p:nvPr/>
            </p:nvSpPr>
            <p:spPr>
              <a:xfrm>
                <a:off x="3755880" y="3590280"/>
                <a:ext cx="32940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58"/>
              <p:cNvSpPr/>
              <p:nvPr/>
            </p:nvSpPr>
            <p:spPr>
              <a:xfrm>
                <a:off x="3920040" y="3473640"/>
                <a:ext cx="7416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Line 59"/>
              <p:cNvSpPr/>
              <p:nvPr/>
            </p:nvSpPr>
            <p:spPr>
              <a:xfrm flipV="1">
                <a:off x="3994200" y="3357000"/>
                <a:ext cx="10908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8" name="Text Box 60"/>
            <p:cNvSpPr/>
            <p:nvPr/>
          </p:nvSpPr>
          <p:spPr>
            <a:xfrm>
              <a:off x="3774960" y="3585960"/>
              <a:ext cx="354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61"/>
            <p:cNvSpPr/>
            <p:nvPr/>
          </p:nvSpPr>
          <p:spPr>
            <a:xfrm>
              <a:off x="2730600" y="7549920"/>
              <a:ext cx="0" cy="744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62"/>
            <p:cNvSpPr/>
            <p:nvPr/>
          </p:nvSpPr>
          <p:spPr>
            <a:xfrm>
              <a:off x="2733480" y="8297640"/>
              <a:ext cx="112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Line 63"/>
            <p:cNvSpPr/>
            <p:nvPr/>
          </p:nvSpPr>
          <p:spPr>
            <a:xfrm>
              <a:off x="2733480" y="7549920"/>
              <a:ext cx="112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Line 64"/>
            <p:cNvSpPr/>
            <p:nvPr/>
          </p:nvSpPr>
          <p:spPr>
            <a:xfrm flipV="1">
              <a:off x="2211480" y="7902360"/>
              <a:ext cx="590400" cy="6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AutoShape 65"/>
            <p:cNvSpPr/>
            <p:nvPr/>
          </p:nvSpPr>
          <p:spPr>
            <a:xfrm>
              <a:off x="2778120" y="7808760"/>
              <a:ext cx="344520" cy="185760"/>
            </a:xfrm>
            <a:prstGeom prst="diamond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AutoShape 66"/>
            <p:cNvSpPr/>
            <p:nvPr/>
          </p:nvSpPr>
          <p:spPr>
            <a:xfrm rot="16200000">
              <a:off x="2775600" y="8188920"/>
              <a:ext cx="325440" cy="203040"/>
            </a:xfrm>
            <a:prstGeom prst="flowChartMerge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utoShape 67"/>
            <p:cNvSpPr/>
            <p:nvPr/>
          </p:nvSpPr>
          <p:spPr>
            <a:xfrm flipH="1" rot="10726200">
              <a:off x="2858400" y="7412040"/>
              <a:ext cx="77760" cy="271080"/>
            </a:xfrm>
            <a:custGeom>
              <a:avLst/>
              <a:gdLst>
                <a:gd name="textAreaLeft" fmla="*/ 22680 w 77760"/>
                <a:gd name="textAreaRight" fmla="*/ 78120 w 77760"/>
                <a:gd name="textAreaTop" fmla="*/ 63000 h 271080"/>
                <a:gd name="textAreaBottom" fmla="*/ 20808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6" name="Group 68"/>
            <p:cNvGrpSpPr/>
            <p:nvPr/>
          </p:nvGrpSpPr>
          <p:grpSpPr>
            <a:xfrm>
              <a:off x="3625920" y="7393320"/>
              <a:ext cx="984960" cy="1029600"/>
              <a:chOff x="3625920" y="7393320"/>
              <a:chExt cx="984960" cy="1029600"/>
            </a:xfrm>
          </p:grpSpPr>
          <p:sp>
            <p:nvSpPr>
              <p:cNvPr id="1657" name="Line 69"/>
              <p:cNvSpPr/>
              <p:nvPr/>
            </p:nvSpPr>
            <p:spPr>
              <a:xfrm>
                <a:off x="4116960" y="7522200"/>
                <a:ext cx="0" cy="743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Line 70"/>
              <p:cNvSpPr/>
              <p:nvPr/>
            </p:nvSpPr>
            <p:spPr>
              <a:xfrm>
                <a:off x="3998160" y="8263800"/>
                <a:ext cx="116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71"/>
              <p:cNvSpPr/>
              <p:nvPr/>
            </p:nvSpPr>
            <p:spPr>
              <a:xfrm>
                <a:off x="3988800" y="7534080"/>
                <a:ext cx="116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Line 72"/>
              <p:cNvSpPr/>
              <p:nvPr/>
            </p:nvSpPr>
            <p:spPr>
              <a:xfrm>
                <a:off x="3973320" y="7906680"/>
                <a:ext cx="63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AutoShape 73"/>
              <p:cNvSpPr/>
              <p:nvPr/>
            </p:nvSpPr>
            <p:spPr>
              <a:xfrm>
                <a:off x="3625920" y="7817400"/>
                <a:ext cx="344160" cy="184320"/>
              </a:xfrm>
              <a:prstGeom prst="diamond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AutoShape 74"/>
              <p:cNvSpPr/>
              <p:nvPr/>
            </p:nvSpPr>
            <p:spPr>
              <a:xfrm rot="5400000">
                <a:off x="3729600" y="8158320"/>
                <a:ext cx="325800" cy="20304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AutoShape 75"/>
              <p:cNvSpPr/>
              <p:nvPr/>
            </p:nvSpPr>
            <p:spPr>
              <a:xfrm rot="10725600">
                <a:off x="3890520" y="7394040"/>
                <a:ext cx="79200" cy="271800"/>
              </a:xfrm>
              <a:custGeom>
                <a:avLst/>
                <a:gdLst>
                  <a:gd name="textAreaLeft" fmla="*/ 23040 w 79200"/>
                  <a:gd name="textAreaRight" fmla="*/ 79560 w 79200"/>
                  <a:gd name="textAreaTop" fmla="*/ 63000 h 271800"/>
                  <a:gd name="textAreaBottom" fmla="*/ 208800 h 27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25"/>
                      <a:pt x="0" y="10050"/>
                    </a:cubicBezTo>
                    <a:lnTo>
                      <a:pt x="0" y="11550"/>
                    </a:lnTo>
                    <a:cubicBezTo>
                      <a:pt x="0" y="16575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Oval 76"/>
            <p:cNvSpPr/>
            <p:nvPr/>
          </p:nvSpPr>
          <p:spPr>
            <a:xfrm>
              <a:off x="4081320" y="9140760"/>
              <a:ext cx="36720" cy="49320"/>
            </a:xfrm>
            <a:prstGeom prst="ellipse">
              <a:avLst/>
            </a:prstGeom>
            <a:solidFill>
              <a:srgbClr val="000000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77"/>
            <p:cNvGrpSpPr/>
            <p:nvPr/>
          </p:nvGrpSpPr>
          <p:grpSpPr>
            <a:xfrm>
              <a:off x="3859200" y="3985560"/>
              <a:ext cx="353520" cy="586080"/>
              <a:chOff x="3859200" y="3985560"/>
              <a:chExt cx="353520" cy="586080"/>
            </a:xfrm>
          </p:grpSpPr>
          <p:sp>
            <p:nvSpPr>
              <p:cNvPr id="1666" name="AutoShape 78"/>
              <p:cNvSpPr/>
              <p:nvPr/>
            </p:nvSpPr>
            <p:spPr>
              <a:xfrm>
                <a:off x="3859200" y="4219560"/>
                <a:ext cx="335160" cy="35208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79"/>
              <p:cNvSpPr/>
              <p:nvPr/>
            </p:nvSpPr>
            <p:spPr>
              <a:xfrm>
                <a:off x="4026240" y="4102560"/>
                <a:ext cx="7524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80"/>
              <p:cNvSpPr/>
              <p:nvPr/>
            </p:nvSpPr>
            <p:spPr>
              <a:xfrm flipV="1">
                <a:off x="4101840" y="3985560"/>
                <a:ext cx="110880" cy="214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9" name="Text Box 81"/>
            <p:cNvSpPr/>
            <p:nvPr/>
          </p:nvSpPr>
          <p:spPr>
            <a:xfrm>
              <a:off x="3848040" y="4316400"/>
              <a:ext cx="4665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Group 82"/>
            <p:cNvGrpSpPr/>
            <p:nvPr/>
          </p:nvGrpSpPr>
          <p:grpSpPr>
            <a:xfrm>
              <a:off x="3897360" y="5260680"/>
              <a:ext cx="353520" cy="580680"/>
              <a:chOff x="3897360" y="5260680"/>
              <a:chExt cx="353520" cy="580680"/>
            </a:xfrm>
          </p:grpSpPr>
          <p:sp>
            <p:nvSpPr>
              <p:cNvPr id="1671" name="AutoShape 83"/>
              <p:cNvSpPr/>
              <p:nvPr/>
            </p:nvSpPr>
            <p:spPr>
              <a:xfrm>
                <a:off x="3897360" y="5492520"/>
                <a:ext cx="335160" cy="34884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84"/>
              <p:cNvSpPr/>
              <p:nvPr/>
            </p:nvSpPr>
            <p:spPr>
              <a:xfrm>
                <a:off x="4064400" y="5376600"/>
                <a:ext cx="75240" cy="11592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Line 85"/>
              <p:cNvSpPr/>
              <p:nvPr/>
            </p:nvSpPr>
            <p:spPr>
              <a:xfrm flipV="1">
                <a:off x="4140000" y="5260680"/>
                <a:ext cx="110880" cy="212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Text Box 86"/>
            <p:cNvSpPr/>
            <p:nvPr/>
          </p:nvSpPr>
          <p:spPr>
            <a:xfrm>
              <a:off x="3868560" y="5630760"/>
              <a:ext cx="4669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87"/>
            <p:cNvSpPr/>
            <p:nvPr/>
          </p:nvSpPr>
          <p:spPr>
            <a:xfrm>
              <a:off x="619200" y="2193840"/>
              <a:ext cx="1504800" cy="7281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88"/>
            <p:cNvSpPr/>
            <p:nvPr/>
          </p:nvSpPr>
          <p:spPr>
            <a:xfrm>
              <a:off x="603360" y="298584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Text Box 89"/>
            <p:cNvSpPr/>
            <p:nvPr/>
          </p:nvSpPr>
          <p:spPr>
            <a:xfrm>
              <a:off x="608040" y="2284200"/>
              <a:ext cx="1573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Р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Краснояр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Text Box 90"/>
            <p:cNvSpPr/>
            <p:nvPr/>
          </p:nvSpPr>
          <p:spPr>
            <a:xfrm>
              <a:off x="873000" y="9229680"/>
              <a:ext cx="7351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М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91"/>
            <p:cNvSpPr/>
            <p:nvPr/>
          </p:nvSpPr>
          <p:spPr>
            <a:xfrm>
              <a:off x="1272960" y="8596080"/>
              <a:ext cx="324000" cy="22392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22320">
              <a:solidFill>
                <a:srgbClr val="00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92"/>
            <p:cNvSpPr/>
            <p:nvPr/>
          </p:nvSpPr>
          <p:spPr>
            <a:xfrm flipH="1">
              <a:off x="1211040" y="8797680"/>
              <a:ext cx="69840" cy="244440"/>
            </a:xfrm>
            <a:custGeom>
              <a:avLst/>
              <a:gdLst>
                <a:gd name="textAreaLeft" fmla="*/ 20880 w 69840"/>
                <a:gd name="textAreaRight" fmla="*/ 70200 w 69840"/>
                <a:gd name="textAreaTop" fmla="*/ 56880 h 244440"/>
                <a:gd name="textAreaBottom" fmla="*/ 18756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93"/>
            <p:cNvSpPr/>
            <p:nvPr/>
          </p:nvSpPr>
          <p:spPr>
            <a:xfrm>
              <a:off x="1419120" y="89200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94"/>
            <p:cNvSpPr/>
            <p:nvPr/>
          </p:nvSpPr>
          <p:spPr>
            <a:xfrm>
              <a:off x="1279440" y="8920080"/>
              <a:ext cx="139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 anchorCtr="1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95"/>
            <p:cNvSpPr/>
            <p:nvPr/>
          </p:nvSpPr>
          <p:spPr>
            <a:xfrm>
              <a:off x="1334880" y="7562880"/>
              <a:ext cx="0" cy="742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96"/>
            <p:cNvSpPr/>
            <p:nvPr/>
          </p:nvSpPr>
          <p:spPr>
            <a:xfrm>
              <a:off x="1339920" y="8308800"/>
              <a:ext cx="11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97"/>
            <p:cNvSpPr/>
            <p:nvPr/>
          </p:nvSpPr>
          <p:spPr>
            <a:xfrm>
              <a:off x="1339920" y="7562880"/>
              <a:ext cx="11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98"/>
            <p:cNvSpPr/>
            <p:nvPr/>
          </p:nvSpPr>
          <p:spPr>
            <a:xfrm>
              <a:off x="492120" y="7912080"/>
              <a:ext cx="919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AutoShape 99"/>
            <p:cNvSpPr/>
            <p:nvPr/>
          </p:nvSpPr>
          <p:spPr>
            <a:xfrm>
              <a:off x="1380960" y="7819920"/>
              <a:ext cx="344520" cy="187200"/>
            </a:xfrm>
            <a:prstGeom prst="diamond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100"/>
            <p:cNvSpPr/>
            <p:nvPr/>
          </p:nvSpPr>
          <p:spPr>
            <a:xfrm rot="16200000">
              <a:off x="1380960" y="8204040"/>
              <a:ext cx="330480" cy="200160"/>
            </a:xfrm>
            <a:prstGeom prst="flowChartMerge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AutoShape 101"/>
            <p:cNvSpPr/>
            <p:nvPr/>
          </p:nvSpPr>
          <p:spPr>
            <a:xfrm flipH="1" rot="10726200">
              <a:off x="1465560" y="7422840"/>
              <a:ext cx="79560" cy="271440"/>
            </a:xfrm>
            <a:custGeom>
              <a:avLst/>
              <a:gdLst>
                <a:gd name="textAreaLeft" fmla="*/ 23400 w 79560"/>
                <a:gd name="textAreaRight" fmla="*/ 79920 w 79560"/>
                <a:gd name="textAreaTop" fmla="*/ 63000 h 271440"/>
                <a:gd name="textAreaBottom" fmla="*/ 20844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25"/>
                    <a:pt x="0" y="10050"/>
                  </a:cubicBezTo>
                  <a:lnTo>
                    <a:pt x="0" y="11550"/>
                  </a:lnTo>
                  <a:cubicBezTo>
                    <a:pt x="0" y="16575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AutoShape 102"/>
            <p:cNvSpPr/>
            <p:nvPr/>
          </p:nvSpPr>
          <p:spPr>
            <a:xfrm>
              <a:off x="1211040" y="4749840"/>
              <a:ext cx="281160" cy="29052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3"/>
            <p:cNvSpPr/>
            <p:nvPr/>
          </p:nvSpPr>
          <p:spPr>
            <a:xfrm rot="3097800">
              <a:off x="1307520" y="4605120"/>
              <a:ext cx="76320" cy="16812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2" name="Group 104"/>
            <p:cNvGrpSpPr/>
            <p:nvPr/>
          </p:nvGrpSpPr>
          <p:grpSpPr>
            <a:xfrm>
              <a:off x="1255680" y="3985560"/>
              <a:ext cx="352080" cy="586080"/>
              <a:chOff x="1255680" y="3985560"/>
              <a:chExt cx="352080" cy="586080"/>
            </a:xfrm>
          </p:grpSpPr>
          <p:sp>
            <p:nvSpPr>
              <p:cNvPr id="1693" name="AutoShape 105"/>
              <p:cNvSpPr/>
              <p:nvPr/>
            </p:nvSpPr>
            <p:spPr>
              <a:xfrm>
                <a:off x="1255680" y="4219560"/>
                <a:ext cx="333720" cy="35208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06"/>
              <p:cNvSpPr/>
              <p:nvPr/>
            </p:nvSpPr>
            <p:spPr>
              <a:xfrm>
                <a:off x="1422000" y="4102560"/>
                <a:ext cx="74880" cy="117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Line 107"/>
              <p:cNvSpPr/>
              <p:nvPr/>
            </p:nvSpPr>
            <p:spPr>
              <a:xfrm flipV="1">
                <a:off x="1497240" y="3985560"/>
                <a:ext cx="110520" cy="214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6" name="Text Box 108"/>
            <p:cNvSpPr/>
            <p:nvPr/>
          </p:nvSpPr>
          <p:spPr>
            <a:xfrm>
              <a:off x="1233360" y="4316400"/>
              <a:ext cx="5256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09"/>
            <p:cNvGrpSpPr/>
            <p:nvPr/>
          </p:nvGrpSpPr>
          <p:grpSpPr>
            <a:xfrm>
              <a:off x="1272960" y="5260680"/>
              <a:ext cx="352080" cy="580680"/>
              <a:chOff x="1272960" y="5260680"/>
              <a:chExt cx="352080" cy="580680"/>
            </a:xfrm>
          </p:grpSpPr>
          <p:sp>
            <p:nvSpPr>
              <p:cNvPr id="1698" name="AutoShape 110"/>
              <p:cNvSpPr/>
              <p:nvPr/>
            </p:nvSpPr>
            <p:spPr>
              <a:xfrm>
                <a:off x="1272960" y="5492520"/>
                <a:ext cx="333720" cy="34884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1"/>
              <p:cNvSpPr/>
              <p:nvPr/>
            </p:nvSpPr>
            <p:spPr>
              <a:xfrm>
                <a:off x="1439280" y="5376600"/>
                <a:ext cx="74880" cy="11592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Line 112"/>
              <p:cNvSpPr/>
              <p:nvPr/>
            </p:nvSpPr>
            <p:spPr>
              <a:xfrm flipV="1">
                <a:off x="1514520" y="5260680"/>
                <a:ext cx="110520" cy="212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1" name="Text Box 113"/>
            <p:cNvSpPr/>
            <p:nvPr/>
          </p:nvSpPr>
          <p:spPr>
            <a:xfrm>
              <a:off x="1252440" y="5586120"/>
              <a:ext cx="5256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Line 114"/>
            <p:cNvSpPr/>
            <p:nvPr/>
          </p:nvSpPr>
          <p:spPr>
            <a:xfrm flipH="1">
              <a:off x="3773160" y="3946320"/>
              <a:ext cx="23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Text Box 115"/>
            <p:cNvSpPr/>
            <p:nvPr/>
          </p:nvSpPr>
          <p:spPr>
            <a:xfrm>
              <a:off x="4422600" y="3585960"/>
              <a:ext cx="912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/с №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16"/>
            <p:cNvSpPr/>
            <p:nvPr/>
          </p:nvSpPr>
          <p:spPr>
            <a:xfrm>
              <a:off x="1311120" y="5033880"/>
              <a:ext cx="458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17"/>
            <p:cNvSpPr/>
            <p:nvPr/>
          </p:nvSpPr>
          <p:spPr>
            <a:xfrm flipH="1">
              <a:off x="1377720" y="4572000"/>
              <a:ext cx="451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Text Box 118"/>
            <p:cNvSpPr/>
            <p:nvPr/>
          </p:nvSpPr>
          <p:spPr>
            <a:xfrm>
              <a:off x="4130640" y="3968640"/>
              <a:ext cx="14698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/с №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повещения СРЦ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119"/>
            <p:cNvSpPr/>
            <p:nvPr/>
          </p:nvSpPr>
          <p:spPr>
            <a:xfrm flipH="1">
              <a:off x="1261800" y="5841720"/>
              <a:ext cx="456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120"/>
            <p:cNvSpPr/>
            <p:nvPr/>
          </p:nvSpPr>
          <p:spPr>
            <a:xfrm>
              <a:off x="4289400" y="5146560"/>
              <a:ext cx="12556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/с №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Line 121"/>
            <p:cNvSpPr/>
            <p:nvPr/>
          </p:nvSpPr>
          <p:spPr>
            <a:xfrm flipV="1">
              <a:off x="1274760" y="7191000"/>
              <a:ext cx="4803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AutoShape 122"/>
            <p:cNvSpPr/>
            <p:nvPr/>
          </p:nvSpPr>
          <p:spPr>
            <a:xfrm>
              <a:off x="5689440" y="7062840"/>
              <a:ext cx="422280" cy="2458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AutoShape 123"/>
            <p:cNvSpPr/>
            <p:nvPr/>
          </p:nvSpPr>
          <p:spPr>
            <a:xfrm>
              <a:off x="3833640" y="7072200"/>
              <a:ext cx="424080" cy="2476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AutoShape 124"/>
            <p:cNvSpPr/>
            <p:nvPr/>
          </p:nvSpPr>
          <p:spPr>
            <a:xfrm>
              <a:off x="2706480" y="7062840"/>
              <a:ext cx="422280" cy="24588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AutoShape 125"/>
            <p:cNvSpPr/>
            <p:nvPr/>
          </p:nvSpPr>
          <p:spPr>
            <a:xfrm>
              <a:off x="1103400" y="7064280"/>
              <a:ext cx="422280" cy="252360"/>
            </a:xfrm>
            <a:prstGeom prst="diamond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4" name="Group 126"/>
            <p:cNvGrpSpPr/>
            <p:nvPr/>
          </p:nvGrpSpPr>
          <p:grpSpPr>
            <a:xfrm>
              <a:off x="4914720" y="7410600"/>
              <a:ext cx="888120" cy="1041840"/>
              <a:chOff x="4914720" y="7410600"/>
              <a:chExt cx="888120" cy="1041840"/>
            </a:xfrm>
          </p:grpSpPr>
          <p:sp>
            <p:nvSpPr>
              <p:cNvPr id="1715" name="AutoShape 127"/>
              <p:cNvSpPr/>
              <p:nvPr/>
            </p:nvSpPr>
            <p:spPr>
              <a:xfrm rot="16200000">
                <a:off x="5477040" y="8189280"/>
                <a:ext cx="32616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6" name="Group 128"/>
              <p:cNvGrpSpPr/>
              <p:nvPr/>
            </p:nvGrpSpPr>
            <p:grpSpPr>
              <a:xfrm>
                <a:off x="4914720" y="7410600"/>
                <a:ext cx="888120" cy="885960"/>
                <a:chOff x="4914720" y="7410600"/>
                <a:chExt cx="888120" cy="885960"/>
              </a:xfrm>
            </p:grpSpPr>
            <p:sp>
              <p:nvSpPr>
                <p:cNvPr id="1717" name="Line 129"/>
                <p:cNvSpPr/>
                <p:nvPr/>
              </p:nvSpPr>
              <p:spPr>
                <a:xfrm>
                  <a:off x="5407920" y="7548840"/>
                  <a:ext cx="0" cy="7430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130"/>
                <p:cNvSpPr/>
                <p:nvPr/>
              </p:nvSpPr>
              <p:spPr>
                <a:xfrm>
                  <a:off x="5412240" y="829656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131"/>
                <p:cNvSpPr/>
                <p:nvPr/>
              </p:nvSpPr>
              <p:spPr>
                <a:xfrm>
                  <a:off x="5412240" y="754884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AutoShape 132"/>
                <p:cNvSpPr/>
                <p:nvPr/>
              </p:nvSpPr>
              <p:spPr>
                <a:xfrm>
                  <a:off x="5457600" y="7808040"/>
                  <a:ext cx="34524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133"/>
                <p:cNvSpPr/>
                <p:nvPr/>
              </p:nvSpPr>
              <p:spPr>
                <a:xfrm flipH="1" rot="10726200">
                  <a:off x="5539320" y="7411320"/>
                  <a:ext cx="80280" cy="26964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2640 h 269640"/>
                    <a:gd name="textAreaBottom" fmla="*/ 207000 h 26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Line 134"/>
                <p:cNvSpPr/>
                <p:nvPr/>
              </p:nvSpPr>
              <p:spPr>
                <a:xfrm flipV="1">
                  <a:off x="4914720" y="7902720"/>
                  <a:ext cx="59076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3" name="Rectangle 135"/>
            <p:cNvSpPr/>
            <p:nvPr/>
          </p:nvSpPr>
          <p:spPr>
            <a:xfrm>
              <a:off x="3725640" y="6616440"/>
              <a:ext cx="567000" cy="3844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136"/>
            <p:cNvSpPr/>
            <p:nvPr/>
          </p:nvSpPr>
          <p:spPr>
            <a:xfrm flipH="1">
              <a:off x="1406520" y="6823080"/>
              <a:ext cx="232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37"/>
            <p:cNvSpPr/>
            <p:nvPr/>
          </p:nvSpPr>
          <p:spPr>
            <a:xfrm>
              <a:off x="1050840" y="6616440"/>
              <a:ext cx="563760" cy="384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38"/>
            <p:cNvSpPr/>
            <p:nvPr/>
          </p:nvSpPr>
          <p:spPr>
            <a:xfrm>
              <a:off x="2670120" y="6634080"/>
              <a:ext cx="565200" cy="384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ЦАТ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39"/>
            <p:cNvSpPr/>
            <p:nvPr/>
          </p:nvSpPr>
          <p:spPr>
            <a:xfrm>
              <a:off x="1168200" y="6041880"/>
              <a:ext cx="505080" cy="385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Line 140"/>
            <p:cNvSpPr/>
            <p:nvPr/>
          </p:nvSpPr>
          <p:spPr>
            <a:xfrm>
              <a:off x="1677960" y="6230880"/>
              <a:ext cx="533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41"/>
            <p:cNvSpPr/>
            <p:nvPr/>
          </p:nvSpPr>
          <p:spPr>
            <a:xfrm>
              <a:off x="3773520" y="6041880"/>
              <a:ext cx="563400" cy="387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Line 142"/>
            <p:cNvSpPr/>
            <p:nvPr/>
          </p:nvSpPr>
          <p:spPr>
            <a:xfrm>
              <a:off x="4324320" y="6234120"/>
              <a:ext cx="350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43"/>
            <p:cNvSpPr/>
            <p:nvPr/>
          </p:nvSpPr>
          <p:spPr>
            <a:xfrm>
              <a:off x="1434960" y="9178920"/>
              <a:ext cx="466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Text Box 144"/>
            <p:cNvSpPr/>
            <p:nvPr/>
          </p:nvSpPr>
          <p:spPr>
            <a:xfrm>
              <a:off x="4614840" y="8972280"/>
              <a:ext cx="58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" rIns="25200" tIns="15120" bIns="1512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МТ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145"/>
            <p:cNvSpPr/>
            <p:nvPr/>
          </p:nvSpPr>
          <p:spPr>
            <a:xfrm>
              <a:off x="5622840" y="76168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146"/>
            <p:cNvSpPr/>
            <p:nvPr/>
          </p:nvSpPr>
          <p:spPr>
            <a:xfrm>
              <a:off x="2411280" y="5829120"/>
              <a:ext cx="332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"/>
            <p:cNvSpPr/>
            <p:nvPr/>
          </p:nvSpPr>
          <p:spPr>
            <a:xfrm>
              <a:off x="9624960" y="5913360"/>
              <a:ext cx="1066680" cy="3612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148"/>
            <p:cNvSpPr/>
            <p:nvPr/>
          </p:nvSpPr>
          <p:spPr>
            <a:xfrm>
              <a:off x="9605880" y="6684840"/>
              <a:ext cx="108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Text Box 149"/>
            <p:cNvSpPr/>
            <p:nvPr/>
          </p:nvSpPr>
          <p:spPr>
            <a:xfrm>
              <a:off x="9572400" y="5876640"/>
              <a:ext cx="11606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ЖК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8" name="Group 150"/>
            <p:cNvGrpSpPr/>
            <p:nvPr/>
          </p:nvGrpSpPr>
          <p:grpSpPr>
            <a:xfrm>
              <a:off x="9528120" y="7707600"/>
              <a:ext cx="888120" cy="1044720"/>
              <a:chOff x="9528120" y="7707600"/>
              <a:chExt cx="888120" cy="1044720"/>
            </a:xfrm>
          </p:grpSpPr>
          <p:sp>
            <p:nvSpPr>
              <p:cNvPr id="1739" name="AutoShape 151"/>
              <p:cNvSpPr/>
              <p:nvPr/>
            </p:nvSpPr>
            <p:spPr>
              <a:xfrm rot="16200000">
                <a:off x="10089720" y="8488800"/>
                <a:ext cx="32724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0" name="Group 152"/>
              <p:cNvGrpSpPr/>
              <p:nvPr/>
            </p:nvGrpSpPr>
            <p:grpSpPr>
              <a:xfrm>
                <a:off x="9528120" y="7707600"/>
                <a:ext cx="888120" cy="888840"/>
                <a:chOff x="9528120" y="7707600"/>
                <a:chExt cx="888120" cy="888840"/>
              </a:xfrm>
            </p:grpSpPr>
            <p:sp>
              <p:nvSpPr>
                <p:cNvPr id="1741" name="Line 153"/>
                <p:cNvSpPr/>
                <p:nvPr/>
              </p:nvSpPr>
              <p:spPr>
                <a:xfrm>
                  <a:off x="10020960" y="7846200"/>
                  <a:ext cx="0" cy="745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Line 154"/>
                <p:cNvSpPr/>
                <p:nvPr/>
              </p:nvSpPr>
              <p:spPr>
                <a:xfrm>
                  <a:off x="10025640" y="859644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Line 155"/>
                <p:cNvSpPr/>
                <p:nvPr/>
              </p:nvSpPr>
              <p:spPr>
                <a:xfrm>
                  <a:off x="10025640" y="784620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AutoShape 156"/>
                <p:cNvSpPr/>
                <p:nvPr/>
              </p:nvSpPr>
              <p:spPr>
                <a:xfrm>
                  <a:off x="10071000" y="8106120"/>
                  <a:ext cx="345240" cy="18396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AutoShape 157"/>
                <p:cNvSpPr/>
                <p:nvPr/>
              </p:nvSpPr>
              <p:spPr>
                <a:xfrm flipH="1" rot="10726200">
                  <a:off x="10152720" y="7708320"/>
                  <a:ext cx="80280" cy="27072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3000 h 270720"/>
                    <a:gd name="textAreaBottom" fmla="*/ 207720 h 27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Line 158"/>
                <p:cNvSpPr/>
                <p:nvPr/>
              </p:nvSpPr>
              <p:spPr>
                <a:xfrm flipV="1">
                  <a:off x="9528120" y="820116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7" name="Rectangle 159"/>
            <p:cNvSpPr/>
            <p:nvPr/>
          </p:nvSpPr>
          <p:spPr>
            <a:xfrm>
              <a:off x="8267760" y="2255760"/>
              <a:ext cx="1066680" cy="3598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Line 160"/>
            <p:cNvSpPr/>
            <p:nvPr/>
          </p:nvSpPr>
          <p:spPr>
            <a:xfrm>
              <a:off x="8248680" y="3027240"/>
              <a:ext cx="108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Text Box 161"/>
            <p:cNvSpPr/>
            <p:nvPr/>
          </p:nvSpPr>
          <p:spPr>
            <a:xfrm>
              <a:off x="8215200" y="2219040"/>
              <a:ext cx="116064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ЧС и П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0" name="Group 162"/>
            <p:cNvGrpSpPr/>
            <p:nvPr/>
          </p:nvGrpSpPr>
          <p:grpSpPr>
            <a:xfrm>
              <a:off x="8167680" y="3223080"/>
              <a:ext cx="888120" cy="1044720"/>
              <a:chOff x="8167680" y="3223080"/>
              <a:chExt cx="888120" cy="1044720"/>
            </a:xfrm>
          </p:grpSpPr>
          <p:sp>
            <p:nvSpPr>
              <p:cNvPr id="1751" name="AutoShape 163"/>
              <p:cNvSpPr/>
              <p:nvPr/>
            </p:nvSpPr>
            <p:spPr>
              <a:xfrm rot="16200000">
                <a:off x="8729280" y="4004280"/>
                <a:ext cx="32724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2" name="Group 164"/>
              <p:cNvGrpSpPr/>
              <p:nvPr/>
            </p:nvGrpSpPr>
            <p:grpSpPr>
              <a:xfrm>
                <a:off x="8167680" y="3223080"/>
                <a:ext cx="888120" cy="888480"/>
                <a:chOff x="8167680" y="3223080"/>
                <a:chExt cx="888120" cy="888480"/>
              </a:xfrm>
            </p:grpSpPr>
            <p:sp>
              <p:nvSpPr>
                <p:cNvPr id="1753" name="Line 165"/>
                <p:cNvSpPr/>
                <p:nvPr/>
              </p:nvSpPr>
              <p:spPr>
                <a:xfrm>
                  <a:off x="8660520" y="3361680"/>
                  <a:ext cx="0" cy="745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166"/>
                <p:cNvSpPr/>
                <p:nvPr/>
              </p:nvSpPr>
              <p:spPr>
                <a:xfrm>
                  <a:off x="8665200" y="411156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Line 167"/>
                <p:cNvSpPr/>
                <p:nvPr/>
              </p:nvSpPr>
              <p:spPr>
                <a:xfrm>
                  <a:off x="8665200" y="33616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AutoShape 168"/>
                <p:cNvSpPr/>
                <p:nvPr/>
              </p:nvSpPr>
              <p:spPr>
                <a:xfrm>
                  <a:off x="8710560" y="3621240"/>
                  <a:ext cx="345240" cy="18396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AutoShape 169"/>
                <p:cNvSpPr/>
                <p:nvPr/>
              </p:nvSpPr>
              <p:spPr>
                <a:xfrm flipH="1" rot="10726200">
                  <a:off x="8792280" y="3223800"/>
                  <a:ext cx="80280" cy="27072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3000 h 270720"/>
                    <a:gd name="textAreaBottom" fmla="*/ 207720 h 27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Line 170"/>
                <p:cNvSpPr/>
                <p:nvPr/>
              </p:nvSpPr>
              <p:spPr>
                <a:xfrm flipV="1">
                  <a:off x="8167680" y="371628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9" name="Rectangle 171"/>
            <p:cNvSpPr/>
            <p:nvPr/>
          </p:nvSpPr>
          <p:spPr>
            <a:xfrm>
              <a:off x="6991200" y="2236680"/>
              <a:ext cx="1067040" cy="361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Line 172"/>
            <p:cNvSpPr/>
            <p:nvPr/>
          </p:nvSpPr>
          <p:spPr>
            <a:xfrm>
              <a:off x="6972120" y="30081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Text Box 173"/>
            <p:cNvSpPr/>
            <p:nvPr/>
          </p:nvSpPr>
          <p:spPr>
            <a:xfrm>
              <a:off x="6865920" y="2200320"/>
              <a:ext cx="133200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дминистрация  райо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2" name="Group 174"/>
            <p:cNvGrpSpPr/>
            <p:nvPr/>
          </p:nvGrpSpPr>
          <p:grpSpPr>
            <a:xfrm>
              <a:off x="6829200" y="3237480"/>
              <a:ext cx="888120" cy="1044720"/>
              <a:chOff x="6829200" y="3237480"/>
              <a:chExt cx="888120" cy="1044720"/>
            </a:xfrm>
          </p:grpSpPr>
          <p:sp>
            <p:nvSpPr>
              <p:cNvPr id="1763" name="AutoShape 175"/>
              <p:cNvSpPr/>
              <p:nvPr/>
            </p:nvSpPr>
            <p:spPr>
              <a:xfrm rot="16200000">
                <a:off x="7391160" y="4018680"/>
                <a:ext cx="32724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4" name="Group 176"/>
              <p:cNvGrpSpPr/>
              <p:nvPr/>
            </p:nvGrpSpPr>
            <p:grpSpPr>
              <a:xfrm>
                <a:off x="6829200" y="3237480"/>
                <a:ext cx="888120" cy="888480"/>
                <a:chOff x="6829200" y="3237480"/>
                <a:chExt cx="888120" cy="888480"/>
              </a:xfrm>
            </p:grpSpPr>
            <p:sp>
              <p:nvSpPr>
                <p:cNvPr id="1765" name="Line 177"/>
                <p:cNvSpPr/>
                <p:nvPr/>
              </p:nvSpPr>
              <p:spPr>
                <a:xfrm>
                  <a:off x="7322400" y="3376080"/>
                  <a:ext cx="0" cy="745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178"/>
                <p:cNvSpPr/>
                <p:nvPr/>
              </p:nvSpPr>
              <p:spPr>
                <a:xfrm>
                  <a:off x="7326720" y="412596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179"/>
                <p:cNvSpPr/>
                <p:nvPr/>
              </p:nvSpPr>
              <p:spPr>
                <a:xfrm>
                  <a:off x="7326720" y="33760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AutoShape 180"/>
                <p:cNvSpPr/>
                <p:nvPr/>
              </p:nvSpPr>
              <p:spPr>
                <a:xfrm>
                  <a:off x="7372080" y="3635640"/>
                  <a:ext cx="345240" cy="18396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AutoShape 181"/>
                <p:cNvSpPr/>
                <p:nvPr/>
              </p:nvSpPr>
              <p:spPr>
                <a:xfrm flipH="1" rot="10726200">
                  <a:off x="7453800" y="3238200"/>
                  <a:ext cx="80280" cy="27072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3000 h 270720"/>
                    <a:gd name="textAreaBottom" fmla="*/ 207720 h 27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Line 182"/>
                <p:cNvSpPr/>
                <p:nvPr/>
              </p:nvSpPr>
              <p:spPr>
                <a:xfrm flipV="1">
                  <a:off x="6829200" y="3730680"/>
                  <a:ext cx="59076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1" name="Rectangle 183"/>
            <p:cNvSpPr/>
            <p:nvPr/>
          </p:nvSpPr>
          <p:spPr>
            <a:xfrm>
              <a:off x="8288280" y="5911560"/>
              <a:ext cx="1066680" cy="36147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Line 184"/>
            <p:cNvSpPr/>
            <p:nvPr/>
          </p:nvSpPr>
          <p:spPr>
            <a:xfrm>
              <a:off x="8270640" y="6715080"/>
              <a:ext cx="10843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Text Box 185"/>
            <p:cNvSpPr/>
            <p:nvPr/>
          </p:nvSpPr>
          <p:spPr>
            <a:xfrm>
              <a:off x="8237520" y="5902200"/>
              <a:ext cx="11001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ВД 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УВ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Group 186"/>
            <p:cNvGrpSpPr/>
            <p:nvPr/>
          </p:nvGrpSpPr>
          <p:grpSpPr>
            <a:xfrm>
              <a:off x="8165880" y="7725240"/>
              <a:ext cx="885240" cy="1041840"/>
              <a:chOff x="8165880" y="7725240"/>
              <a:chExt cx="885240" cy="1041840"/>
            </a:xfrm>
          </p:grpSpPr>
          <p:sp>
            <p:nvSpPr>
              <p:cNvPr id="1775" name="AutoShape 187"/>
              <p:cNvSpPr/>
              <p:nvPr/>
            </p:nvSpPr>
            <p:spPr>
              <a:xfrm rot="16200000">
                <a:off x="8725680" y="8504280"/>
                <a:ext cx="326520" cy="19908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6" name="Group 188"/>
              <p:cNvGrpSpPr/>
              <p:nvPr/>
            </p:nvGrpSpPr>
            <p:grpSpPr>
              <a:xfrm>
                <a:off x="8165880" y="7725240"/>
                <a:ext cx="885240" cy="885960"/>
                <a:chOff x="8165880" y="7725240"/>
                <a:chExt cx="885240" cy="885960"/>
              </a:xfrm>
            </p:grpSpPr>
            <p:sp>
              <p:nvSpPr>
                <p:cNvPr id="1777" name="Line 189"/>
                <p:cNvSpPr/>
                <p:nvPr/>
              </p:nvSpPr>
              <p:spPr>
                <a:xfrm>
                  <a:off x="8657280" y="7863480"/>
                  <a:ext cx="0" cy="743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Line 190"/>
                <p:cNvSpPr/>
                <p:nvPr/>
              </p:nvSpPr>
              <p:spPr>
                <a:xfrm>
                  <a:off x="8661600" y="861120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Line 191"/>
                <p:cNvSpPr/>
                <p:nvPr/>
              </p:nvSpPr>
              <p:spPr>
                <a:xfrm>
                  <a:off x="8661600" y="786348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AutoShape 192"/>
                <p:cNvSpPr/>
                <p:nvPr/>
              </p:nvSpPr>
              <p:spPr>
                <a:xfrm>
                  <a:off x="8706960" y="8122320"/>
                  <a:ext cx="34416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AutoShape 193"/>
                <p:cNvSpPr/>
                <p:nvPr/>
              </p:nvSpPr>
              <p:spPr>
                <a:xfrm flipH="1" rot="10726200">
                  <a:off x="8788680" y="7725960"/>
                  <a:ext cx="79920" cy="270000"/>
                </a:xfrm>
                <a:custGeom>
                  <a:avLst/>
                  <a:gdLst>
                    <a:gd name="textAreaLeft" fmla="*/ 23400 w 79920"/>
                    <a:gd name="textAreaRight" fmla="*/ 80280 w 79920"/>
                    <a:gd name="textAreaTop" fmla="*/ 62640 h 270000"/>
                    <a:gd name="textAreaBottom" fmla="*/ 207360 h 27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Line 194"/>
                <p:cNvSpPr/>
                <p:nvPr/>
              </p:nvSpPr>
              <p:spPr>
                <a:xfrm flipV="1">
                  <a:off x="8165880" y="8217000"/>
                  <a:ext cx="5886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3" name="Rectangle 195"/>
            <p:cNvSpPr/>
            <p:nvPr/>
          </p:nvSpPr>
          <p:spPr>
            <a:xfrm>
              <a:off x="10804320" y="2241360"/>
              <a:ext cx="1067040" cy="3613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Line 196"/>
            <p:cNvSpPr/>
            <p:nvPr/>
          </p:nvSpPr>
          <p:spPr>
            <a:xfrm>
              <a:off x="10787040" y="3046320"/>
              <a:ext cx="10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5" name="Group 197"/>
            <p:cNvGrpSpPr/>
            <p:nvPr/>
          </p:nvGrpSpPr>
          <p:grpSpPr>
            <a:xfrm>
              <a:off x="10733040" y="3225960"/>
              <a:ext cx="888120" cy="1044000"/>
              <a:chOff x="10733040" y="3225960"/>
              <a:chExt cx="888120" cy="1044000"/>
            </a:xfrm>
          </p:grpSpPr>
          <p:sp>
            <p:nvSpPr>
              <p:cNvPr id="1786" name="AutoShape 198"/>
              <p:cNvSpPr/>
              <p:nvPr/>
            </p:nvSpPr>
            <p:spPr>
              <a:xfrm rot="16200000">
                <a:off x="11294640" y="4006440"/>
                <a:ext cx="32688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7" name="Group 199"/>
              <p:cNvGrpSpPr/>
              <p:nvPr/>
            </p:nvGrpSpPr>
            <p:grpSpPr>
              <a:xfrm>
                <a:off x="10733040" y="3225960"/>
                <a:ext cx="888120" cy="887760"/>
                <a:chOff x="10733040" y="3225960"/>
                <a:chExt cx="888120" cy="887760"/>
              </a:xfrm>
            </p:grpSpPr>
            <p:sp>
              <p:nvSpPr>
                <p:cNvPr id="1788" name="Line 200"/>
                <p:cNvSpPr/>
                <p:nvPr/>
              </p:nvSpPr>
              <p:spPr>
                <a:xfrm>
                  <a:off x="11225880" y="3364560"/>
                  <a:ext cx="0" cy="744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Line 201"/>
                <p:cNvSpPr/>
                <p:nvPr/>
              </p:nvSpPr>
              <p:spPr>
                <a:xfrm>
                  <a:off x="11230560" y="411372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Line 202"/>
                <p:cNvSpPr/>
                <p:nvPr/>
              </p:nvSpPr>
              <p:spPr>
                <a:xfrm>
                  <a:off x="11230560" y="336456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AutoShape 203"/>
                <p:cNvSpPr/>
                <p:nvPr/>
              </p:nvSpPr>
              <p:spPr>
                <a:xfrm>
                  <a:off x="11275920" y="3624120"/>
                  <a:ext cx="345240" cy="18360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AutoShape 204"/>
                <p:cNvSpPr/>
                <p:nvPr/>
              </p:nvSpPr>
              <p:spPr>
                <a:xfrm flipH="1" rot="10726200">
                  <a:off x="11357640" y="3226680"/>
                  <a:ext cx="80280" cy="27036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2640 h 270360"/>
                    <a:gd name="textAreaBottom" fmla="*/ 207720 h 27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Line 205"/>
                <p:cNvSpPr/>
                <p:nvPr/>
              </p:nvSpPr>
              <p:spPr>
                <a:xfrm flipV="1">
                  <a:off x="10733040" y="3718800"/>
                  <a:ext cx="5904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4" name="Rectangle 206"/>
            <p:cNvSpPr/>
            <p:nvPr/>
          </p:nvSpPr>
          <p:spPr>
            <a:xfrm>
              <a:off x="9602640" y="2255760"/>
              <a:ext cx="1067040" cy="3612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Line 207"/>
            <p:cNvSpPr/>
            <p:nvPr/>
          </p:nvSpPr>
          <p:spPr>
            <a:xfrm>
              <a:off x="9583560" y="302724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Text Box 208"/>
            <p:cNvSpPr/>
            <p:nvPr/>
          </p:nvSpPr>
          <p:spPr>
            <a:xfrm>
              <a:off x="9550440" y="2219040"/>
              <a:ext cx="11602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инпром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нер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Э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7" name="Group 209"/>
            <p:cNvGrpSpPr/>
            <p:nvPr/>
          </p:nvGrpSpPr>
          <p:grpSpPr>
            <a:xfrm>
              <a:off x="9455040" y="3245400"/>
              <a:ext cx="888120" cy="1044720"/>
              <a:chOff x="9455040" y="3245400"/>
              <a:chExt cx="888120" cy="1044720"/>
            </a:xfrm>
          </p:grpSpPr>
          <p:sp>
            <p:nvSpPr>
              <p:cNvPr id="1798" name="AutoShape 210"/>
              <p:cNvSpPr/>
              <p:nvPr/>
            </p:nvSpPr>
            <p:spPr>
              <a:xfrm rot="16200000">
                <a:off x="10017000" y="4026600"/>
                <a:ext cx="327240" cy="19980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9" name="Group 211"/>
              <p:cNvGrpSpPr/>
              <p:nvPr/>
            </p:nvGrpSpPr>
            <p:grpSpPr>
              <a:xfrm>
                <a:off x="9455040" y="3245400"/>
                <a:ext cx="888120" cy="888480"/>
                <a:chOff x="9455040" y="3245400"/>
                <a:chExt cx="888120" cy="888480"/>
              </a:xfrm>
            </p:grpSpPr>
            <p:sp>
              <p:nvSpPr>
                <p:cNvPr id="1800" name="Line 212"/>
                <p:cNvSpPr/>
                <p:nvPr/>
              </p:nvSpPr>
              <p:spPr>
                <a:xfrm>
                  <a:off x="9948240" y="3384000"/>
                  <a:ext cx="0" cy="745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Line 213"/>
                <p:cNvSpPr/>
                <p:nvPr/>
              </p:nvSpPr>
              <p:spPr>
                <a:xfrm>
                  <a:off x="9952560" y="413388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Line 214"/>
                <p:cNvSpPr/>
                <p:nvPr/>
              </p:nvSpPr>
              <p:spPr>
                <a:xfrm>
                  <a:off x="9952560" y="3384000"/>
                  <a:ext cx="1170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AutoShape 215"/>
                <p:cNvSpPr/>
                <p:nvPr/>
              </p:nvSpPr>
              <p:spPr>
                <a:xfrm>
                  <a:off x="9997920" y="3643560"/>
                  <a:ext cx="345240" cy="18396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AutoShape 216"/>
                <p:cNvSpPr/>
                <p:nvPr/>
              </p:nvSpPr>
              <p:spPr>
                <a:xfrm flipH="1" rot="10726200">
                  <a:off x="10079640" y="3246120"/>
                  <a:ext cx="80280" cy="270720"/>
                </a:xfrm>
                <a:custGeom>
                  <a:avLst/>
                  <a:gdLst>
                    <a:gd name="textAreaLeft" fmla="*/ 23400 w 80280"/>
                    <a:gd name="textAreaRight" fmla="*/ 80640 w 80280"/>
                    <a:gd name="textAreaTop" fmla="*/ 63000 h 270720"/>
                    <a:gd name="textAreaBottom" fmla="*/ 207720 h 27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Line 217"/>
                <p:cNvSpPr/>
                <p:nvPr/>
              </p:nvSpPr>
              <p:spPr>
                <a:xfrm flipV="1">
                  <a:off x="9455040" y="3738600"/>
                  <a:ext cx="59076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6" name="Text Box 218"/>
            <p:cNvSpPr/>
            <p:nvPr/>
          </p:nvSpPr>
          <p:spPr>
            <a:xfrm>
              <a:off x="10645560" y="2162160"/>
              <a:ext cx="13716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ининфор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яз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Т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219"/>
            <p:cNvSpPr/>
            <p:nvPr/>
          </p:nvSpPr>
          <p:spPr>
            <a:xfrm>
              <a:off x="7000920" y="5916600"/>
              <a:ext cx="1066680" cy="3609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220"/>
            <p:cNvSpPr/>
            <p:nvPr/>
          </p:nvSpPr>
          <p:spPr>
            <a:xfrm>
              <a:off x="6983280" y="6718320"/>
              <a:ext cx="108432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9" name="Group 221"/>
            <p:cNvGrpSpPr/>
            <p:nvPr/>
          </p:nvGrpSpPr>
          <p:grpSpPr>
            <a:xfrm>
              <a:off x="7626240" y="6904080"/>
              <a:ext cx="352080" cy="626400"/>
              <a:chOff x="7626240" y="6904080"/>
              <a:chExt cx="352080" cy="626400"/>
            </a:xfrm>
          </p:grpSpPr>
          <p:sp>
            <p:nvSpPr>
              <p:cNvPr id="1810" name="Oval 222"/>
              <p:cNvSpPr/>
              <p:nvPr/>
            </p:nvSpPr>
            <p:spPr>
              <a:xfrm>
                <a:off x="7700400" y="715644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Group 223"/>
              <p:cNvGrpSpPr/>
              <p:nvPr/>
            </p:nvGrpSpPr>
            <p:grpSpPr>
              <a:xfrm>
                <a:off x="7626240" y="6904080"/>
                <a:ext cx="320760" cy="618480"/>
                <a:chOff x="7626240" y="6904080"/>
                <a:chExt cx="320760" cy="618480"/>
              </a:xfrm>
            </p:grpSpPr>
            <p:sp>
              <p:nvSpPr>
                <p:cNvPr id="1812" name="Line 224"/>
                <p:cNvSpPr/>
                <p:nvPr/>
              </p:nvSpPr>
              <p:spPr>
                <a:xfrm flipV="1">
                  <a:off x="7848720" y="6904080"/>
                  <a:ext cx="98280" cy="20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13" name="Group 225"/>
                <p:cNvGrpSpPr/>
                <p:nvPr/>
              </p:nvGrpSpPr>
              <p:grpSpPr>
                <a:xfrm>
                  <a:off x="7626240" y="7032960"/>
                  <a:ext cx="278280" cy="489600"/>
                  <a:chOff x="7626240" y="7032960"/>
                  <a:chExt cx="278280" cy="489600"/>
                </a:xfrm>
              </p:grpSpPr>
              <p:sp>
                <p:nvSpPr>
                  <p:cNvPr id="1814" name="Oval 226"/>
                  <p:cNvSpPr/>
                  <p:nvPr/>
                </p:nvSpPr>
                <p:spPr>
                  <a:xfrm>
                    <a:off x="7626240" y="7148880"/>
                    <a:ext cx="278280" cy="37368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Freeform 227"/>
                  <p:cNvSpPr/>
                  <p:nvPr/>
                </p:nvSpPr>
                <p:spPr>
                  <a:xfrm>
                    <a:off x="7778880" y="7032960"/>
                    <a:ext cx="66600" cy="1098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6" name="Group 228"/>
            <p:cNvGrpSpPr/>
            <p:nvPr/>
          </p:nvGrpSpPr>
          <p:grpSpPr>
            <a:xfrm>
              <a:off x="7094520" y="6932160"/>
              <a:ext cx="350280" cy="584280"/>
              <a:chOff x="7094520" y="6932160"/>
              <a:chExt cx="350280" cy="584280"/>
            </a:xfrm>
          </p:grpSpPr>
          <p:sp>
            <p:nvSpPr>
              <p:cNvPr id="1817" name="AutoShape 229"/>
              <p:cNvSpPr/>
              <p:nvPr/>
            </p:nvSpPr>
            <p:spPr>
              <a:xfrm>
                <a:off x="7094520" y="7165440"/>
                <a:ext cx="33228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230"/>
              <p:cNvSpPr/>
              <p:nvPr/>
            </p:nvSpPr>
            <p:spPr>
              <a:xfrm>
                <a:off x="7260120" y="7048800"/>
                <a:ext cx="7452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231"/>
              <p:cNvSpPr/>
              <p:nvPr/>
            </p:nvSpPr>
            <p:spPr>
              <a:xfrm flipV="1">
                <a:off x="7335000" y="6932160"/>
                <a:ext cx="10980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0" name="Line 232"/>
            <p:cNvSpPr/>
            <p:nvPr/>
          </p:nvSpPr>
          <p:spPr>
            <a:xfrm flipH="1">
              <a:off x="7151400" y="7510320"/>
              <a:ext cx="71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Text Box 233"/>
            <p:cNvSpPr/>
            <p:nvPr/>
          </p:nvSpPr>
          <p:spPr>
            <a:xfrm>
              <a:off x="7094520" y="713556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2" name="Group 234"/>
            <p:cNvGrpSpPr/>
            <p:nvPr/>
          </p:nvGrpSpPr>
          <p:grpSpPr>
            <a:xfrm>
              <a:off x="8888400" y="6807240"/>
              <a:ext cx="352080" cy="626400"/>
              <a:chOff x="8888400" y="6807240"/>
              <a:chExt cx="352080" cy="626400"/>
            </a:xfrm>
          </p:grpSpPr>
          <p:sp>
            <p:nvSpPr>
              <p:cNvPr id="1823" name="Oval 235"/>
              <p:cNvSpPr/>
              <p:nvPr/>
            </p:nvSpPr>
            <p:spPr>
              <a:xfrm>
                <a:off x="8962560" y="7059600"/>
                <a:ext cx="277920" cy="3740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4" name="Group 236"/>
              <p:cNvGrpSpPr/>
              <p:nvPr/>
            </p:nvGrpSpPr>
            <p:grpSpPr>
              <a:xfrm>
                <a:off x="8888400" y="6807240"/>
                <a:ext cx="320760" cy="618480"/>
                <a:chOff x="8888400" y="6807240"/>
                <a:chExt cx="320760" cy="618480"/>
              </a:xfrm>
            </p:grpSpPr>
            <p:sp>
              <p:nvSpPr>
                <p:cNvPr id="1825" name="Line 237"/>
                <p:cNvSpPr/>
                <p:nvPr/>
              </p:nvSpPr>
              <p:spPr>
                <a:xfrm flipV="1">
                  <a:off x="9110880" y="6807240"/>
                  <a:ext cx="98280" cy="20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6" name="Group 238"/>
                <p:cNvGrpSpPr/>
                <p:nvPr/>
              </p:nvGrpSpPr>
              <p:grpSpPr>
                <a:xfrm>
                  <a:off x="8888400" y="6936120"/>
                  <a:ext cx="278280" cy="489600"/>
                  <a:chOff x="8888400" y="6936120"/>
                  <a:chExt cx="278280" cy="489600"/>
                </a:xfrm>
              </p:grpSpPr>
              <p:sp>
                <p:nvSpPr>
                  <p:cNvPr id="1827" name="Oval 239"/>
                  <p:cNvSpPr/>
                  <p:nvPr/>
                </p:nvSpPr>
                <p:spPr>
                  <a:xfrm>
                    <a:off x="8888400" y="7052040"/>
                    <a:ext cx="278280" cy="373680"/>
                  </a:xfrm>
                  <a:prstGeom prst="ellipse">
                    <a:avLst/>
                  </a:prstGeom>
                  <a:solidFill>
                    <a:srgbClr val="ffffff">
                      <a:alpha val="85000"/>
                    </a:srgbClr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Freeform 240"/>
                  <p:cNvSpPr/>
                  <p:nvPr/>
                </p:nvSpPr>
                <p:spPr>
                  <a:xfrm>
                    <a:off x="9041040" y="6936120"/>
                    <a:ext cx="66600" cy="1098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9" name="Group 241"/>
            <p:cNvGrpSpPr/>
            <p:nvPr/>
          </p:nvGrpSpPr>
          <p:grpSpPr>
            <a:xfrm>
              <a:off x="8356680" y="6835320"/>
              <a:ext cx="350280" cy="584280"/>
              <a:chOff x="8356680" y="6835320"/>
              <a:chExt cx="350280" cy="584280"/>
            </a:xfrm>
          </p:grpSpPr>
          <p:sp>
            <p:nvSpPr>
              <p:cNvPr id="1830" name="AutoShape 242"/>
              <p:cNvSpPr/>
              <p:nvPr/>
            </p:nvSpPr>
            <p:spPr>
              <a:xfrm>
                <a:off x="8356680" y="7068600"/>
                <a:ext cx="332280" cy="3510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243"/>
              <p:cNvSpPr/>
              <p:nvPr/>
            </p:nvSpPr>
            <p:spPr>
              <a:xfrm>
                <a:off x="8522280" y="6951960"/>
                <a:ext cx="74520" cy="11664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Line 244"/>
              <p:cNvSpPr/>
              <p:nvPr/>
            </p:nvSpPr>
            <p:spPr>
              <a:xfrm flipV="1">
                <a:off x="8597160" y="6835320"/>
                <a:ext cx="10980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3" name="Line 245"/>
            <p:cNvSpPr/>
            <p:nvPr/>
          </p:nvSpPr>
          <p:spPr>
            <a:xfrm flipH="1">
              <a:off x="8413560" y="741348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 Box 246"/>
            <p:cNvSpPr/>
            <p:nvPr/>
          </p:nvSpPr>
          <p:spPr>
            <a:xfrm>
              <a:off x="8361360" y="7034040"/>
              <a:ext cx="336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К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 Box 247"/>
            <p:cNvSpPr/>
            <p:nvPr/>
          </p:nvSpPr>
          <p:spPr>
            <a:xfrm>
              <a:off x="6862680" y="5838840"/>
              <a:ext cx="13543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64080" bIns="6408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партамент здравоохра-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Р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6" name="Group 248"/>
            <p:cNvGrpSpPr/>
            <p:nvPr/>
          </p:nvGrpSpPr>
          <p:grpSpPr>
            <a:xfrm>
              <a:off x="6829200" y="7725240"/>
              <a:ext cx="885240" cy="1041840"/>
              <a:chOff x="6829200" y="7725240"/>
              <a:chExt cx="885240" cy="1041840"/>
            </a:xfrm>
          </p:grpSpPr>
          <p:sp>
            <p:nvSpPr>
              <p:cNvPr id="1837" name="AutoShape 249"/>
              <p:cNvSpPr/>
              <p:nvPr/>
            </p:nvSpPr>
            <p:spPr>
              <a:xfrm rot="16200000">
                <a:off x="7389000" y="8504280"/>
                <a:ext cx="326520" cy="199080"/>
              </a:xfrm>
              <a:prstGeom prst="flowChartMerge">
                <a:avLst/>
              </a:prstGeom>
              <a:solidFill>
                <a:srgbClr val="ffffff">
                  <a:alpha val="60000"/>
                </a:srgbClr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8" name="Group 250"/>
              <p:cNvGrpSpPr/>
              <p:nvPr/>
            </p:nvGrpSpPr>
            <p:grpSpPr>
              <a:xfrm>
                <a:off x="6829200" y="7725240"/>
                <a:ext cx="885240" cy="885960"/>
                <a:chOff x="6829200" y="7725240"/>
                <a:chExt cx="885240" cy="885960"/>
              </a:xfrm>
            </p:grpSpPr>
            <p:sp>
              <p:nvSpPr>
                <p:cNvPr id="1839" name="Line 251"/>
                <p:cNvSpPr/>
                <p:nvPr/>
              </p:nvSpPr>
              <p:spPr>
                <a:xfrm>
                  <a:off x="7320600" y="7863480"/>
                  <a:ext cx="0" cy="743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Line 252"/>
                <p:cNvSpPr/>
                <p:nvPr/>
              </p:nvSpPr>
              <p:spPr>
                <a:xfrm>
                  <a:off x="7324920" y="861120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Line 253"/>
                <p:cNvSpPr/>
                <p:nvPr/>
              </p:nvSpPr>
              <p:spPr>
                <a:xfrm>
                  <a:off x="7324920" y="7863480"/>
                  <a:ext cx="1166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AutoShape 254"/>
                <p:cNvSpPr/>
                <p:nvPr/>
              </p:nvSpPr>
              <p:spPr>
                <a:xfrm>
                  <a:off x="7370280" y="8122320"/>
                  <a:ext cx="344160" cy="183240"/>
                </a:xfrm>
                <a:prstGeom prst="diamond">
                  <a:avLst/>
                </a:prstGeom>
                <a:solidFill>
                  <a:srgbClr val="ffffff">
                    <a:alpha val="60000"/>
                  </a:srgbClr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AutoShape 255"/>
                <p:cNvSpPr/>
                <p:nvPr/>
              </p:nvSpPr>
              <p:spPr>
                <a:xfrm flipH="1" rot="10726200">
                  <a:off x="7452000" y="7725960"/>
                  <a:ext cx="79920" cy="270000"/>
                </a:xfrm>
                <a:custGeom>
                  <a:avLst/>
                  <a:gdLst>
                    <a:gd name="textAreaLeft" fmla="*/ 23400 w 79920"/>
                    <a:gd name="textAreaRight" fmla="*/ 80280 w 79920"/>
                    <a:gd name="textAreaTop" fmla="*/ 62640 h 270000"/>
                    <a:gd name="textAreaBottom" fmla="*/ 207360 h 27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25"/>
                        <a:pt x="0" y="10050"/>
                      </a:cubicBezTo>
                      <a:lnTo>
                        <a:pt x="0" y="11550"/>
                      </a:lnTo>
                      <a:cubicBezTo>
                        <a:pt x="0" y="165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Line 256"/>
                <p:cNvSpPr/>
                <p:nvPr/>
              </p:nvSpPr>
              <p:spPr>
                <a:xfrm flipV="1">
                  <a:off x="6829200" y="8217000"/>
                  <a:ext cx="588600" cy="61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60480" y="2212920"/>
            <a:ext cx="10880640" cy="2131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Схема организации оповещения населен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9360" y="646200"/>
            <a:ext cx="12801600" cy="8955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4"/>
          <p:cNvSpPr/>
          <p:nvPr/>
        </p:nvSpPr>
        <p:spPr>
          <a:xfrm>
            <a:off x="7569360" y="1995480"/>
            <a:ext cx="755640" cy="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31680" bIns="316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5"/>
          <p:cNvSpPr/>
          <p:nvPr/>
        </p:nvSpPr>
        <p:spPr>
          <a:xfrm>
            <a:off x="0" y="0"/>
            <a:ext cx="12803040" cy="148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организации оповещения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9" name="Group 6"/>
          <p:cNvGrpSpPr/>
          <p:nvPr/>
        </p:nvGrpSpPr>
        <p:grpSpPr>
          <a:xfrm>
            <a:off x="207360" y="1479600"/>
            <a:ext cx="12597840" cy="8121600"/>
            <a:chOff x="207360" y="1479600"/>
            <a:chExt cx="12597840" cy="8121600"/>
          </a:xfrm>
        </p:grpSpPr>
        <p:grpSp>
          <p:nvGrpSpPr>
            <p:cNvPr id="1850" name="Group 7"/>
            <p:cNvGrpSpPr/>
            <p:nvPr/>
          </p:nvGrpSpPr>
          <p:grpSpPr>
            <a:xfrm>
              <a:off x="207360" y="1479600"/>
              <a:ext cx="11738160" cy="5778360"/>
              <a:chOff x="207360" y="1479600"/>
              <a:chExt cx="11738160" cy="5778360"/>
            </a:xfrm>
          </p:grpSpPr>
          <p:sp>
            <p:nvSpPr>
              <p:cNvPr id="1851" name="Rectangle 8"/>
              <p:cNvSpPr/>
              <p:nvPr/>
            </p:nvSpPr>
            <p:spPr>
              <a:xfrm>
                <a:off x="4747320" y="2189160"/>
                <a:ext cx="759960" cy="10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37440" bIns="3744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(5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9"/>
              <p:cNvSpPr/>
              <p:nvPr/>
            </p:nvSpPr>
            <p:spPr>
              <a:xfrm>
                <a:off x="9785520" y="1787400"/>
                <a:ext cx="759960" cy="1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800" rIns="127800" tIns="64080" bIns="6408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0"/>
              <p:cNvSpPr/>
              <p:nvPr/>
            </p:nvSpPr>
            <p:spPr>
              <a:xfrm>
                <a:off x="4672800" y="1479600"/>
                <a:ext cx="1086840" cy="566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1"/>
              <p:cNvSpPr/>
              <p:nvPr/>
            </p:nvSpPr>
            <p:spPr>
              <a:xfrm>
                <a:off x="4601160" y="1581120"/>
                <a:ext cx="1077840" cy="567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2"/>
              <p:cNvSpPr/>
              <p:nvPr/>
            </p:nvSpPr>
            <p:spPr>
              <a:xfrm>
                <a:off x="4601160" y="1581120"/>
                <a:ext cx="2231640" cy="567684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3"/>
              <p:cNvSpPr/>
              <p:nvPr/>
            </p:nvSpPr>
            <p:spPr>
              <a:xfrm>
                <a:off x="1179000" y="1569960"/>
                <a:ext cx="2269800" cy="568800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4"/>
              <p:cNvSpPr/>
              <p:nvPr/>
            </p:nvSpPr>
            <p:spPr>
              <a:xfrm>
                <a:off x="9686880" y="1479600"/>
                <a:ext cx="1077480" cy="565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5"/>
              <p:cNvSpPr/>
              <p:nvPr/>
            </p:nvSpPr>
            <p:spPr>
              <a:xfrm>
                <a:off x="9604440" y="1581120"/>
                <a:ext cx="1088640" cy="56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"/>
              <p:cNvSpPr/>
              <p:nvPr/>
            </p:nvSpPr>
            <p:spPr>
              <a:xfrm>
                <a:off x="9604440" y="1581120"/>
                <a:ext cx="2341080" cy="56674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7"/>
              <p:cNvSpPr/>
              <p:nvPr/>
            </p:nvSpPr>
            <p:spPr>
              <a:xfrm>
                <a:off x="5420520" y="5919840"/>
                <a:ext cx="194760" cy="190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8"/>
              <p:cNvSpPr/>
              <p:nvPr/>
            </p:nvSpPr>
            <p:spPr>
              <a:xfrm>
                <a:off x="5420520" y="5919840"/>
                <a:ext cx="19476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9"/>
              <p:cNvSpPr/>
              <p:nvPr/>
            </p:nvSpPr>
            <p:spPr>
              <a:xfrm>
                <a:off x="5390280" y="5864400"/>
                <a:ext cx="225000" cy="74520"/>
              </a:xfrm>
              <a:prstGeom prst="pie">
                <a:avLst/>
              </a:prstGeom>
              <a:solidFill>
                <a:srgbClr val="94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20"/>
              <p:cNvSpPr/>
              <p:nvPr/>
            </p:nvSpPr>
            <p:spPr>
              <a:xfrm>
                <a:off x="5390280" y="5864400"/>
                <a:ext cx="225000" cy="745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Line 21"/>
              <p:cNvSpPr/>
              <p:nvPr/>
            </p:nvSpPr>
            <p:spPr>
              <a:xfrm flipH="1">
                <a:off x="5389920" y="5919840"/>
                <a:ext cx="19476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22"/>
              <p:cNvSpPr/>
              <p:nvPr/>
            </p:nvSpPr>
            <p:spPr>
              <a:xfrm flipV="1">
                <a:off x="5583960" y="5900400"/>
                <a:ext cx="1080" cy="1908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23"/>
              <p:cNvSpPr/>
              <p:nvPr/>
            </p:nvSpPr>
            <p:spPr>
              <a:xfrm>
                <a:off x="5542560" y="587376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24"/>
              <p:cNvSpPr/>
              <p:nvPr/>
            </p:nvSpPr>
            <p:spPr>
              <a:xfrm>
                <a:off x="5593320" y="5900760"/>
                <a:ext cx="144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25"/>
              <p:cNvSpPr/>
              <p:nvPr/>
            </p:nvSpPr>
            <p:spPr>
              <a:xfrm>
                <a:off x="5574600" y="587376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26"/>
              <p:cNvSpPr/>
              <p:nvPr/>
            </p:nvSpPr>
            <p:spPr>
              <a:xfrm>
                <a:off x="5574600" y="5873760"/>
                <a:ext cx="69480" cy="27000"/>
              </a:xfrm>
              <a:prstGeom prst="pie">
                <a:avLst/>
              </a:prstGeom>
              <a:solidFill>
                <a:srgbClr val="ae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27"/>
              <p:cNvSpPr/>
              <p:nvPr/>
            </p:nvSpPr>
            <p:spPr>
              <a:xfrm>
                <a:off x="5574600" y="5873760"/>
                <a:ext cx="69480" cy="270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Oval 28"/>
              <p:cNvSpPr/>
              <p:nvPr/>
            </p:nvSpPr>
            <p:spPr>
              <a:xfrm>
                <a:off x="5574600" y="592920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Oval 29"/>
              <p:cNvSpPr/>
              <p:nvPr/>
            </p:nvSpPr>
            <p:spPr>
              <a:xfrm>
                <a:off x="557460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Oval 30"/>
              <p:cNvSpPr/>
              <p:nvPr/>
            </p:nvSpPr>
            <p:spPr>
              <a:xfrm>
                <a:off x="5574600" y="592920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Oval 31"/>
              <p:cNvSpPr/>
              <p:nvPr/>
            </p:nvSpPr>
            <p:spPr>
              <a:xfrm>
                <a:off x="557460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32"/>
              <p:cNvSpPr/>
              <p:nvPr/>
            </p:nvSpPr>
            <p:spPr>
              <a:xfrm>
                <a:off x="5574600" y="593892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33"/>
              <p:cNvSpPr/>
              <p:nvPr/>
            </p:nvSpPr>
            <p:spPr>
              <a:xfrm>
                <a:off x="5574600" y="593892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Oval 34"/>
              <p:cNvSpPr/>
              <p:nvPr/>
            </p:nvSpPr>
            <p:spPr>
              <a:xfrm>
                <a:off x="5583960" y="593892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Oval 35"/>
              <p:cNvSpPr/>
              <p:nvPr/>
            </p:nvSpPr>
            <p:spPr>
              <a:xfrm>
                <a:off x="5583960" y="593892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36"/>
              <p:cNvSpPr/>
              <p:nvPr/>
            </p:nvSpPr>
            <p:spPr>
              <a:xfrm>
                <a:off x="558396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37"/>
              <p:cNvSpPr/>
              <p:nvPr/>
            </p:nvSpPr>
            <p:spPr>
              <a:xfrm>
                <a:off x="558396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Line 38"/>
              <p:cNvSpPr/>
              <p:nvPr/>
            </p:nvSpPr>
            <p:spPr>
              <a:xfrm>
                <a:off x="5583960" y="5938920"/>
                <a:ext cx="108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Oval 39"/>
              <p:cNvSpPr/>
              <p:nvPr/>
            </p:nvSpPr>
            <p:spPr>
              <a:xfrm>
                <a:off x="5420520" y="592920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Oval 40"/>
              <p:cNvSpPr/>
              <p:nvPr/>
            </p:nvSpPr>
            <p:spPr>
              <a:xfrm>
                <a:off x="542052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41"/>
              <p:cNvSpPr/>
              <p:nvPr/>
            </p:nvSpPr>
            <p:spPr>
              <a:xfrm>
                <a:off x="5431680" y="592920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Oval 42"/>
              <p:cNvSpPr/>
              <p:nvPr/>
            </p:nvSpPr>
            <p:spPr>
              <a:xfrm>
                <a:off x="543168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43"/>
              <p:cNvSpPr/>
              <p:nvPr/>
            </p:nvSpPr>
            <p:spPr>
              <a:xfrm>
                <a:off x="5431680" y="593892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44"/>
              <p:cNvSpPr/>
              <p:nvPr/>
            </p:nvSpPr>
            <p:spPr>
              <a:xfrm>
                <a:off x="5431680" y="593892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Oval 45"/>
              <p:cNvSpPr/>
              <p:nvPr/>
            </p:nvSpPr>
            <p:spPr>
              <a:xfrm>
                <a:off x="5431680" y="593892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Oval 46"/>
              <p:cNvSpPr/>
              <p:nvPr/>
            </p:nvSpPr>
            <p:spPr>
              <a:xfrm>
                <a:off x="5431680" y="593892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47"/>
              <p:cNvSpPr/>
              <p:nvPr/>
            </p:nvSpPr>
            <p:spPr>
              <a:xfrm>
                <a:off x="543168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48"/>
              <p:cNvSpPr/>
              <p:nvPr/>
            </p:nvSpPr>
            <p:spPr>
              <a:xfrm>
                <a:off x="543168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Line 49"/>
              <p:cNvSpPr/>
              <p:nvPr/>
            </p:nvSpPr>
            <p:spPr>
              <a:xfrm flipH="1">
                <a:off x="5431320" y="5938920"/>
                <a:ext cx="900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50"/>
              <p:cNvSpPr/>
              <p:nvPr/>
            </p:nvSpPr>
            <p:spPr>
              <a:xfrm>
                <a:off x="5593320" y="591012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51"/>
              <p:cNvSpPr/>
              <p:nvPr/>
            </p:nvSpPr>
            <p:spPr>
              <a:xfrm>
                <a:off x="5593320" y="591012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52"/>
              <p:cNvSpPr/>
              <p:nvPr/>
            </p:nvSpPr>
            <p:spPr>
              <a:xfrm>
                <a:off x="5604480" y="5919840"/>
                <a:ext cx="694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53"/>
              <p:cNvSpPr/>
              <p:nvPr/>
            </p:nvSpPr>
            <p:spPr>
              <a:xfrm>
                <a:off x="5604480" y="591984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54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55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56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57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58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59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60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61"/>
              <p:cNvSpPr/>
              <p:nvPr/>
            </p:nvSpPr>
            <p:spPr>
              <a:xfrm>
                <a:off x="560448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62"/>
              <p:cNvSpPr/>
              <p:nvPr/>
            </p:nvSpPr>
            <p:spPr>
              <a:xfrm>
                <a:off x="5542560" y="588312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63"/>
              <p:cNvSpPr/>
              <p:nvPr/>
            </p:nvSpPr>
            <p:spPr>
              <a:xfrm>
                <a:off x="554256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64"/>
              <p:cNvSpPr/>
              <p:nvPr/>
            </p:nvSpPr>
            <p:spPr>
              <a:xfrm>
                <a:off x="548244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65"/>
              <p:cNvSpPr/>
              <p:nvPr/>
            </p:nvSpPr>
            <p:spPr>
              <a:xfrm>
                <a:off x="5390280" y="5873760"/>
                <a:ext cx="19476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66"/>
              <p:cNvSpPr/>
              <p:nvPr/>
            </p:nvSpPr>
            <p:spPr>
              <a:xfrm>
                <a:off x="5390280" y="5873760"/>
                <a:ext cx="18540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67"/>
              <p:cNvSpPr/>
              <p:nvPr/>
            </p:nvSpPr>
            <p:spPr>
              <a:xfrm>
                <a:off x="5563440" y="588312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68"/>
              <p:cNvSpPr/>
              <p:nvPr/>
            </p:nvSpPr>
            <p:spPr>
              <a:xfrm>
                <a:off x="556344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69"/>
              <p:cNvSpPr/>
              <p:nvPr/>
            </p:nvSpPr>
            <p:spPr>
              <a:xfrm>
                <a:off x="5542560" y="587376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70"/>
              <p:cNvSpPr/>
              <p:nvPr/>
            </p:nvSpPr>
            <p:spPr>
              <a:xfrm>
                <a:off x="5390280" y="5919840"/>
                <a:ext cx="194760" cy="9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Line 71"/>
              <p:cNvSpPr/>
              <p:nvPr/>
            </p:nvSpPr>
            <p:spPr>
              <a:xfrm flipH="1">
                <a:off x="5604480" y="5929200"/>
                <a:ext cx="9360" cy="180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72"/>
              <p:cNvSpPr/>
              <p:nvPr/>
            </p:nvSpPr>
            <p:spPr>
              <a:xfrm flipV="1">
                <a:off x="5399640" y="5928840"/>
                <a:ext cx="144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73"/>
              <p:cNvSpPr/>
              <p:nvPr/>
            </p:nvSpPr>
            <p:spPr>
              <a:xfrm>
                <a:off x="5563440" y="5929200"/>
                <a:ext cx="108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74"/>
              <p:cNvSpPr/>
              <p:nvPr/>
            </p:nvSpPr>
            <p:spPr>
              <a:xfrm>
                <a:off x="5583960" y="589104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75"/>
              <p:cNvSpPr/>
              <p:nvPr/>
            </p:nvSpPr>
            <p:spPr>
              <a:xfrm>
                <a:off x="5583960" y="589104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76"/>
              <p:cNvSpPr/>
              <p:nvPr/>
            </p:nvSpPr>
            <p:spPr>
              <a:xfrm>
                <a:off x="5410800" y="5883120"/>
                <a:ext cx="712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Line 77"/>
              <p:cNvSpPr/>
              <p:nvPr/>
            </p:nvSpPr>
            <p:spPr>
              <a:xfrm>
                <a:off x="1179000" y="1998720"/>
                <a:ext cx="2269800" cy="32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78"/>
              <p:cNvSpPr/>
              <p:nvPr/>
            </p:nvSpPr>
            <p:spPr>
              <a:xfrm>
                <a:off x="1504080" y="1569960"/>
                <a:ext cx="1341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500" spc="-1" strike="noStrike">
                    <a:solidFill>
                      <a:srgbClr val="24211d"/>
                    </a:solidFill>
                    <a:latin typeface="Arial"/>
                  </a:rPr>
                  <a:t>ГУ МЧС РФ по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79"/>
              <p:cNvSpPr/>
              <p:nvPr/>
            </p:nvSpPr>
            <p:spPr>
              <a:xfrm>
                <a:off x="1333080" y="1773360"/>
                <a:ext cx="200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Новосибир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80"/>
              <p:cNvSpPr/>
              <p:nvPr/>
            </p:nvSpPr>
            <p:spPr>
              <a:xfrm>
                <a:off x="1179000" y="2228760"/>
                <a:ext cx="2269800" cy="32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81"/>
              <p:cNvSpPr/>
              <p:nvPr/>
            </p:nvSpPr>
            <p:spPr>
              <a:xfrm>
                <a:off x="1994400" y="2001960"/>
                <a:ext cx="520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Пило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82"/>
              <p:cNvSpPr/>
              <p:nvPr/>
            </p:nvSpPr>
            <p:spPr>
              <a:xfrm>
                <a:off x="2082240" y="2305080"/>
                <a:ext cx="35856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83"/>
              <p:cNvSpPr/>
              <p:nvPr/>
            </p:nvSpPr>
            <p:spPr>
              <a:xfrm>
                <a:off x="2154960" y="2305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1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84"/>
              <p:cNvSpPr/>
              <p:nvPr/>
            </p:nvSpPr>
            <p:spPr>
              <a:xfrm>
                <a:off x="2082240" y="2513160"/>
                <a:ext cx="35856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85"/>
              <p:cNvSpPr/>
              <p:nvPr/>
            </p:nvSpPr>
            <p:spPr>
              <a:xfrm>
                <a:off x="2154960" y="2525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4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86"/>
              <p:cNvSpPr/>
              <p:nvPr/>
            </p:nvSpPr>
            <p:spPr>
              <a:xfrm>
                <a:off x="1918800" y="2811600"/>
                <a:ext cx="666360" cy="1378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87"/>
              <p:cNvSpPr/>
              <p:nvPr/>
            </p:nvSpPr>
            <p:spPr>
              <a:xfrm>
                <a:off x="2008440" y="28224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ОКСИОН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88"/>
              <p:cNvSpPr/>
              <p:nvPr/>
            </p:nvSpPr>
            <p:spPr>
              <a:xfrm flipH="1">
                <a:off x="859680" y="2949480"/>
                <a:ext cx="107748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89"/>
              <p:cNvSpPr/>
              <p:nvPr/>
            </p:nvSpPr>
            <p:spPr>
              <a:xfrm flipH="1">
                <a:off x="857880" y="2652840"/>
                <a:ext cx="122220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90"/>
              <p:cNvSpPr/>
              <p:nvPr/>
            </p:nvSpPr>
            <p:spPr>
              <a:xfrm flipH="1">
                <a:off x="857880" y="2444760"/>
                <a:ext cx="122220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91"/>
              <p:cNvSpPr/>
              <p:nvPr/>
            </p:nvSpPr>
            <p:spPr>
              <a:xfrm>
                <a:off x="207360" y="2278080"/>
                <a:ext cx="61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от СР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92"/>
              <p:cNvSpPr/>
              <p:nvPr/>
            </p:nvSpPr>
            <p:spPr>
              <a:xfrm>
                <a:off x="207720" y="2505240"/>
                <a:ext cx="62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от МЧ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93"/>
              <p:cNvSpPr/>
              <p:nvPr/>
            </p:nvSpPr>
            <p:spPr>
              <a:xfrm>
                <a:off x="207360" y="2797200"/>
                <a:ext cx="61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от СР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94"/>
              <p:cNvSpPr/>
              <p:nvPr/>
            </p:nvSpPr>
            <p:spPr>
              <a:xfrm>
                <a:off x="2020320" y="3241800"/>
                <a:ext cx="277560" cy="17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95"/>
              <p:cNvSpPr/>
              <p:nvPr/>
            </p:nvSpPr>
            <p:spPr>
              <a:xfrm>
                <a:off x="2020320" y="3241800"/>
                <a:ext cx="277560" cy="177840"/>
              </a:xfrm>
              <a:prstGeom prst="pie">
                <a:avLst/>
              </a:prstGeom>
              <a:noFill/>
              <a:ln w="28440">
                <a:solidFill>
                  <a:srgbClr val="2428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96"/>
              <p:cNvSpPr/>
              <p:nvPr/>
            </p:nvSpPr>
            <p:spPr>
              <a:xfrm>
                <a:off x="2020320" y="3241800"/>
                <a:ext cx="277560" cy="17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97"/>
              <p:cNvSpPr/>
              <p:nvPr/>
            </p:nvSpPr>
            <p:spPr>
              <a:xfrm>
                <a:off x="2020320" y="3241800"/>
                <a:ext cx="277560" cy="177840"/>
              </a:xfrm>
              <a:prstGeom prst="pie">
                <a:avLst/>
              </a:prstGeom>
              <a:noFill/>
              <a:ln w="28440">
                <a:solidFill>
                  <a:srgbClr val="2428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98"/>
              <p:cNvSpPr/>
              <p:nvPr/>
            </p:nvSpPr>
            <p:spPr>
              <a:xfrm flipH="1">
                <a:off x="2255400" y="3159000"/>
                <a:ext cx="50400" cy="55800"/>
              </a:xfrm>
              <a:prstGeom prst="line">
                <a:avLst/>
              </a:prstGeom>
              <a:ln w="28440">
                <a:solidFill>
                  <a:srgbClr val="2428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99"/>
              <p:cNvSpPr/>
              <p:nvPr/>
            </p:nvSpPr>
            <p:spPr>
              <a:xfrm>
                <a:off x="2183760" y="3186000"/>
                <a:ext cx="102960" cy="84240"/>
              </a:xfrm>
              <a:prstGeom prst="pie">
                <a:avLst/>
              </a:prstGeom>
              <a:solidFill>
                <a:srgbClr val="3b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00"/>
              <p:cNvSpPr/>
              <p:nvPr/>
            </p:nvSpPr>
            <p:spPr>
              <a:xfrm>
                <a:off x="2187000" y="3186000"/>
                <a:ext cx="102960" cy="8424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101"/>
              <p:cNvSpPr/>
              <p:nvPr/>
            </p:nvSpPr>
            <p:spPr>
              <a:xfrm>
                <a:off x="2174400" y="3159000"/>
                <a:ext cx="131400" cy="1800"/>
              </a:xfrm>
              <a:prstGeom prst="line">
                <a:avLst/>
              </a:prstGeom>
              <a:ln w="28440">
                <a:solidFill>
                  <a:srgbClr val="2428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2"/>
              <p:cNvSpPr/>
              <p:nvPr/>
            </p:nvSpPr>
            <p:spPr>
              <a:xfrm flipH="1">
                <a:off x="2174040" y="2986200"/>
                <a:ext cx="194760" cy="168120"/>
              </a:xfrm>
              <a:prstGeom prst="line">
                <a:avLst/>
              </a:prstGeom>
              <a:ln w="28440">
                <a:solidFill>
                  <a:srgbClr val="2428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103"/>
              <p:cNvSpPr/>
              <p:nvPr/>
            </p:nvSpPr>
            <p:spPr>
              <a:xfrm>
                <a:off x="2010960" y="3587760"/>
                <a:ext cx="35820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04"/>
              <p:cNvSpPr/>
              <p:nvPr/>
            </p:nvSpPr>
            <p:spPr>
              <a:xfrm>
                <a:off x="2088000" y="3578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15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05"/>
              <p:cNvSpPr/>
              <p:nvPr/>
            </p:nvSpPr>
            <p:spPr>
              <a:xfrm>
                <a:off x="2010960" y="3959280"/>
                <a:ext cx="35820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"/>
              <p:cNvSpPr/>
              <p:nvPr/>
            </p:nvSpPr>
            <p:spPr>
              <a:xfrm>
                <a:off x="2063520" y="394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АТ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07"/>
              <p:cNvSpPr/>
              <p:nvPr/>
            </p:nvSpPr>
            <p:spPr>
              <a:xfrm>
                <a:off x="1907640" y="4294080"/>
                <a:ext cx="245880" cy="11124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08"/>
              <p:cNvSpPr/>
              <p:nvPr/>
            </p:nvSpPr>
            <p:spPr>
              <a:xfrm>
                <a:off x="1949040" y="4405320"/>
                <a:ext cx="163080" cy="13032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09"/>
              <p:cNvSpPr/>
              <p:nvPr/>
            </p:nvSpPr>
            <p:spPr>
              <a:xfrm>
                <a:off x="1688760" y="4749840"/>
                <a:ext cx="121680" cy="21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10"/>
              <p:cNvSpPr/>
              <p:nvPr/>
            </p:nvSpPr>
            <p:spPr>
              <a:xfrm>
                <a:off x="2064960" y="4749840"/>
                <a:ext cx="121680" cy="21276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11"/>
              <p:cNvSpPr/>
              <p:nvPr/>
            </p:nvSpPr>
            <p:spPr>
              <a:xfrm>
                <a:off x="1963080" y="4786200"/>
                <a:ext cx="131400" cy="13968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12"/>
              <p:cNvSpPr/>
              <p:nvPr/>
            </p:nvSpPr>
            <p:spPr>
              <a:xfrm>
                <a:off x="2010240" y="5205240"/>
                <a:ext cx="27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13"/>
              <p:cNvSpPr/>
              <p:nvPr/>
            </p:nvSpPr>
            <p:spPr>
              <a:xfrm>
                <a:off x="2016000" y="5502240"/>
                <a:ext cx="42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р/точк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4"/>
              <p:cNvSpPr/>
              <p:nvPr/>
            </p:nvSpPr>
            <p:spPr>
              <a:xfrm>
                <a:off x="2250720" y="6134040"/>
                <a:ext cx="112320" cy="13032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15"/>
              <p:cNvSpPr/>
              <p:nvPr/>
            </p:nvSpPr>
            <p:spPr>
              <a:xfrm>
                <a:off x="2224800" y="592452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2200" spc="-1" strike="noStrike">
                    <a:solidFill>
                      <a:srgbClr val="24211d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16"/>
              <p:cNvSpPr/>
              <p:nvPr/>
            </p:nvSpPr>
            <p:spPr>
              <a:xfrm>
                <a:off x="2345760" y="6238800"/>
                <a:ext cx="34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МГТС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Oval 117"/>
              <p:cNvSpPr/>
              <p:nvPr/>
            </p:nvSpPr>
            <p:spPr>
              <a:xfrm>
                <a:off x="2225160" y="5649840"/>
                <a:ext cx="69480" cy="4752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118"/>
              <p:cNvSpPr/>
              <p:nvPr/>
            </p:nvSpPr>
            <p:spPr>
              <a:xfrm>
                <a:off x="2221920" y="5649840"/>
                <a:ext cx="69480" cy="4752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19"/>
              <p:cNvSpPr/>
              <p:nvPr/>
            </p:nvSpPr>
            <p:spPr>
              <a:xfrm>
                <a:off x="5512680" y="3587760"/>
                <a:ext cx="36792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20"/>
              <p:cNvSpPr/>
              <p:nvPr/>
            </p:nvSpPr>
            <p:spPr>
              <a:xfrm>
                <a:off x="5598000" y="36036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15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21"/>
              <p:cNvSpPr/>
              <p:nvPr/>
            </p:nvSpPr>
            <p:spPr>
              <a:xfrm>
                <a:off x="5507640" y="3959280"/>
                <a:ext cx="367920" cy="13968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22"/>
              <p:cNvSpPr/>
              <p:nvPr/>
            </p:nvSpPr>
            <p:spPr>
              <a:xfrm>
                <a:off x="5577840" y="394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АТ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3"/>
              <p:cNvSpPr/>
              <p:nvPr/>
            </p:nvSpPr>
            <p:spPr>
              <a:xfrm>
                <a:off x="5576040" y="4294080"/>
                <a:ext cx="245520" cy="11124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24"/>
              <p:cNvSpPr/>
              <p:nvPr/>
            </p:nvSpPr>
            <p:spPr>
              <a:xfrm>
                <a:off x="5615640" y="4405320"/>
                <a:ext cx="164880" cy="13032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"/>
              <p:cNvSpPr/>
              <p:nvPr/>
            </p:nvSpPr>
            <p:spPr>
              <a:xfrm>
                <a:off x="5193360" y="4749840"/>
                <a:ext cx="122040" cy="21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26"/>
              <p:cNvSpPr/>
              <p:nvPr/>
            </p:nvSpPr>
            <p:spPr>
              <a:xfrm>
                <a:off x="5690160" y="4749840"/>
                <a:ext cx="122040" cy="21276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7"/>
              <p:cNvSpPr/>
              <p:nvPr/>
            </p:nvSpPr>
            <p:spPr>
              <a:xfrm>
                <a:off x="5587200" y="4786200"/>
                <a:ext cx="132840" cy="13968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28"/>
              <p:cNvSpPr/>
              <p:nvPr/>
            </p:nvSpPr>
            <p:spPr>
              <a:xfrm>
                <a:off x="5511960" y="5205240"/>
                <a:ext cx="27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Rectangle 129"/>
              <p:cNvSpPr/>
              <p:nvPr/>
            </p:nvSpPr>
            <p:spPr>
              <a:xfrm>
                <a:off x="5328720" y="5502240"/>
                <a:ext cx="42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р/точк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Oval 130"/>
              <p:cNvSpPr/>
              <p:nvPr/>
            </p:nvSpPr>
            <p:spPr>
              <a:xfrm>
                <a:off x="5502960" y="5649840"/>
                <a:ext cx="69480" cy="4752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131"/>
              <p:cNvSpPr/>
              <p:nvPr/>
            </p:nvSpPr>
            <p:spPr>
              <a:xfrm>
                <a:off x="5507640" y="5649840"/>
                <a:ext cx="69480" cy="4752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132"/>
              <p:cNvSpPr/>
              <p:nvPr/>
            </p:nvSpPr>
            <p:spPr>
              <a:xfrm>
                <a:off x="4628880" y="1590840"/>
                <a:ext cx="202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Муниципальные район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33"/>
              <p:cNvSpPr/>
              <p:nvPr/>
            </p:nvSpPr>
            <p:spPr>
              <a:xfrm>
                <a:off x="4717800" y="1768320"/>
                <a:ext cx="168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Новосибирской обл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34"/>
              <p:cNvSpPr/>
              <p:nvPr/>
            </p:nvSpPr>
            <p:spPr>
              <a:xfrm>
                <a:off x="4625640" y="1935000"/>
                <a:ext cx="2180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Категорированные горо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Line 135"/>
              <p:cNvSpPr/>
              <p:nvPr/>
            </p:nvSpPr>
            <p:spPr>
              <a:xfrm flipH="1">
                <a:off x="839160" y="3419640"/>
                <a:ext cx="124128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36"/>
              <p:cNvSpPr/>
              <p:nvPr/>
            </p:nvSpPr>
            <p:spPr>
              <a:xfrm>
                <a:off x="420120" y="3154320"/>
                <a:ext cx="1206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радиосеть №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37"/>
              <p:cNvSpPr/>
              <p:nvPr/>
            </p:nvSpPr>
            <p:spPr>
              <a:xfrm>
                <a:off x="320760" y="3408480"/>
                <a:ext cx="1457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оповещения СР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Line 138"/>
              <p:cNvSpPr/>
              <p:nvPr/>
            </p:nvSpPr>
            <p:spPr>
              <a:xfrm flipH="1">
                <a:off x="2080800" y="4098960"/>
                <a:ext cx="345672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Line 139"/>
              <p:cNvSpPr/>
              <p:nvPr/>
            </p:nvSpPr>
            <p:spPr>
              <a:xfrm flipH="1">
                <a:off x="5464440" y="4925880"/>
                <a:ext cx="122040" cy="1764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40"/>
              <p:cNvSpPr/>
              <p:nvPr/>
            </p:nvSpPr>
            <p:spPr>
              <a:xfrm flipH="1">
                <a:off x="2298240" y="3727440"/>
                <a:ext cx="323928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41"/>
              <p:cNvSpPr/>
              <p:nvPr/>
            </p:nvSpPr>
            <p:spPr>
              <a:xfrm flipH="1" flipV="1">
                <a:off x="2206080" y="4937040"/>
                <a:ext cx="112320" cy="16848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42"/>
              <p:cNvSpPr/>
              <p:nvPr/>
            </p:nvSpPr>
            <p:spPr>
              <a:xfrm>
                <a:off x="3860640" y="3522600"/>
                <a:ext cx="63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РАСЦ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43"/>
              <p:cNvSpPr/>
              <p:nvPr/>
            </p:nvSpPr>
            <p:spPr>
              <a:xfrm>
                <a:off x="3488400" y="3895560"/>
                <a:ext cx="144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Line 144"/>
              <p:cNvSpPr/>
              <p:nvPr/>
            </p:nvSpPr>
            <p:spPr>
              <a:xfrm flipH="1">
                <a:off x="2297880" y="5316480"/>
                <a:ext cx="316620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Line 145"/>
              <p:cNvSpPr/>
              <p:nvPr/>
            </p:nvSpPr>
            <p:spPr>
              <a:xfrm flipH="1">
                <a:off x="2298240" y="5681520"/>
                <a:ext cx="323928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6"/>
              <p:cNvSpPr/>
              <p:nvPr/>
            </p:nvSpPr>
            <p:spPr>
              <a:xfrm>
                <a:off x="5464800" y="6134040"/>
                <a:ext cx="112320" cy="13032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47"/>
              <p:cNvSpPr/>
              <p:nvPr/>
            </p:nvSpPr>
            <p:spPr>
              <a:xfrm>
                <a:off x="5447160" y="592452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2200" spc="-1" strike="noStrike">
                    <a:solidFill>
                      <a:srgbClr val="24211d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8"/>
              <p:cNvSpPr/>
              <p:nvPr/>
            </p:nvSpPr>
            <p:spPr>
              <a:xfrm>
                <a:off x="5563440" y="6199200"/>
                <a:ext cx="12168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9"/>
              <p:cNvSpPr/>
              <p:nvPr/>
            </p:nvSpPr>
            <p:spPr>
              <a:xfrm>
                <a:off x="5420520" y="5799240"/>
                <a:ext cx="69480" cy="651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50"/>
              <p:cNvSpPr/>
              <p:nvPr/>
            </p:nvSpPr>
            <p:spPr>
              <a:xfrm>
                <a:off x="5420520" y="579924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8281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51"/>
              <p:cNvSpPr/>
              <p:nvPr/>
            </p:nvSpPr>
            <p:spPr>
              <a:xfrm>
                <a:off x="5420520" y="5919840"/>
                <a:ext cx="6948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52"/>
              <p:cNvSpPr/>
              <p:nvPr/>
            </p:nvSpPr>
            <p:spPr>
              <a:xfrm flipH="1">
                <a:off x="2369160" y="6199200"/>
                <a:ext cx="309492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53"/>
              <p:cNvSpPr/>
              <p:nvPr/>
            </p:nvSpPr>
            <p:spPr>
              <a:xfrm>
                <a:off x="5585400" y="6210360"/>
                <a:ext cx="34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МГТС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54"/>
              <p:cNvSpPr/>
              <p:nvPr/>
            </p:nvSpPr>
            <p:spPr>
              <a:xfrm>
                <a:off x="5491800" y="6988320"/>
                <a:ext cx="195120" cy="190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55"/>
              <p:cNvSpPr/>
              <p:nvPr/>
            </p:nvSpPr>
            <p:spPr>
              <a:xfrm>
                <a:off x="5491800" y="6988320"/>
                <a:ext cx="19512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56"/>
              <p:cNvSpPr/>
              <p:nvPr/>
            </p:nvSpPr>
            <p:spPr>
              <a:xfrm>
                <a:off x="5461560" y="6932520"/>
                <a:ext cx="225360" cy="74880"/>
              </a:xfrm>
              <a:prstGeom prst="pie">
                <a:avLst/>
              </a:prstGeom>
              <a:solidFill>
                <a:srgbClr val="94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57"/>
              <p:cNvSpPr/>
              <p:nvPr/>
            </p:nvSpPr>
            <p:spPr>
              <a:xfrm>
                <a:off x="5461560" y="6932520"/>
                <a:ext cx="225360" cy="748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58"/>
              <p:cNvSpPr/>
              <p:nvPr/>
            </p:nvSpPr>
            <p:spPr>
              <a:xfrm flipH="1">
                <a:off x="5461560" y="6988320"/>
                <a:ext cx="19512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59"/>
              <p:cNvSpPr/>
              <p:nvPr/>
            </p:nvSpPr>
            <p:spPr>
              <a:xfrm flipV="1">
                <a:off x="5655240" y="6968880"/>
                <a:ext cx="1440" cy="1908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60"/>
              <p:cNvSpPr/>
              <p:nvPr/>
            </p:nvSpPr>
            <p:spPr>
              <a:xfrm>
                <a:off x="5604480" y="694224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61"/>
              <p:cNvSpPr/>
              <p:nvPr/>
            </p:nvSpPr>
            <p:spPr>
              <a:xfrm>
                <a:off x="5664960" y="6978600"/>
                <a:ext cx="1080" cy="180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62"/>
              <p:cNvSpPr/>
              <p:nvPr/>
            </p:nvSpPr>
            <p:spPr>
              <a:xfrm>
                <a:off x="5645880" y="694224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63"/>
              <p:cNvSpPr/>
              <p:nvPr/>
            </p:nvSpPr>
            <p:spPr>
              <a:xfrm>
                <a:off x="5645880" y="6942240"/>
                <a:ext cx="69480" cy="27000"/>
              </a:xfrm>
              <a:prstGeom prst="pie">
                <a:avLst/>
              </a:prstGeom>
              <a:solidFill>
                <a:srgbClr val="ae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64"/>
              <p:cNvSpPr/>
              <p:nvPr/>
            </p:nvSpPr>
            <p:spPr>
              <a:xfrm>
                <a:off x="5645880" y="6942240"/>
                <a:ext cx="69480" cy="270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165"/>
              <p:cNvSpPr/>
              <p:nvPr/>
            </p:nvSpPr>
            <p:spPr>
              <a:xfrm>
                <a:off x="5645880" y="699768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166"/>
              <p:cNvSpPr/>
              <p:nvPr/>
            </p:nvSpPr>
            <p:spPr>
              <a:xfrm>
                <a:off x="564588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167"/>
              <p:cNvSpPr/>
              <p:nvPr/>
            </p:nvSpPr>
            <p:spPr>
              <a:xfrm>
                <a:off x="5645880" y="699768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68"/>
              <p:cNvSpPr/>
              <p:nvPr/>
            </p:nvSpPr>
            <p:spPr>
              <a:xfrm>
                <a:off x="564588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69"/>
              <p:cNvSpPr/>
              <p:nvPr/>
            </p:nvSpPr>
            <p:spPr>
              <a:xfrm>
                <a:off x="5645880" y="700740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70"/>
              <p:cNvSpPr/>
              <p:nvPr/>
            </p:nvSpPr>
            <p:spPr>
              <a:xfrm>
                <a:off x="5645880" y="700740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171"/>
              <p:cNvSpPr/>
              <p:nvPr/>
            </p:nvSpPr>
            <p:spPr>
              <a:xfrm>
                <a:off x="5645880" y="700740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172"/>
              <p:cNvSpPr/>
              <p:nvPr/>
            </p:nvSpPr>
            <p:spPr>
              <a:xfrm>
                <a:off x="5655240" y="700740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73"/>
              <p:cNvSpPr/>
              <p:nvPr/>
            </p:nvSpPr>
            <p:spPr>
              <a:xfrm>
                <a:off x="565524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74"/>
              <p:cNvSpPr/>
              <p:nvPr/>
            </p:nvSpPr>
            <p:spPr>
              <a:xfrm>
                <a:off x="565524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175"/>
              <p:cNvSpPr/>
              <p:nvPr/>
            </p:nvSpPr>
            <p:spPr>
              <a:xfrm>
                <a:off x="5655240" y="7007400"/>
                <a:ext cx="144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176"/>
              <p:cNvSpPr/>
              <p:nvPr/>
            </p:nvSpPr>
            <p:spPr>
              <a:xfrm>
                <a:off x="5491800" y="699768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177"/>
              <p:cNvSpPr/>
              <p:nvPr/>
            </p:nvSpPr>
            <p:spPr>
              <a:xfrm>
                <a:off x="549180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178"/>
              <p:cNvSpPr/>
              <p:nvPr/>
            </p:nvSpPr>
            <p:spPr>
              <a:xfrm>
                <a:off x="5502960" y="699768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179"/>
              <p:cNvSpPr/>
              <p:nvPr/>
            </p:nvSpPr>
            <p:spPr>
              <a:xfrm>
                <a:off x="550296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80"/>
              <p:cNvSpPr/>
              <p:nvPr/>
            </p:nvSpPr>
            <p:spPr>
              <a:xfrm>
                <a:off x="5502960" y="700740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81"/>
              <p:cNvSpPr/>
              <p:nvPr/>
            </p:nvSpPr>
            <p:spPr>
              <a:xfrm>
                <a:off x="5502960" y="700740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182"/>
              <p:cNvSpPr/>
              <p:nvPr/>
            </p:nvSpPr>
            <p:spPr>
              <a:xfrm>
                <a:off x="5502960" y="700740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183"/>
              <p:cNvSpPr/>
              <p:nvPr/>
            </p:nvSpPr>
            <p:spPr>
              <a:xfrm>
                <a:off x="5502960" y="700740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84"/>
              <p:cNvSpPr/>
              <p:nvPr/>
            </p:nvSpPr>
            <p:spPr>
              <a:xfrm>
                <a:off x="550296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85"/>
              <p:cNvSpPr/>
              <p:nvPr/>
            </p:nvSpPr>
            <p:spPr>
              <a:xfrm>
                <a:off x="550296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186"/>
              <p:cNvSpPr/>
              <p:nvPr/>
            </p:nvSpPr>
            <p:spPr>
              <a:xfrm flipH="1">
                <a:off x="5502960" y="7007400"/>
                <a:ext cx="936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87"/>
              <p:cNvSpPr/>
              <p:nvPr/>
            </p:nvSpPr>
            <p:spPr>
              <a:xfrm>
                <a:off x="5664960" y="697860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88"/>
              <p:cNvSpPr/>
              <p:nvPr/>
            </p:nvSpPr>
            <p:spPr>
              <a:xfrm>
                <a:off x="5664960" y="697860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89"/>
              <p:cNvSpPr/>
              <p:nvPr/>
            </p:nvSpPr>
            <p:spPr>
              <a:xfrm>
                <a:off x="5676120" y="6988320"/>
                <a:ext cx="694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90"/>
              <p:cNvSpPr/>
              <p:nvPr/>
            </p:nvSpPr>
            <p:spPr>
              <a:xfrm>
                <a:off x="5676120" y="69883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91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192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93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94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95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96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97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98"/>
              <p:cNvSpPr/>
              <p:nvPr/>
            </p:nvSpPr>
            <p:spPr>
              <a:xfrm>
                <a:off x="567612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99"/>
              <p:cNvSpPr/>
              <p:nvPr/>
            </p:nvSpPr>
            <p:spPr>
              <a:xfrm>
                <a:off x="5614200" y="695160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00"/>
              <p:cNvSpPr/>
              <p:nvPr/>
            </p:nvSpPr>
            <p:spPr>
              <a:xfrm>
                <a:off x="561420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01"/>
              <p:cNvSpPr/>
              <p:nvPr/>
            </p:nvSpPr>
            <p:spPr>
              <a:xfrm>
                <a:off x="555372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02"/>
              <p:cNvSpPr/>
              <p:nvPr/>
            </p:nvSpPr>
            <p:spPr>
              <a:xfrm>
                <a:off x="5461560" y="6942240"/>
                <a:ext cx="19512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03"/>
              <p:cNvSpPr/>
              <p:nvPr/>
            </p:nvSpPr>
            <p:spPr>
              <a:xfrm>
                <a:off x="5461560" y="6942240"/>
                <a:ext cx="18540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04"/>
              <p:cNvSpPr/>
              <p:nvPr/>
            </p:nvSpPr>
            <p:spPr>
              <a:xfrm>
                <a:off x="5634720" y="695160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05"/>
              <p:cNvSpPr/>
              <p:nvPr/>
            </p:nvSpPr>
            <p:spPr>
              <a:xfrm>
                <a:off x="563472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06"/>
              <p:cNvSpPr/>
              <p:nvPr/>
            </p:nvSpPr>
            <p:spPr>
              <a:xfrm>
                <a:off x="5614200" y="694224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207"/>
              <p:cNvSpPr/>
              <p:nvPr/>
            </p:nvSpPr>
            <p:spPr>
              <a:xfrm>
                <a:off x="5461560" y="6988320"/>
                <a:ext cx="195120" cy="9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Line 208"/>
              <p:cNvSpPr/>
              <p:nvPr/>
            </p:nvSpPr>
            <p:spPr>
              <a:xfrm flipH="1">
                <a:off x="5664960" y="6997680"/>
                <a:ext cx="2016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Line 209"/>
              <p:cNvSpPr/>
              <p:nvPr/>
            </p:nvSpPr>
            <p:spPr>
              <a:xfrm flipV="1">
                <a:off x="5471280" y="6997320"/>
                <a:ext cx="108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Line 210"/>
              <p:cNvSpPr/>
              <p:nvPr/>
            </p:nvSpPr>
            <p:spPr>
              <a:xfrm>
                <a:off x="5634720" y="6997680"/>
                <a:ext cx="144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211"/>
              <p:cNvSpPr/>
              <p:nvPr/>
            </p:nvSpPr>
            <p:spPr>
              <a:xfrm>
                <a:off x="5655240" y="695952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212"/>
              <p:cNvSpPr/>
              <p:nvPr/>
            </p:nvSpPr>
            <p:spPr>
              <a:xfrm>
                <a:off x="5655240" y="695952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213"/>
              <p:cNvSpPr/>
              <p:nvPr/>
            </p:nvSpPr>
            <p:spPr>
              <a:xfrm>
                <a:off x="548244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214"/>
              <p:cNvSpPr/>
              <p:nvPr/>
            </p:nvSpPr>
            <p:spPr>
              <a:xfrm>
                <a:off x="5614200" y="6894360"/>
                <a:ext cx="69480" cy="47880"/>
              </a:xfrm>
              <a:prstGeom prst="pie">
                <a:avLst/>
              </a:prstGeom>
              <a:solidFill>
                <a:srgbClr val="647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215"/>
              <p:cNvSpPr/>
              <p:nvPr/>
            </p:nvSpPr>
            <p:spPr>
              <a:xfrm>
                <a:off x="5614200" y="6894360"/>
                <a:ext cx="69480" cy="47880"/>
              </a:xfrm>
              <a:prstGeom prst="pie">
                <a:avLst/>
              </a:prstGeom>
              <a:noFill/>
              <a:ln w="0">
                <a:solidFill>
                  <a:srgbClr val="6476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216"/>
              <p:cNvSpPr/>
              <p:nvPr/>
            </p:nvSpPr>
            <p:spPr>
              <a:xfrm>
                <a:off x="9991800" y="5919840"/>
                <a:ext cx="196560" cy="190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217"/>
              <p:cNvSpPr/>
              <p:nvPr/>
            </p:nvSpPr>
            <p:spPr>
              <a:xfrm>
                <a:off x="9991800" y="5919840"/>
                <a:ext cx="19656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218"/>
              <p:cNvSpPr/>
              <p:nvPr/>
            </p:nvSpPr>
            <p:spPr>
              <a:xfrm>
                <a:off x="9961560" y="5864400"/>
                <a:ext cx="226800" cy="74520"/>
              </a:xfrm>
              <a:prstGeom prst="pie">
                <a:avLst/>
              </a:prstGeom>
              <a:solidFill>
                <a:srgbClr val="94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219"/>
              <p:cNvSpPr/>
              <p:nvPr/>
            </p:nvSpPr>
            <p:spPr>
              <a:xfrm>
                <a:off x="9961560" y="5864400"/>
                <a:ext cx="226800" cy="745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Line 220"/>
              <p:cNvSpPr/>
              <p:nvPr/>
            </p:nvSpPr>
            <p:spPr>
              <a:xfrm flipH="1">
                <a:off x="9961200" y="5919840"/>
                <a:ext cx="19476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Line 221"/>
              <p:cNvSpPr/>
              <p:nvPr/>
            </p:nvSpPr>
            <p:spPr>
              <a:xfrm flipV="1">
                <a:off x="10155240" y="5900400"/>
                <a:ext cx="1080" cy="1908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222"/>
              <p:cNvSpPr/>
              <p:nvPr/>
            </p:nvSpPr>
            <p:spPr>
              <a:xfrm>
                <a:off x="10104480" y="587376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Line 223"/>
              <p:cNvSpPr/>
              <p:nvPr/>
            </p:nvSpPr>
            <p:spPr>
              <a:xfrm>
                <a:off x="10166400" y="5900760"/>
                <a:ext cx="108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224"/>
              <p:cNvSpPr/>
              <p:nvPr/>
            </p:nvSpPr>
            <p:spPr>
              <a:xfrm>
                <a:off x="10145880" y="587376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225"/>
              <p:cNvSpPr/>
              <p:nvPr/>
            </p:nvSpPr>
            <p:spPr>
              <a:xfrm>
                <a:off x="10145880" y="5873760"/>
                <a:ext cx="69480" cy="27000"/>
              </a:xfrm>
              <a:prstGeom prst="pie">
                <a:avLst/>
              </a:prstGeom>
              <a:solidFill>
                <a:srgbClr val="ae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226"/>
              <p:cNvSpPr/>
              <p:nvPr/>
            </p:nvSpPr>
            <p:spPr>
              <a:xfrm>
                <a:off x="10145880" y="5873760"/>
                <a:ext cx="69480" cy="270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227"/>
              <p:cNvSpPr/>
              <p:nvPr/>
            </p:nvSpPr>
            <p:spPr>
              <a:xfrm>
                <a:off x="10145880" y="592920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228"/>
              <p:cNvSpPr/>
              <p:nvPr/>
            </p:nvSpPr>
            <p:spPr>
              <a:xfrm>
                <a:off x="1014588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229"/>
              <p:cNvSpPr/>
              <p:nvPr/>
            </p:nvSpPr>
            <p:spPr>
              <a:xfrm>
                <a:off x="10145880" y="592920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230"/>
              <p:cNvSpPr/>
              <p:nvPr/>
            </p:nvSpPr>
            <p:spPr>
              <a:xfrm>
                <a:off x="1014588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231"/>
              <p:cNvSpPr/>
              <p:nvPr/>
            </p:nvSpPr>
            <p:spPr>
              <a:xfrm>
                <a:off x="10145880" y="593892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232"/>
              <p:cNvSpPr/>
              <p:nvPr/>
            </p:nvSpPr>
            <p:spPr>
              <a:xfrm>
                <a:off x="10145880" y="593892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33"/>
              <p:cNvSpPr/>
              <p:nvPr/>
            </p:nvSpPr>
            <p:spPr>
              <a:xfrm>
                <a:off x="10145880" y="593892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234"/>
              <p:cNvSpPr/>
              <p:nvPr/>
            </p:nvSpPr>
            <p:spPr>
              <a:xfrm>
                <a:off x="10155240" y="593892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235"/>
              <p:cNvSpPr/>
              <p:nvPr/>
            </p:nvSpPr>
            <p:spPr>
              <a:xfrm>
                <a:off x="1015524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36"/>
              <p:cNvSpPr/>
              <p:nvPr/>
            </p:nvSpPr>
            <p:spPr>
              <a:xfrm>
                <a:off x="1015524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237"/>
              <p:cNvSpPr/>
              <p:nvPr/>
            </p:nvSpPr>
            <p:spPr>
              <a:xfrm>
                <a:off x="10155240" y="5938920"/>
                <a:ext cx="108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238"/>
              <p:cNvSpPr/>
              <p:nvPr/>
            </p:nvSpPr>
            <p:spPr>
              <a:xfrm>
                <a:off x="9991800" y="592920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239"/>
              <p:cNvSpPr/>
              <p:nvPr/>
            </p:nvSpPr>
            <p:spPr>
              <a:xfrm>
                <a:off x="999180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240"/>
              <p:cNvSpPr/>
              <p:nvPr/>
            </p:nvSpPr>
            <p:spPr>
              <a:xfrm>
                <a:off x="10002960" y="592920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241"/>
              <p:cNvSpPr/>
              <p:nvPr/>
            </p:nvSpPr>
            <p:spPr>
              <a:xfrm>
                <a:off x="10002960" y="592920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242"/>
              <p:cNvSpPr/>
              <p:nvPr/>
            </p:nvSpPr>
            <p:spPr>
              <a:xfrm>
                <a:off x="10002960" y="593892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43"/>
              <p:cNvSpPr/>
              <p:nvPr/>
            </p:nvSpPr>
            <p:spPr>
              <a:xfrm>
                <a:off x="10002960" y="593892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244"/>
              <p:cNvSpPr/>
              <p:nvPr/>
            </p:nvSpPr>
            <p:spPr>
              <a:xfrm>
                <a:off x="10002960" y="593892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45"/>
              <p:cNvSpPr/>
              <p:nvPr/>
            </p:nvSpPr>
            <p:spPr>
              <a:xfrm>
                <a:off x="1000296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46"/>
              <p:cNvSpPr/>
              <p:nvPr/>
            </p:nvSpPr>
            <p:spPr>
              <a:xfrm>
                <a:off x="1000296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47"/>
              <p:cNvSpPr/>
              <p:nvPr/>
            </p:nvSpPr>
            <p:spPr>
              <a:xfrm>
                <a:off x="10002960" y="59389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Line 248"/>
              <p:cNvSpPr/>
              <p:nvPr/>
            </p:nvSpPr>
            <p:spPr>
              <a:xfrm>
                <a:off x="10002960" y="5938920"/>
                <a:ext cx="108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49"/>
              <p:cNvSpPr/>
              <p:nvPr/>
            </p:nvSpPr>
            <p:spPr>
              <a:xfrm>
                <a:off x="10166400" y="591012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50"/>
              <p:cNvSpPr/>
              <p:nvPr/>
            </p:nvSpPr>
            <p:spPr>
              <a:xfrm>
                <a:off x="10166400" y="591012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51"/>
              <p:cNvSpPr/>
              <p:nvPr/>
            </p:nvSpPr>
            <p:spPr>
              <a:xfrm>
                <a:off x="10175760" y="5919840"/>
                <a:ext cx="694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52"/>
              <p:cNvSpPr/>
              <p:nvPr/>
            </p:nvSpPr>
            <p:spPr>
              <a:xfrm>
                <a:off x="10175760" y="591984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253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254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255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256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257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258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259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260"/>
              <p:cNvSpPr/>
              <p:nvPr/>
            </p:nvSpPr>
            <p:spPr>
              <a:xfrm>
                <a:off x="10175760" y="591984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261"/>
              <p:cNvSpPr/>
              <p:nvPr/>
            </p:nvSpPr>
            <p:spPr>
              <a:xfrm>
                <a:off x="10115640" y="588312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262"/>
              <p:cNvSpPr/>
              <p:nvPr/>
            </p:nvSpPr>
            <p:spPr>
              <a:xfrm>
                <a:off x="1011564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263"/>
              <p:cNvSpPr/>
              <p:nvPr/>
            </p:nvSpPr>
            <p:spPr>
              <a:xfrm>
                <a:off x="1005372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264"/>
              <p:cNvSpPr/>
              <p:nvPr/>
            </p:nvSpPr>
            <p:spPr>
              <a:xfrm>
                <a:off x="9961560" y="5873760"/>
                <a:ext cx="19476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265"/>
              <p:cNvSpPr/>
              <p:nvPr/>
            </p:nvSpPr>
            <p:spPr>
              <a:xfrm>
                <a:off x="9961560" y="5873760"/>
                <a:ext cx="18540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266"/>
              <p:cNvSpPr/>
              <p:nvPr/>
            </p:nvSpPr>
            <p:spPr>
              <a:xfrm>
                <a:off x="10134720" y="588312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267"/>
              <p:cNvSpPr/>
              <p:nvPr/>
            </p:nvSpPr>
            <p:spPr>
              <a:xfrm>
                <a:off x="1013472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68"/>
              <p:cNvSpPr/>
              <p:nvPr/>
            </p:nvSpPr>
            <p:spPr>
              <a:xfrm>
                <a:off x="10115640" y="587376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269"/>
              <p:cNvSpPr/>
              <p:nvPr/>
            </p:nvSpPr>
            <p:spPr>
              <a:xfrm>
                <a:off x="9961560" y="5919840"/>
                <a:ext cx="194760" cy="9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Line 270"/>
              <p:cNvSpPr/>
              <p:nvPr/>
            </p:nvSpPr>
            <p:spPr>
              <a:xfrm flipH="1">
                <a:off x="10166400" y="5929200"/>
                <a:ext cx="20160" cy="180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Line 271"/>
              <p:cNvSpPr/>
              <p:nvPr/>
            </p:nvSpPr>
            <p:spPr>
              <a:xfrm flipV="1">
                <a:off x="9972720" y="5928840"/>
                <a:ext cx="108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272"/>
              <p:cNvSpPr/>
              <p:nvPr/>
            </p:nvSpPr>
            <p:spPr>
              <a:xfrm>
                <a:off x="10134720" y="5929200"/>
                <a:ext cx="108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273"/>
              <p:cNvSpPr/>
              <p:nvPr/>
            </p:nvSpPr>
            <p:spPr>
              <a:xfrm>
                <a:off x="10155240" y="589104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74"/>
              <p:cNvSpPr/>
              <p:nvPr/>
            </p:nvSpPr>
            <p:spPr>
              <a:xfrm>
                <a:off x="10155240" y="589104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275"/>
              <p:cNvSpPr/>
              <p:nvPr/>
            </p:nvSpPr>
            <p:spPr>
              <a:xfrm>
                <a:off x="9982080" y="588312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276"/>
              <p:cNvSpPr/>
              <p:nvPr/>
            </p:nvSpPr>
            <p:spPr>
              <a:xfrm>
                <a:off x="10074240" y="4294080"/>
                <a:ext cx="245880" cy="11124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Rectangle 277"/>
              <p:cNvSpPr/>
              <p:nvPr/>
            </p:nvSpPr>
            <p:spPr>
              <a:xfrm>
                <a:off x="10115640" y="4405320"/>
                <a:ext cx="163080" cy="13032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78"/>
              <p:cNvSpPr/>
              <p:nvPr/>
            </p:nvSpPr>
            <p:spPr>
              <a:xfrm>
                <a:off x="10196640" y="4749840"/>
                <a:ext cx="121680" cy="21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79"/>
              <p:cNvSpPr/>
              <p:nvPr/>
            </p:nvSpPr>
            <p:spPr>
              <a:xfrm>
                <a:off x="10196640" y="4749840"/>
                <a:ext cx="121680" cy="21276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80"/>
              <p:cNvSpPr/>
              <p:nvPr/>
            </p:nvSpPr>
            <p:spPr>
              <a:xfrm>
                <a:off x="10083960" y="4786200"/>
                <a:ext cx="144000" cy="13968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281"/>
              <p:cNvSpPr/>
              <p:nvPr/>
            </p:nvSpPr>
            <p:spPr>
              <a:xfrm>
                <a:off x="10075320" y="5205240"/>
                <a:ext cx="27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282"/>
              <p:cNvSpPr/>
              <p:nvPr/>
            </p:nvSpPr>
            <p:spPr>
              <a:xfrm>
                <a:off x="9849240" y="5502240"/>
                <a:ext cx="42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р/точк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83"/>
              <p:cNvSpPr/>
              <p:nvPr/>
            </p:nvSpPr>
            <p:spPr>
              <a:xfrm>
                <a:off x="10074240" y="5649840"/>
                <a:ext cx="69480" cy="4752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Oval 284"/>
              <p:cNvSpPr/>
              <p:nvPr/>
            </p:nvSpPr>
            <p:spPr>
              <a:xfrm>
                <a:off x="10074240" y="5649840"/>
                <a:ext cx="69480" cy="4752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Line 285"/>
              <p:cNvSpPr/>
              <p:nvPr/>
            </p:nvSpPr>
            <p:spPr>
              <a:xfrm flipH="1">
                <a:off x="9972720" y="4925880"/>
                <a:ext cx="110880" cy="1764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86"/>
              <p:cNvSpPr/>
              <p:nvPr/>
            </p:nvSpPr>
            <p:spPr>
              <a:xfrm>
                <a:off x="10023480" y="6134040"/>
                <a:ext cx="112320" cy="130320"/>
              </a:xfrm>
              <a:prstGeom prst="pie">
                <a:avLst/>
              </a:prstGeom>
              <a:noFill/>
              <a:ln w="28440">
                <a:solidFill>
                  <a:srgbClr val="242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87"/>
              <p:cNvSpPr/>
              <p:nvPr/>
            </p:nvSpPr>
            <p:spPr>
              <a:xfrm>
                <a:off x="9797040" y="5937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88"/>
              <p:cNvSpPr/>
              <p:nvPr/>
            </p:nvSpPr>
            <p:spPr>
              <a:xfrm>
                <a:off x="9991800" y="5799240"/>
                <a:ext cx="69480" cy="651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89"/>
              <p:cNvSpPr/>
              <p:nvPr/>
            </p:nvSpPr>
            <p:spPr>
              <a:xfrm>
                <a:off x="9991800" y="579924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8281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90"/>
              <p:cNvSpPr/>
              <p:nvPr/>
            </p:nvSpPr>
            <p:spPr>
              <a:xfrm>
                <a:off x="9991800" y="5919840"/>
                <a:ext cx="6948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291"/>
              <p:cNvSpPr/>
              <p:nvPr/>
            </p:nvSpPr>
            <p:spPr>
              <a:xfrm>
                <a:off x="10095840" y="6235560"/>
                <a:ext cx="34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000" spc="-1" strike="noStrike">
                    <a:solidFill>
                      <a:srgbClr val="24211d"/>
                    </a:solidFill>
                    <a:latin typeface="Arial"/>
                  </a:rPr>
                  <a:t>МГТС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Line 292"/>
              <p:cNvSpPr/>
              <p:nvPr/>
            </p:nvSpPr>
            <p:spPr>
              <a:xfrm flipH="1">
                <a:off x="5824800" y="5315040"/>
                <a:ext cx="424764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Line 293"/>
              <p:cNvSpPr/>
              <p:nvPr/>
            </p:nvSpPr>
            <p:spPr>
              <a:xfrm flipH="1">
                <a:off x="5556600" y="6199200"/>
                <a:ext cx="455076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294"/>
              <p:cNvSpPr/>
              <p:nvPr/>
            </p:nvSpPr>
            <p:spPr>
              <a:xfrm flipH="1">
                <a:off x="5825160" y="4925880"/>
                <a:ext cx="432072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295"/>
              <p:cNvSpPr/>
              <p:nvPr/>
            </p:nvSpPr>
            <p:spPr>
              <a:xfrm>
                <a:off x="5812560" y="4925880"/>
                <a:ext cx="112320" cy="1764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Line 296"/>
              <p:cNvSpPr/>
              <p:nvPr/>
            </p:nvSpPr>
            <p:spPr>
              <a:xfrm flipH="1">
                <a:off x="5896440" y="5102280"/>
                <a:ext cx="410436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297"/>
              <p:cNvSpPr/>
              <p:nvPr/>
            </p:nvSpPr>
            <p:spPr>
              <a:xfrm>
                <a:off x="7620840" y="4902120"/>
                <a:ext cx="1791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Перехват ТВ канало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Line 298"/>
              <p:cNvSpPr/>
              <p:nvPr/>
            </p:nvSpPr>
            <p:spPr>
              <a:xfrm flipH="1">
                <a:off x="1937520" y="4535640"/>
                <a:ext cx="8312760" cy="288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Line 299"/>
              <p:cNvSpPr/>
              <p:nvPr/>
            </p:nvSpPr>
            <p:spPr>
              <a:xfrm flipH="1">
                <a:off x="5537520" y="5680080"/>
                <a:ext cx="4575960" cy="32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300"/>
              <p:cNvSpPr/>
              <p:nvPr/>
            </p:nvSpPr>
            <p:spPr>
              <a:xfrm>
                <a:off x="5450760" y="6505560"/>
                <a:ext cx="358200" cy="13824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301"/>
              <p:cNvSpPr/>
              <p:nvPr/>
            </p:nvSpPr>
            <p:spPr>
              <a:xfrm>
                <a:off x="5502240" y="6513480"/>
                <a:ext cx="21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СЦВ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02"/>
              <p:cNvSpPr/>
              <p:nvPr/>
            </p:nvSpPr>
            <p:spPr>
              <a:xfrm>
                <a:off x="10032840" y="6988320"/>
                <a:ext cx="195120" cy="190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303"/>
              <p:cNvSpPr/>
              <p:nvPr/>
            </p:nvSpPr>
            <p:spPr>
              <a:xfrm>
                <a:off x="10032840" y="6988320"/>
                <a:ext cx="195120" cy="190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304"/>
              <p:cNvSpPr/>
              <p:nvPr/>
            </p:nvSpPr>
            <p:spPr>
              <a:xfrm>
                <a:off x="10032840" y="6932520"/>
                <a:ext cx="226800" cy="74880"/>
              </a:xfrm>
              <a:prstGeom prst="pie">
                <a:avLst/>
              </a:prstGeom>
              <a:solidFill>
                <a:srgbClr val="94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305"/>
              <p:cNvSpPr/>
              <p:nvPr/>
            </p:nvSpPr>
            <p:spPr>
              <a:xfrm>
                <a:off x="10032840" y="6932520"/>
                <a:ext cx="226800" cy="7488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Line 306"/>
              <p:cNvSpPr/>
              <p:nvPr/>
            </p:nvSpPr>
            <p:spPr>
              <a:xfrm>
                <a:off x="10063080" y="6988320"/>
                <a:ext cx="19656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Line 307"/>
              <p:cNvSpPr/>
              <p:nvPr/>
            </p:nvSpPr>
            <p:spPr>
              <a:xfrm flipV="1">
                <a:off x="10063080" y="6968880"/>
                <a:ext cx="1440" cy="1908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308"/>
              <p:cNvSpPr/>
              <p:nvPr/>
            </p:nvSpPr>
            <p:spPr>
              <a:xfrm>
                <a:off x="10063080" y="6942240"/>
                <a:ext cx="69480" cy="651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Line 309"/>
              <p:cNvSpPr/>
              <p:nvPr/>
            </p:nvSpPr>
            <p:spPr>
              <a:xfrm>
                <a:off x="10044000" y="6978600"/>
                <a:ext cx="9360" cy="180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310"/>
              <p:cNvSpPr/>
              <p:nvPr/>
            </p:nvSpPr>
            <p:spPr>
              <a:xfrm>
                <a:off x="10044000" y="694224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311"/>
              <p:cNvSpPr/>
              <p:nvPr/>
            </p:nvSpPr>
            <p:spPr>
              <a:xfrm>
                <a:off x="10044000" y="6942240"/>
                <a:ext cx="69480" cy="27000"/>
              </a:xfrm>
              <a:prstGeom prst="pie">
                <a:avLst/>
              </a:prstGeom>
              <a:solidFill>
                <a:srgbClr val="ae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312"/>
              <p:cNvSpPr/>
              <p:nvPr/>
            </p:nvSpPr>
            <p:spPr>
              <a:xfrm>
                <a:off x="10044000" y="6942240"/>
                <a:ext cx="69480" cy="270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Oval 313"/>
              <p:cNvSpPr/>
              <p:nvPr/>
            </p:nvSpPr>
            <p:spPr>
              <a:xfrm>
                <a:off x="10044000" y="699768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Oval 314"/>
              <p:cNvSpPr/>
              <p:nvPr/>
            </p:nvSpPr>
            <p:spPr>
              <a:xfrm>
                <a:off x="1004400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Oval 315"/>
              <p:cNvSpPr/>
              <p:nvPr/>
            </p:nvSpPr>
            <p:spPr>
              <a:xfrm>
                <a:off x="10053720" y="699768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Oval 316"/>
              <p:cNvSpPr/>
              <p:nvPr/>
            </p:nvSpPr>
            <p:spPr>
              <a:xfrm>
                <a:off x="1005372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317"/>
              <p:cNvSpPr/>
              <p:nvPr/>
            </p:nvSpPr>
            <p:spPr>
              <a:xfrm>
                <a:off x="10053720" y="700740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318"/>
              <p:cNvSpPr/>
              <p:nvPr/>
            </p:nvSpPr>
            <p:spPr>
              <a:xfrm>
                <a:off x="10053720" y="700740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Oval 319"/>
              <p:cNvSpPr/>
              <p:nvPr/>
            </p:nvSpPr>
            <p:spPr>
              <a:xfrm>
                <a:off x="10053720" y="700740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Oval 320"/>
              <p:cNvSpPr/>
              <p:nvPr/>
            </p:nvSpPr>
            <p:spPr>
              <a:xfrm>
                <a:off x="10053720" y="7007400"/>
                <a:ext cx="69480" cy="144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321"/>
              <p:cNvSpPr/>
              <p:nvPr/>
            </p:nvSpPr>
            <p:spPr>
              <a:xfrm>
                <a:off x="1006308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322"/>
              <p:cNvSpPr/>
              <p:nvPr/>
            </p:nvSpPr>
            <p:spPr>
              <a:xfrm>
                <a:off x="1006308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Line 323"/>
              <p:cNvSpPr/>
              <p:nvPr/>
            </p:nvSpPr>
            <p:spPr>
              <a:xfrm>
                <a:off x="10053720" y="7007400"/>
                <a:ext cx="900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Oval 324"/>
              <p:cNvSpPr/>
              <p:nvPr/>
            </p:nvSpPr>
            <p:spPr>
              <a:xfrm>
                <a:off x="10196640" y="6997680"/>
                <a:ext cx="69480" cy="19080"/>
              </a:xfrm>
              <a:prstGeom prst="ellips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Oval 325"/>
              <p:cNvSpPr/>
              <p:nvPr/>
            </p:nvSpPr>
            <p:spPr>
              <a:xfrm>
                <a:off x="1019664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Oval 326"/>
              <p:cNvSpPr/>
              <p:nvPr/>
            </p:nvSpPr>
            <p:spPr>
              <a:xfrm>
                <a:off x="10206000" y="6997680"/>
                <a:ext cx="6948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Oval 327"/>
              <p:cNvSpPr/>
              <p:nvPr/>
            </p:nvSpPr>
            <p:spPr>
              <a:xfrm>
                <a:off x="10206000" y="6997680"/>
                <a:ext cx="69480" cy="19080"/>
              </a:xfrm>
              <a:prstGeom prst="ellips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328"/>
              <p:cNvSpPr/>
              <p:nvPr/>
            </p:nvSpPr>
            <p:spPr>
              <a:xfrm>
                <a:off x="10206000" y="7007400"/>
                <a:ext cx="69480" cy="9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329"/>
              <p:cNvSpPr/>
              <p:nvPr/>
            </p:nvSpPr>
            <p:spPr>
              <a:xfrm>
                <a:off x="10206000" y="7007400"/>
                <a:ext cx="69480" cy="93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Oval 330"/>
              <p:cNvSpPr/>
              <p:nvPr/>
            </p:nvSpPr>
            <p:spPr>
              <a:xfrm>
                <a:off x="10206000" y="7007400"/>
                <a:ext cx="69480" cy="9360"/>
              </a:xfrm>
              <a:prstGeom prst="ellips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331"/>
              <p:cNvSpPr/>
              <p:nvPr/>
            </p:nvSpPr>
            <p:spPr>
              <a:xfrm>
                <a:off x="1020600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332"/>
              <p:cNvSpPr/>
              <p:nvPr/>
            </p:nvSpPr>
            <p:spPr>
              <a:xfrm>
                <a:off x="1020600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333"/>
              <p:cNvSpPr/>
              <p:nvPr/>
            </p:nvSpPr>
            <p:spPr>
              <a:xfrm>
                <a:off x="10206000" y="700740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Line 334"/>
              <p:cNvSpPr/>
              <p:nvPr/>
            </p:nvSpPr>
            <p:spPr>
              <a:xfrm>
                <a:off x="10206000" y="7007400"/>
                <a:ext cx="144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335"/>
              <p:cNvSpPr/>
              <p:nvPr/>
            </p:nvSpPr>
            <p:spPr>
              <a:xfrm>
                <a:off x="10032840" y="697860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336"/>
              <p:cNvSpPr/>
              <p:nvPr/>
            </p:nvSpPr>
            <p:spPr>
              <a:xfrm>
                <a:off x="10032840" y="697860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337"/>
              <p:cNvSpPr/>
              <p:nvPr/>
            </p:nvSpPr>
            <p:spPr>
              <a:xfrm>
                <a:off x="10032840" y="6988320"/>
                <a:ext cx="694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338"/>
              <p:cNvSpPr/>
              <p:nvPr/>
            </p:nvSpPr>
            <p:spPr>
              <a:xfrm>
                <a:off x="10032840" y="6988320"/>
                <a:ext cx="69480" cy="1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339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340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341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342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343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344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345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solidFill>
                <a:srgbClr val="f99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346"/>
              <p:cNvSpPr/>
              <p:nvPr/>
            </p:nvSpPr>
            <p:spPr>
              <a:xfrm>
                <a:off x="10032840" y="6988320"/>
                <a:ext cx="69480" cy="1440"/>
              </a:xfrm>
              <a:prstGeom prst="rect">
                <a:avLst/>
              </a:prstGeom>
              <a:noFill/>
              <a:ln w="0">
                <a:solidFill>
                  <a:srgbClr val="f99e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347"/>
              <p:cNvSpPr/>
              <p:nvPr/>
            </p:nvSpPr>
            <p:spPr>
              <a:xfrm>
                <a:off x="10074240" y="695160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348"/>
              <p:cNvSpPr/>
              <p:nvPr/>
            </p:nvSpPr>
            <p:spPr>
              <a:xfrm>
                <a:off x="1007424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349"/>
              <p:cNvSpPr/>
              <p:nvPr/>
            </p:nvSpPr>
            <p:spPr>
              <a:xfrm>
                <a:off x="1010448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350"/>
              <p:cNvSpPr/>
              <p:nvPr/>
            </p:nvSpPr>
            <p:spPr>
              <a:xfrm>
                <a:off x="10063080" y="6942240"/>
                <a:ext cx="18540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351"/>
              <p:cNvSpPr/>
              <p:nvPr/>
            </p:nvSpPr>
            <p:spPr>
              <a:xfrm>
                <a:off x="10063080" y="6942240"/>
                <a:ext cx="185400" cy="14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352"/>
              <p:cNvSpPr/>
              <p:nvPr/>
            </p:nvSpPr>
            <p:spPr>
              <a:xfrm>
                <a:off x="10063080" y="6951600"/>
                <a:ext cx="69480" cy="1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353"/>
              <p:cNvSpPr/>
              <p:nvPr/>
            </p:nvSpPr>
            <p:spPr>
              <a:xfrm>
                <a:off x="10063080" y="6951600"/>
                <a:ext cx="6948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354"/>
              <p:cNvSpPr/>
              <p:nvPr/>
            </p:nvSpPr>
            <p:spPr>
              <a:xfrm>
                <a:off x="10044000" y="6942240"/>
                <a:ext cx="69480" cy="36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355"/>
              <p:cNvSpPr/>
              <p:nvPr/>
            </p:nvSpPr>
            <p:spPr>
              <a:xfrm>
                <a:off x="10063080" y="6988320"/>
                <a:ext cx="196560" cy="93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356"/>
              <p:cNvSpPr/>
              <p:nvPr/>
            </p:nvSpPr>
            <p:spPr>
              <a:xfrm>
                <a:off x="10032840" y="6997680"/>
                <a:ext cx="10800" cy="144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357"/>
              <p:cNvSpPr/>
              <p:nvPr/>
            </p:nvSpPr>
            <p:spPr>
              <a:xfrm flipV="1">
                <a:off x="10247400" y="6997320"/>
                <a:ext cx="108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358"/>
              <p:cNvSpPr/>
              <p:nvPr/>
            </p:nvSpPr>
            <p:spPr>
              <a:xfrm>
                <a:off x="10074240" y="6997680"/>
                <a:ext cx="9360" cy="97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359"/>
              <p:cNvSpPr/>
              <p:nvPr/>
            </p:nvSpPr>
            <p:spPr>
              <a:xfrm>
                <a:off x="10063080" y="6959520"/>
                <a:ext cx="69480" cy="97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360"/>
              <p:cNvSpPr/>
              <p:nvPr/>
            </p:nvSpPr>
            <p:spPr>
              <a:xfrm>
                <a:off x="10063080" y="6959520"/>
                <a:ext cx="69480" cy="972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361"/>
              <p:cNvSpPr/>
              <p:nvPr/>
            </p:nvSpPr>
            <p:spPr>
              <a:xfrm>
                <a:off x="10166400" y="6951600"/>
                <a:ext cx="70920" cy="1764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362"/>
              <p:cNvSpPr/>
              <p:nvPr/>
            </p:nvSpPr>
            <p:spPr>
              <a:xfrm>
                <a:off x="10063080" y="6894360"/>
                <a:ext cx="69480" cy="47880"/>
              </a:xfrm>
              <a:prstGeom prst="pie">
                <a:avLst/>
              </a:prstGeom>
              <a:solidFill>
                <a:srgbClr val="647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363"/>
              <p:cNvSpPr/>
              <p:nvPr/>
            </p:nvSpPr>
            <p:spPr>
              <a:xfrm>
                <a:off x="10063080" y="6894360"/>
                <a:ext cx="69480" cy="47880"/>
              </a:xfrm>
              <a:prstGeom prst="pie">
                <a:avLst/>
              </a:prstGeom>
              <a:noFill/>
              <a:ln w="0">
                <a:solidFill>
                  <a:srgbClr val="6476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364"/>
              <p:cNvSpPr/>
              <p:nvPr/>
            </p:nvSpPr>
            <p:spPr>
              <a:xfrm>
                <a:off x="10023480" y="6505560"/>
                <a:ext cx="358560" cy="138240"/>
              </a:xfrm>
              <a:prstGeom prst="rect">
                <a:avLst/>
              </a:prstGeom>
              <a:noFill/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Rectangle 365"/>
              <p:cNvSpPr/>
              <p:nvPr/>
            </p:nvSpPr>
            <p:spPr>
              <a:xfrm>
                <a:off x="10073520" y="6513480"/>
                <a:ext cx="21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24211d"/>
                    </a:solidFill>
                    <a:latin typeface="Arial"/>
                  </a:rPr>
                  <a:t>СЦВ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366"/>
              <p:cNvSpPr/>
              <p:nvPr/>
            </p:nvSpPr>
            <p:spPr>
              <a:xfrm flipH="1">
                <a:off x="5753520" y="6643800"/>
                <a:ext cx="4622040" cy="32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367"/>
              <p:cNvSpPr/>
              <p:nvPr/>
            </p:nvSpPr>
            <p:spPr>
              <a:xfrm flipH="1">
                <a:off x="5680440" y="7016760"/>
                <a:ext cx="446508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Rectangle 368"/>
              <p:cNvSpPr/>
              <p:nvPr/>
            </p:nvSpPr>
            <p:spPr>
              <a:xfrm>
                <a:off x="8684640" y="6792840"/>
                <a:ext cx="739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СГУ ГП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369"/>
              <p:cNvSpPr/>
              <p:nvPr/>
            </p:nvSpPr>
            <p:spPr>
              <a:xfrm>
                <a:off x="9782640" y="1665360"/>
                <a:ext cx="172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Сельские поселе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370"/>
              <p:cNvSpPr/>
              <p:nvPr/>
            </p:nvSpPr>
            <p:spPr>
              <a:xfrm>
                <a:off x="9604440" y="1971720"/>
                <a:ext cx="2341080" cy="32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371"/>
              <p:cNvSpPr/>
              <p:nvPr/>
            </p:nvSpPr>
            <p:spPr>
              <a:xfrm flipH="1">
                <a:off x="5609160" y="5948280"/>
                <a:ext cx="439164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372"/>
              <p:cNvSpPr/>
              <p:nvPr/>
            </p:nvSpPr>
            <p:spPr>
              <a:xfrm>
                <a:off x="7620840" y="4235400"/>
                <a:ext cx="1875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электрические сирен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373"/>
              <p:cNvSpPr/>
              <p:nvPr/>
            </p:nvSpPr>
            <p:spPr>
              <a:xfrm>
                <a:off x="7911360" y="4522680"/>
                <a:ext cx="146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 “</a:t>
                </a: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Внимание всем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374"/>
              <p:cNvSpPr/>
              <p:nvPr/>
            </p:nvSpPr>
            <p:spPr>
              <a:xfrm>
                <a:off x="7008840" y="5746680"/>
                <a:ext cx="2754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подвижные экипажи УВД, ГИБД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375"/>
              <p:cNvSpPr/>
              <p:nvPr/>
            </p:nvSpPr>
            <p:spPr>
              <a:xfrm>
                <a:off x="8395200" y="5149800"/>
                <a:ext cx="1102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Билаин, МТ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376"/>
              <p:cNvSpPr/>
              <p:nvPr/>
            </p:nvSpPr>
            <p:spPr>
              <a:xfrm>
                <a:off x="6837840" y="4711680"/>
                <a:ext cx="3196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400" spc="-1" strike="noStrike">
                    <a:solidFill>
                      <a:srgbClr val="24211d"/>
                    </a:solidFill>
                    <a:latin typeface="Arial"/>
                  </a:rPr>
                  <a:t>Перехват радиовещательных станц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377"/>
              <p:cNvSpPr/>
              <p:nvPr/>
            </p:nvSpPr>
            <p:spPr>
              <a:xfrm>
                <a:off x="4598280" y="2171880"/>
                <a:ext cx="2234520" cy="288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378"/>
              <p:cNvSpPr/>
              <p:nvPr/>
            </p:nvSpPr>
            <p:spPr>
              <a:xfrm flipH="1">
                <a:off x="2298240" y="5099040"/>
                <a:ext cx="3175920" cy="144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379"/>
              <p:cNvSpPr/>
              <p:nvPr/>
            </p:nvSpPr>
            <p:spPr>
              <a:xfrm flipH="1">
                <a:off x="2179080" y="4929120"/>
                <a:ext cx="3422160" cy="1800"/>
              </a:xfrm>
              <a:prstGeom prst="line">
                <a:avLst/>
              </a:prstGeom>
              <a:ln w="28440">
                <a:solidFill>
                  <a:srgbClr val="2421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3" name="Rectangle 380"/>
            <p:cNvSpPr/>
            <p:nvPr/>
          </p:nvSpPr>
          <p:spPr>
            <a:xfrm>
              <a:off x="6134040" y="7466040"/>
              <a:ext cx="6667560" cy="213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Rectangle 381"/>
            <p:cNvSpPr/>
            <p:nvPr/>
          </p:nvSpPr>
          <p:spPr>
            <a:xfrm>
              <a:off x="8506080" y="7451640"/>
              <a:ext cx="188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500" spc="-1" strike="noStrike">
                  <a:solidFill>
                    <a:srgbClr val="24211d"/>
                  </a:solidFill>
                  <a:latin typeface="Times New Roman"/>
                </a:rPr>
                <a:t>Условные обозна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82"/>
            <p:cNvSpPr/>
            <p:nvPr/>
          </p:nvSpPr>
          <p:spPr>
            <a:xfrm>
              <a:off x="9659880" y="7878600"/>
              <a:ext cx="112680" cy="130320"/>
            </a:xfrm>
            <a:prstGeom prst="pie">
              <a:avLst/>
            </a:prstGeom>
            <a:noFill/>
            <a:ln w="28440">
              <a:solidFill>
                <a:srgbClr val="242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Rectangle 383"/>
            <p:cNvSpPr/>
            <p:nvPr/>
          </p:nvSpPr>
          <p:spPr>
            <a:xfrm>
              <a:off x="9637560" y="7667640"/>
              <a:ext cx="14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22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Rectangle 384"/>
            <p:cNvSpPr/>
            <p:nvPr/>
          </p:nvSpPr>
          <p:spPr>
            <a:xfrm>
              <a:off x="6235560" y="7878600"/>
              <a:ext cx="355680" cy="149400"/>
            </a:xfrm>
            <a:prstGeom prst="rect">
              <a:avLst/>
            </a:prstGeom>
            <a:noFill/>
            <a:ln w="28440">
              <a:solidFill>
                <a:srgbClr val="242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385"/>
            <p:cNvSpPr/>
            <p:nvPr/>
          </p:nvSpPr>
          <p:spPr>
            <a:xfrm>
              <a:off x="6294600" y="7854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000" spc="-1" strike="noStrike">
                  <a:solidFill>
                    <a:srgbClr val="24211d"/>
                  </a:solidFill>
                  <a:latin typeface="Arial"/>
                </a:rPr>
                <a:t>1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386"/>
            <p:cNvSpPr/>
            <p:nvPr/>
          </p:nvSpPr>
          <p:spPr>
            <a:xfrm>
              <a:off x="7066440" y="7824960"/>
              <a:ext cx="160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Региональная АСЦ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87"/>
            <p:cNvSpPr/>
            <p:nvPr/>
          </p:nvSpPr>
          <p:spPr>
            <a:xfrm>
              <a:off x="6761160" y="7943760"/>
              <a:ext cx="14292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88"/>
            <p:cNvSpPr/>
            <p:nvPr/>
          </p:nvSpPr>
          <p:spPr>
            <a:xfrm>
              <a:off x="6232680" y="8175600"/>
              <a:ext cx="355320" cy="149400"/>
            </a:xfrm>
            <a:prstGeom prst="rect">
              <a:avLst/>
            </a:prstGeom>
            <a:noFill/>
            <a:ln w="28440">
              <a:solidFill>
                <a:srgbClr val="242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389"/>
            <p:cNvSpPr/>
            <p:nvPr/>
          </p:nvSpPr>
          <p:spPr>
            <a:xfrm>
              <a:off x="7073280" y="8139240"/>
              <a:ext cx="242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абонентский телеграф “Ракета”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Line 390"/>
            <p:cNvSpPr/>
            <p:nvPr/>
          </p:nvSpPr>
          <p:spPr>
            <a:xfrm>
              <a:off x="6773760" y="8240760"/>
              <a:ext cx="1429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91"/>
            <p:cNvSpPr/>
            <p:nvPr/>
          </p:nvSpPr>
          <p:spPr>
            <a:xfrm>
              <a:off x="6324480" y="8474040"/>
              <a:ext cx="163800" cy="74520"/>
            </a:xfrm>
            <a:prstGeom prst="pie">
              <a:avLst/>
            </a:prstGeom>
            <a:noFill/>
            <a:ln w="28440">
              <a:solidFill>
                <a:srgbClr val="242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392"/>
            <p:cNvSpPr/>
            <p:nvPr/>
          </p:nvSpPr>
          <p:spPr>
            <a:xfrm>
              <a:off x="6350040" y="8548560"/>
              <a:ext cx="111240" cy="92160"/>
            </a:xfrm>
            <a:prstGeom prst="rect">
              <a:avLst/>
            </a:prstGeom>
            <a:noFill/>
            <a:ln w="28440">
              <a:solidFill>
                <a:srgbClr val="242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93"/>
            <p:cNvSpPr/>
            <p:nvPr/>
          </p:nvSpPr>
          <p:spPr>
            <a:xfrm>
              <a:off x="6603840" y="8761320"/>
              <a:ext cx="92160" cy="17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94"/>
            <p:cNvSpPr/>
            <p:nvPr/>
          </p:nvSpPr>
          <p:spPr>
            <a:xfrm>
              <a:off x="6350040" y="8761320"/>
              <a:ext cx="92160" cy="176400"/>
            </a:xfrm>
            <a:prstGeom prst="pie">
              <a:avLst/>
            </a:prstGeom>
            <a:noFill/>
            <a:ln w="28440">
              <a:solidFill>
                <a:srgbClr val="242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95"/>
            <p:cNvSpPr/>
            <p:nvPr/>
          </p:nvSpPr>
          <p:spPr>
            <a:xfrm>
              <a:off x="6256440" y="8794800"/>
              <a:ext cx="101520" cy="111240"/>
            </a:xfrm>
            <a:prstGeom prst="pie">
              <a:avLst/>
            </a:prstGeom>
            <a:noFill/>
            <a:ln w="28440">
              <a:solidFill>
                <a:srgbClr val="242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96"/>
            <p:cNvSpPr/>
            <p:nvPr/>
          </p:nvSpPr>
          <p:spPr>
            <a:xfrm>
              <a:off x="6483240" y="904068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000" spc="-1" strike="noStrike">
                  <a:solidFill>
                    <a:srgbClr val="24211d"/>
                  </a:solidFill>
                  <a:latin typeface="Arial"/>
                </a:rPr>
                <a:t>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Oval 397"/>
            <p:cNvSpPr/>
            <p:nvPr/>
          </p:nvSpPr>
          <p:spPr>
            <a:xfrm>
              <a:off x="8074080" y="9317160"/>
              <a:ext cx="50760" cy="46080"/>
            </a:xfrm>
            <a:prstGeom prst="ellips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Oval 398"/>
            <p:cNvSpPr/>
            <p:nvPr/>
          </p:nvSpPr>
          <p:spPr>
            <a:xfrm>
              <a:off x="8074080" y="9317160"/>
              <a:ext cx="50760" cy="4608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399"/>
            <p:cNvSpPr/>
            <p:nvPr/>
          </p:nvSpPr>
          <p:spPr>
            <a:xfrm>
              <a:off x="7079760" y="8464680"/>
              <a:ext cx="213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запуск электрических сине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Line 400"/>
            <p:cNvSpPr/>
            <p:nvPr/>
          </p:nvSpPr>
          <p:spPr>
            <a:xfrm>
              <a:off x="6773760" y="8539200"/>
              <a:ext cx="1429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401"/>
            <p:cNvSpPr/>
            <p:nvPr/>
          </p:nvSpPr>
          <p:spPr>
            <a:xfrm>
              <a:off x="6696720" y="8710560"/>
              <a:ext cx="298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перехват р/вещательных и ТВ станц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Line 402"/>
            <p:cNvSpPr/>
            <p:nvPr/>
          </p:nvSpPr>
          <p:spPr>
            <a:xfrm>
              <a:off x="6507000" y="8832960"/>
              <a:ext cx="1429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403"/>
            <p:cNvSpPr/>
            <p:nvPr/>
          </p:nvSpPr>
          <p:spPr>
            <a:xfrm>
              <a:off x="7078320" y="9002880"/>
              <a:ext cx="232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оповещение (БИЛАИН и МТС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Line 404"/>
            <p:cNvSpPr/>
            <p:nvPr/>
          </p:nvSpPr>
          <p:spPr>
            <a:xfrm>
              <a:off x="6850080" y="9105840"/>
              <a:ext cx="14292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Line 405"/>
            <p:cNvSpPr/>
            <p:nvPr/>
          </p:nvSpPr>
          <p:spPr>
            <a:xfrm>
              <a:off x="8094600" y="9336240"/>
              <a:ext cx="12240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406"/>
            <p:cNvSpPr/>
            <p:nvPr/>
          </p:nvSpPr>
          <p:spPr>
            <a:xfrm>
              <a:off x="8583480" y="9231480"/>
              <a:ext cx="332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радио точка проводного речевого веща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Line 407"/>
            <p:cNvSpPr/>
            <p:nvPr/>
          </p:nvSpPr>
          <p:spPr>
            <a:xfrm>
              <a:off x="8369280" y="9336240"/>
              <a:ext cx="1429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408"/>
            <p:cNvSpPr/>
            <p:nvPr/>
          </p:nvSpPr>
          <p:spPr>
            <a:xfrm>
              <a:off x="10171800" y="7824960"/>
              <a:ext cx="2385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телефон междугородней связ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Line 409"/>
            <p:cNvSpPr/>
            <p:nvPr/>
          </p:nvSpPr>
          <p:spPr>
            <a:xfrm>
              <a:off x="9948960" y="7943760"/>
              <a:ext cx="14292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10"/>
            <p:cNvSpPr/>
            <p:nvPr/>
          </p:nvSpPr>
          <p:spPr>
            <a:xfrm>
              <a:off x="9515520" y="8194680"/>
              <a:ext cx="357120" cy="139680"/>
            </a:xfrm>
            <a:prstGeom prst="rect">
              <a:avLst/>
            </a:prstGeom>
            <a:noFill/>
            <a:ln w="28440">
              <a:solidFill>
                <a:srgbClr val="242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411"/>
            <p:cNvSpPr/>
            <p:nvPr/>
          </p:nvSpPr>
          <p:spPr>
            <a:xfrm>
              <a:off x="9574560" y="8210520"/>
              <a:ext cx="21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24211d"/>
                  </a:solidFill>
                  <a:latin typeface="Arial"/>
                </a:rPr>
                <a:t>СЦ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412"/>
            <p:cNvSpPr/>
            <p:nvPr/>
          </p:nvSpPr>
          <p:spPr>
            <a:xfrm>
              <a:off x="10108080" y="8139240"/>
              <a:ext cx="264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стойки централизованного вызо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Line 413"/>
            <p:cNvSpPr/>
            <p:nvPr/>
          </p:nvSpPr>
          <p:spPr>
            <a:xfrm>
              <a:off x="9948960" y="8240760"/>
              <a:ext cx="1429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414"/>
            <p:cNvSpPr/>
            <p:nvPr/>
          </p:nvSpPr>
          <p:spPr>
            <a:xfrm>
              <a:off x="9690120" y="8688240"/>
              <a:ext cx="193680" cy="190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5"/>
            <p:cNvSpPr/>
            <p:nvPr/>
          </p:nvSpPr>
          <p:spPr>
            <a:xfrm>
              <a:off x="9690120" y="8688240"/>
              <a:ext cx="19368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16"/>
            <p:cNvSpPr/>
            <p:nvPr/>
          </p:nvSpPr>
          <p:spPr>
            <a:xfrm>
              <a:off x="9659880" y="8623440"/>
              <a:ext cx="223920" cy="83880"/>
            </a:xfrm>
            <a:prstGeom prst="pie">
              <a:avLst/>
            </a:pr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17"/>
            <p:cNvSpPr/>
            <p:nvPr/>
          </p:nvSpPr>
          <p:spPr>
            <a:xfrm>
              <a:off x="9659880" y="8623440"/>
              <a:ext cx="223920" cy="838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Line 418"/>
            <p:cNvSpPr/>
            <p:nvPr/>
          </p:nvSpPr>
          <p:spPr>
            <a:xfrm flipH="1">
              <a:off x="9659880" y="8688240"/>
              <a:ext cx="19368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Line 419"/>
            <p:cNvSpPr/>
            <p:nvPr/>
          </p:nvSpPr>
          <p:spPr>
            <a:xfrm flipV="1">
              <a:off x="9853560" y="8668800"/>
              <a:ext cx="1800" cy="1908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420"/>
            <p:cNvSpPr/>
            <p:nvPr/>
          </p:nvSpPr>
          <p:spPr>
            <a:xfrm>
              <a:off x="9802800" y="8642520"/>
              <a:ext cx="50760" cy="64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Line 421"/>
            <p:cNvSpPr/>
            <p:nvPr/>
          </p:nvSpPr>
          <p:spPr>
            <a:xfrm>
              <a:off x="9863280" y="8669160"/>
              <a:ext cx="144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422"/>
            <p:cNvSpPr/>
            <p:nvPr/>
          </p:nvSpPr>
          <p:spPr>
            <a:xfrm>
              <a:off x="9842400" y="8642520"/>
              <a:ext cx="31680" cy="363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423"/>
            <p:cNvSpPr/>
            <p:nvPr/>
          </p:nvSpPr>
          <p:spPr>
            <a:xfrm>
              <a:off x="9842400" y="8642520"/>
              <a:ext cx="20880" cy="26640"/>
            </a:xfrm>
            <a:prstGeom prst="pie">
              <a:avLst/>
            </a:prstGeom>
            <a:solidFill>
              <a:srgbClr val="ae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424"/>
            <p:cNvSpPr/>
            <p:nvPr/>
          </p:nvSpPr>
          <p:spPr>
            <a:xfrm>
              <a:off x="9842400" y="8642520"/>
              <a:ext cx="20880" cy="266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Oval 425"/>
            <p:cNvSpPr/>
            <p:nvPr/>
          </p:nvSpPr>
          <p:spPr>
            <a:xfrm>
              <a:off x="9833040" y="8697960"/>
              <a:ext cx="30240" cy="19080"/>
            </a:xfrm>
            <a:prstGeom prst="ellips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Oval 426"/>
            <p:cNvSpPr/>
            <p:nvPr/>
          </p:nvSpPr>
          <p:spPr>
            <a:xfrm>
              <a:off x="9833040" y="8697960"/>
              <a:ext cx="30240" cy="1908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Oval 427"/>
            <p:cNvSpPr/>
            <p:nvPr/>
          </p:nvSpPr>
          <p:spPr>
            <a:xfrm>
              <a:off x="9842400" y="86979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Oval 428"/>
            <p:cNvSpPr/>
            <p:nvPr/>
          </p:nvSpPr>
          <p:spPr>
            <a:xfrm>
              <a:off x="9842400" y="8697960"/>
              <a:ext cx="11160" cy="936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429"/>
            <p:cNvSpPr/>
            <p:nvPr/>
          </p:nvSpPr>
          <p:spPr>
            <a:xfrm>
              <a:off x="9842400" y="8707320"/>
              <a:ext cx="11160" cy="1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430"/>
            <p:cNvSpPr/>
            <p:nvPr/>
          </p:nvSpPr>
          <p:spPr>
            <a:xfrm>
              <a:off x="9842400" y="8707320"/>
              <a:ext cx="11160" cy="18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Oval 431"/>
            <p:cNvSpPr/>
            <p:nvPr/>
          </p:nvSpPr>
          <p:spPr>
            <a:xfrm>
              <a:off x="9842400" y="8697960"/>
              <a:ext cx="11160" cy="936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432"/>
            <p:cNvSpPr/>
            <p:nvPr/>
          </p:nvSpPr>
          <p:spPr>
            <a:xfrm>
              <a:off x="9842400" y="8707320"/>
              <a:ext cx="11160" cy="1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433"/>
            <p:cNvSpPr/>
            <p:nvPr/>
          </p:nvSpPr>
          <p:spPr>
            <a:xfrm>
              <a:off x="9853560" y="8707320"/>
              <a:ext cx="1800" cy="1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434"/>
            <p:cNvSpPr/>
            <p:nvPr/>
          </p:nvSpPr>
          <p:spPr>
            <a:xfrm>
              <a:off x="9853560" y="8707320"/>
              <a:ext cx="1800" cy="1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Line 435"/>
            <p:cNvSpPr/>
            <p:nvPr/>
          </p:nvSpPr>
          <p:spPr>
            <a:xfrm>
              <a:off x="9853560" y="8707320"/>
              <a:ext cx="180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436"/>
            <p:cNvSpPr/>
            <p:nvPr/>
          </p:nvSpPr>
          <p:spPr>
            <a:xfrm>
              <a:off x="9690120" y="8697960"/>
              <a:ext cx="20520" cy="19080"/>
            </a:xfrm>
            <a:prstGeom prst="ellips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Oval 437"/>
            <p:cNvSpPr/>
            <p:nvPr/>
          </p:nvSpPr>
          <p:spPr>
            <a:xfrm>
              <a:off x="9690120" y="8697960"/>
              <a:ext cx="20520" cy="1908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Oval 438"/>
            <p:cNvSpPr/>
            <p:nvPr/>
          </p:nvSpPr>
          <p:spPr>
            <a:xfrm>
              <a:off x="9690120" y="8697960"/>
              <a:ext cx="205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Oval 439"/>
            <p:cNvSpPr/>
            <p:nvPr/>
          </p:nvSpPr>
          <p:spPr>
            <a:xfrm>
              <a:off x="9690120" y="8697960"/>
              <a:ext cx="20520" cy="936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440"/>
            <p:cNvSpPr/>
            <p:nvPr/>
          </p:nvSpPr>
          <p:spPr>
            <a:xfrm>
              <a:off x="9690120" y="8707320"/>
              <a:ext cx="20520" cy="1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441"/>
            <p:cNvSpPr/>
            <p:nvPr/>
          </p:nvSpPr>
          <p:spPr>
            <a:xfrm>
              <a:off x="9690120" y="8707320"/>
              <a:ext cx="20520" cy="18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Oval 442"/>
            <p:cNvSpPr/>
            <p:nvPr/>
          </p:nvSpPr>
          <p:spPr>
            <a:xfrm>
              <a:off x="9699480" y="8697960"/>
              <a:ext cx="11160" cy="936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Oval 443"/>
            <p:cNvSpPr/>
            <p:nvPr/>
          </p:nvSpPr>
          <p:spPr>
            <a:xfrm>
              <a:off x="9699480" y="8707320"/>
              <a:ext cx="1800" cy="180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444"/>
            <p:cNvSpPr/>
            <p:nvPr/>
          </p:nvSpPr>
          <p:spPr>
            <a:xfrm>
              <a:off x="9699480" y="8707320"/>
              <a:ext cx="1800" cy="1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445"/>
            <p:cNvSpPr/>
            <p:nvPr/>
          </p:nvSpPr>
          <p:spPr>
            <a:xfrm>
              <a:off x="9699480" y="8707320"/>
              <a:ext cx="1800" cy="18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Line 446"/>
            <p:cNvSpPr/>
            <p:nvPr/>
          </p:nvSpPr>
          <p:spPr>
            <a:xfrm>
              <a:off x="9699480" y="8707320"/>
              <a:ext cx="180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447"/>
            <p:cNvSpPr/>
            <p:nvPr/>
          </p:nvSpPr>
          <p:spPr>
            <a:xfrm>
              <a:off x="9863280" y="8678880"/>
              <a:ext cx="20520" cy="93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448"/>
            <p:cNvSpPr/>
            <p:nvPr/>
          </p:nvSpPr>
          <p:spPr>
            <a:xfrm>
              <a:off x="9863280" y="8678880"/>
              <a:ext cx="20520" cy="93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449"/>
            <p:cNvSpPr/>
            <p:nvPr/>
          </p:nvSpPr>
          <p:spPr>
            <a:xfrm>
              <a:off x="9874080" y="867888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450"/>
            <p:cNvSpPr/>
            <p:nvPr/>
          </p:nvSpPr>
          <p:spPr>
            <a:xfrm>
              <a:off x="9874080" y="8678880"/>
              <a:ext cx="9720" cy="9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451"/>
            <p:cNvSpPr/>
            <p:nvPr/>
          </p:nvSpPr>
          <p:spPr>
            <a:xfrm>
              <a:off x="9874080" y="8678880"/>
              <a:ext cx="1800" cy="144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452"/>
            <p:cNvSpPr/>
            <p:nvPr/>
          </p:nvSpPr>
          <p:spPr>
            <a:xfrm>
              <a:off x="9874080" y="8678880"/>
              <a:ext cx="1800" cy="144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453"/>
            <p:cNvSpPr/>
            <p:nvPr/>
          </p:nvSpPr>
          <p:spPr>
            <a:xfrm>
              <a:off x="9874080" y="8678880"/>
              <a:ext cx="1800" cy="936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454"/>
            <p:cNvSpPr/>
            <p:nvPr/>
          </p:nvSpPr>
          <p:spPr>
            <a:xfrm>
              <a:off x="9874080" y="8678880"/>
              <a:ext cx="1800" cy="936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455"/>
            <p:cNvSpPr/>
            <p:nvPr/>
          </p:nvSpPr>
          <p:spPr>
            <a:xfrm>
              <a:off x="9874080" y="8688240"/>
              <a:ext cx="1800" cy="180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456"/>
            <p:cNvSpPr/>
            <p:nvPr/>
          </p:nvSpPr>
          <p:spPr>
            <a:xfrm>
              <a:off x="9874080" y="8688240"/>
              <a:ext cx="1800" cy="180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457"/>
            <p:cNvSpPr/>
            <p:nvPr/>
          </p:nvSpPr>
          <p:spPr>
            <a:xfrm>
              <a:off x="9874080" y="8688240"/>
              <a:ext cx="1800" cy="180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458"/>
            <p:cNvSpPr/>
            <p:nvPr/>
          </p:nvSpPr>
          <p:spPr>
            <a:xfrm>
              <a:off x="9874080" y="8688240"/>
              <a:ext cx="1800" cy="180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459"/>
            <p:cNvSpPr/>
            <p:nvPr/>
          </p:nvSpPr>
          <p:spPr>
            <a:xfrm>
              <a:off x="9812160" y="8642520"/>
              <a:ext cx="20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460"/>
            <p:cNvSpPr/>
            <p:nvPr/>
          </p:nvSpPr>
          <p:spPr>
            <a:xfrm>
              <a:off x="9812160" y="8642520"/>
              <a:ext cx="20880" cy="266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461"/>
            <p:cNvSpPr/>
            <p:nvPr/>
          </p:nvSpPr>
          <p:spPr>
            <a:xfrm>
              <a:off x="9752040" y="8642520"/>
              <a:ext cx="50760" cy="266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462"/>
            <p:cNvSpPr/>
            <p:nvPr/>
          </p:nvSpPr>
          <p:spPr>
            <a:xfrm>
              <a:off x="9659880" y="8642520"/>
              <a:ext cx="182520" cy="1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463"/>
            <p:cNvSpPr/>
            <p:nvPr/>
          </p:nvSpPr>
          <p:spPr>
            <a:xfrm>
              <a:off x="9659880" y="8642520"/>
              <a:ext cx="182520" cy="1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464"/>
            <p:cNvSpPr/>
            <p:nvPr/>
          </p:nvSpPr>
          <p:spPr>
            <a:xfrm>
              <a:off x="9833040" y="8642520"/>
              <a:ext cx="93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465"/>
            <p:cNvSpPr/>
            <p:nvPr/>
          </p:nvSpPr>
          <p:spPr>
            <a:xfrm>
              <a:off x="9833040" y="8642520"/>
              <a:ext cx="9360" cy="266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466"/>
            <p:cNvSpPr/>
            <p:nvPr/>
          </p:nvSpPr>
          <p:spPr>
            <a:xfrm>
              <a:off x="9812160" y="8642520"/>
              <a:ext cx="61920" cy="363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467"/>
            <p:cNvSpPr/>
            <p:nvPr/>
          </p:nvSpPr>
          <p:spPr>
            <a:xfrm>
              <a:off x="9659880" y="8688240"/>
              <a:ext cx="193680" cy="97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Line 468"/>
            <p:cNvSpPr/>
            <p:nvPr/>
          </p:nvSpPr>
          <p:spPr>
            <a:xfrm flipH="1">
              <a:off x="9863280" y="8697960"/>
              <a:ext cx="1080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Line 469"/>
            <p:cNvSpPr/>
            <p:nvPr/>
          </p:nvSpPr>
          <p:spPr>
            <a:xfrm>
              <a:off x="9669600" y="8697960"/>
              <a:ext cx="144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Line 470"/>
            <p:cNvSpPr/>
            <p:nvPr/>
          </p:nvSpPr>
          <p:spPr>
            <a:xfrm>
              <a:off x="9833040" y="8697960"/>
              <a:ext cx="1440" cy="936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471"/>
            <p:cNvSpPr/>
            <p:nvPr/>
          </p:nvSpPr>
          <p:spPr>
            <a:xfrm>
              <a:off x="9853560" y="8659800"/>
              <a:ext cx="1800" cy="93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72"/>
            <p:cNvSpPr/>
            <p:nvPr/>
          </p:nvSpPr>
          <p:spPr>
            <a:xfrm>
              <a:off x="9853560" y="8659800"/>
              <a:ext cx="1800" cy="93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473"/>
            <p:cNvSpPr/>
            <p:nvPr/>
          </p:nvSpPr>
          <p:spPr>
            <a:xfrm>
              <a:off x="9680400" y="8642520"/>
              <a:ext cx="60480" cy="266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474"/>
            <p:cNvSpPr/>
            <p:nvPr/>
          </p:nvSpPr>
          <p:spPr>
            <a:xfrm>
              <a:off x="9690120" y="8567640"/>
              <a:ext cx="50760" cy="65160"/>
            </a:xfrm>
            <a:prstGeom prst="pie">
              <a:avLst/>
            </a:prstGeom>
            <a:solidFill>
              <a:srgbClr val="a9a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475"/>
            <p:cNvSpPr/>
            <p:nvPr/>
          </p:nvSpPr>
          <p:spPr>
            <a:xfrm>
              <a:off x="9690120" y="8567640"/>
              <a:ext cx="50760" cy="65160"/>
            </a:xfrm>
            <a:prstGeom prst="pie">
              <a:avLst/>
            </a:prstGeom>
            <a:noFill/>
            <a:ln w="0">
              <a:solidFill>
                <a:srgbClr val="8281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476"/>
            <p:cNvSpPr/>
            <p:nvPr/>
          </p:nvSpPr>
          <p:spPr>
            <a:xfrm>
              <a:off x="9690120" y="8613720"/>
              <a:ext cx="9360" cy="97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477"/>
            <p:cNvSpPr/>
            <p:nvPr/>
          </p:nvSpPr>
          <p:spPr>
            <a:xfrm>
              <a:off x="9699480" y="8948880"/>
              <a:ext cx="195480" cy="270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478"/>
            <p:cNvSpPr/>
            <p:nvPr/>
          </p:nvSpPr>
          <p:spPr>
            <a:xfrm>
              <a:off x="9699480" y="8948880"/>
              <a:ext cx="195480" cy="2700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479"/>
            <p:cNvSpPr/>
            <p:nvPr/>
          </p:nvSpPr>
          <p:spPr>
            <a:xfrm>
              <a:off x="9659880" y="8893080"/>
              <a:ext cx="235080" cy="74880"/>
            </a:xfrm>
            <a:prstGeom prst="pie">
              <a:avLst/>
            </a:pr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480"/>
            <p:cNvSpPr/>
            <p:nvPr/>
          </p:nvSpPr>
          <p:spPr>
            <a:xfrm>
              <a:off x="9659880" y="8893080"/>
              <a:ext cx="235080" cy="748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481"/>
            <p:cNvSpPr/>
            <p:nvPr/>
          </p:nvSpPr>
          <p:spPr>
            <a:xfrm flipH="1">
              <a:off x="9669600" y="8948880"/>
              <a:ext cx="19368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482"/>
            <p:cNvSpPr/>
            <p:nvPr/>
          </p:nvSpPr>
          <p:spPr>
            <a:xfrm flipV="1">
              <a:off x="9863280" y="8929440"/>
              <a:ext cx="1440" cy="1908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83"/>
            <p:cNvSpPr/>
            <p:nvPr/>
          </p:nvSpPr>
          <p:spPr>
            <a:xfrm>
              <a:off x="9812160" y="8910720"/>
              <a:ext cx="41400" cy="572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Line 484"/>
            <p:cNvSpPr/>
            <p:nvPr/>
          </p:nvSpPr>
          <p:spPr>
            <a:xfrm>
              <a:off x="9874080" y="8939160"/>
              <a:ext cx="1800" cy="180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85"/>
            <p:cNvSpPr/>
            <p:nvPr/>
          </p:nvSpPr>
          <p:spPr>
            <a:xfrm>
              <a:off x="9853560" y="8910720"/>
              <a:ext cx="30240" cy="28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486"/>
            <p:cNvSpPr/>
            <p:nvPr/>
          </p:nvSpPr>
          <p:spPr>
            <a:xfrm>
              <a:off x="9853560" y="8910720"/>
              <a:ext cx="20520" cy="19080"/>
            </a:xfrm>
            <a:prstGeom prst="pie">
              <a:avLst/>
            </a:prstGeom>
            <a:solidFill>
              <a:srgbClr val="ae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487"/>
            <p:cNvSpPr/>
            <p:nvPr/>
          </p:nvSpPr>
          <p:spPr>
            <a:xfrm>
              <a:off x="9853560" y="8910720"/>
              <a:ext cx="2052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Oval 488"/>
            <p:cNvSpPr/>
            <p:nvPr/>
          </p:nvSpPr>
          <p:spPr>
            <a:xfrm>
              <a:off x="9842400" y="8958240"/>
              <a:ext cx="31680" cy="27000"/>
            </a:xfrm>
            <a:prstGeom prst="ellips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489"/>
            <p:cNvSpPr/>
            <p:nvPr/>
          </p:nvSpPr>
          <p:spPr>
            <a:xfrm>
              <a:off x="9842400" y="8958240"/>
              <a:ext cx="31680" cy="2700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Oval 490"/>
            <p:cNvSpPr/>
            <p:nvPr/>
          </p:nvSpPr>
          <p:spPr>
            <a:xfrm>
              <a:off x="9853560" y="8967960"/>
              <a:ext cx="972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Oval 491"/>
            <p:cNvSpPr/>
            <p:nvPr/>
          </p:nvSpPr>
          <p:spPr>
            <a:xfrm>
              <a:off x="9853560" y="8967960"/>
              <a:ext cx="9720" cy="79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492"/>
            <p:cNvSpPr/>
            <p:nvPr/>
          </p:nvSpPr>
          <p:spPr>
            <a:xfrm>
              <a:off x="9853560" y="8967960"/>
              <a:ext cx="9720" cy="79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493"/>
            <p:cNvSpPr/>
            <p:nvPr/>
          </p:nvSpPr>
          <p:spPr>
            <a:xfrm>
              <a:off x="9853560" y="8967960"/>
              <a:ext cx="9720" cy="79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494"/>
            <p:cNvSpPr/>
            <p:nvPr/>
          </p:nvSpPr>
          <p:spPr>
            <a:xfrm>
              <a:off x="9853560" y="8967960"/>
              <a:ext cx="9720" cy="792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495"/>
            <p:cNvSpPr/>
            <p:nvPr/>
          </p:nvSpPr>
          <p:spPr>
            <a:xfrm>
              <a:off x="9853560" y="8967960"/>
              <a:ext cx="9720" cy="792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496"/>
            <p:cNvSpPr/>
            <p:nvPr/>
          </p:nvSpPr>
          <p:spPr>
            <a:xfrm>
              <a:off x="9853560" y="8967960"/>
              <a:ext cx="9720" cy="7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497"/>
            <p:cNvSpPr/>
            <p:nvPr/>
          </p:nvSpPr>
          <p:spPr>
            <a:xfrm>
              <a:off x="9853560" y="8967960"/>
              <a:ext cx="9720" cy="7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498"/>
            <p:cNvSpPr/>
            <p:nvPr/>
          </p:nvSpPr>
          <p:spPr>
            <a:xfrm flipV="1">
              <a:off x="9863280" y="8967960"/>
              <a:ext cx="1440" cy="792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Oval 499"/>
            <p:cNvSpPr/>
            <p:nvPr/>
          </p:nvSpPr>
          <p:spPr>
            <a:xfrm>
              <a:off x="9699480" y="8958240"/>
              <a:ext cx="20880" cy="27000"/>
            </a:xfrm>
            <a:prstGeom prst="ellips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Oval 500"/>
            <p:cNvSpPr/>
            <p:nvPr/>
          </p:nvSpPr>
          <p:spPr>
            <a:xfrm>
              <a:off x="9699480" y="8958240"/>
              <a:ext cx="20880" cy="2700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Oval 501"/>
            <p:cNvSpPr/>
            <p:nvPr/>
          </p:nvSpPr>
          <p:spPr>
            <a:xfrm>
              <a:off x="9699480" y="8967960"/>
              <a:ext cx="2088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Oval 502"/>
            <p:cNvSpPr/>
            <p:nvPr/>
          </p:nvSpPr>
          <p:spPr>
            <a:xfrm>
              <a:off x="9699480" y="8967960"/>
              <a:ext cx="20880" cy="79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503"/>
            <p:cNvSpPr/>
            <p:nvPr/>
          </p:nvSpPr>
          <p:spPr>
            <a:xfrm>
              <a:off x="9699480" y="8967960"/>
              <a:ext cx="20880" cy="79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504"/>
            <p:cNvSpPr/>
            <p:nvPr/>
          </p:nvSpPr>
          <p:spPr>
            <a:xfrm>
              <a:off x="9699480" y="8967960"/>
              <a:ext cx="20880" cy="79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Oval 505"/>
            <p:cNvSpPr/>
            <p:nvPr/>
          </p:nvSpPr>
          <p:spPr>
            <a:xfrm>
              <a:off x="9710640" y="8967960"/>
              <a:ext cx="9720" cy="792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Oval 506"/>
            <p:cNvSpPr/>
            <p:nvPr/>
          </p:nvSpPr>
          <p:spPr>
            <a:xfrm>
              <a:off x="9710640" y="8967960"/>
              <a:ext cx="1800" cy="7920"/>
            </a:xfrm>
            <a:prstGeom prst="ellips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507"/>
            <p:cNvSpPr/>
            <p:nvPr/>
          </p:nvSpPr>
          <p:spPr>
            <a:xfrm>
              <a:off x="9710640" y="8967960"/>
              <a:ext cx="1800" cy="7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508"/>
            <p:cNvSpPr/>
            <p:nvPr/>
          </p:nvSpPr>
          <p:spPr>
            <a:xfrm>
              <a:off x="9710640" y="8967960"/>
              <a:ext cx="1800" cy="7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Line 509"/>
            <p:cNvSpPr/>
            <p:nvPr/>
          </p:nvSpPr>
          <p:spPr>
            <a:xfrm flipV="1">
              <a:off x="9710640" y="8967960"/>
              <a:ext cx="1800" cy="792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510"/>
            <p:cNvSpPr/>
            <p:nvPr/>
          </p:nvSpPr>
          <p:spPr>
            <a:xfrm>
              <a:off x="9874080" y="8948880"/>
              <a:ext cx="20880" cy="93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511"/>
            <p:cNvSpPr/>
            <p:nvPr/>
          </p:nvSpPr>
          <p:spPr>
            <a:xfrm>
              <a:off x="9874080" y="8948880"/>
              <a:ext cx="20880" cy="93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512"/>
            <p:cNvSpPr/>
            <p:nvPr/>
          </p:nvSpPr>
          <p:spPr>
            <a:xfrm>
              <a:off x="9883800" y="8948880"/>
              <a:ext cx="1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513"/>
            <p:cNvSpPr/>
            <p:nvPr/>
          </p:nvSpPr>
          <p:spPr>
            <a:xfrm>
              <a:off x="9883800" y="8948880"/>
              <a:ext cx="1440" cy="9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514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Rectangle 515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Rectangle 516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Rectangle 517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518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19"/>
            <p:cNvSpPr/>
            <p:nvPr/>
          </p:nvSpPr>
          <p:spPr>
            <a:xfrm>
              <a:off x="9883800" y="8948880"/>
              <a:ext cx="1440" cy="144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520"/>
            <p:cNvSpPr/>
            <p:nvPr/>
          </p:nvSpPr>
          <p:spPr>
            <a:xfrm>
              <a:off x="9883800" y="8948880"/>
              <a:ext cx="1440" cy="9360"/>
            </a:xfrm>
            <a:prstGeom prst="rect">
              <a:avLst/>
            </a:prstGeom>
            <a:solidFill>
              <a:srgbClr val="f99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521"/>
            <p:cNvSpPr/>
            <p:nvPr/>
          </p:nvSpPr>
          <p:spPr>
            <a:xfrm>
              <a:off x="9883800" y="8948880"/>
              <a:ext cx="1440" cy="9360"/>
            </a:xfrm>
            <a:prstGeom prst="rect">
              <a:avLst/>
            </a:prstGeom>
            <a:noFill/>
            <a:ln w="0">
              <a:solidFill>
                <a:srgbClr val="f99e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522"/>
            <p:cNvSpPr/>
            <p:nvPr/>
          </p:nvSpPr>
          <p:spPr>
            <a:xfrm>
              <a:off x="9823320" y="8910720"/>
              <a:ext cx="19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523"/>
            <p:cNvSpPr/>
            <p:nvPr/>
          </p:nvSpPr>
          <p:spPr>
            <a:xfrm>
              <a:off x="9823320" y="8910720"/>
              <a:ext cx="1908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524"/>
            <p:cNvSpPr/>
            <p:nvPr/>
          </p:nvSpPr>
          <p:spPr>
            <a:xfrm>
              <a:off x="9761400" y="8910720"/>
              <a:ext cx="5076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525"/>
            <p:cNvSpPr/>
            <p:nvPr/>
          </p:nvSpPr>
          <p:spPr>
            <a:xfrm>
              <a:off x="9669600" y="8902800"/>
              <a:ext cx="183960" cy="7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526"/>
            <p:cNvSpPr/>
            <p:nvPr/>
          </p:nvSpPr>
          <p:spPr>
            <a:xfrm>
              <a:off x="9669600" y="8902800"/>
              <a:ext cx="183960" cy="1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527"/>
            <p:cNvSpPr/>
            <p:nvPr/>
          </p:nvSpPr>
          <p:spPr>
            <a:xfrm>
              <a:off x="9842400" y="8910720"/>
              <a:ext cx="111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528"/>
            <p:cNvSpPr/>
            <p:nvPr/>
          </p:nvSpPr>
          <p:spPr>
            <a:xfrm>
              <a:off x="9842400" y="8910720"/>
              <a:ext cx="11160" cy="28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529"/>
            <p:cNvSpPr/>
            <p:nvPr/>
          </p:nvSpPr>
          <p:spPr>
            <a:xfrm>
              <a:off x="9823320" y="8910720"/>
              <a:ext cx="60480" cy="284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30"/>
            <p:cNvSpPr/>
            <p:nvPr/>
          </p:nvSpPr>
          <p:spPr>
            <a:xfrm>
              <a:off x="9669600" y="8948880"/>
              <a:ext cx="19368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531"/>
            <p:cNvSpPr/>
            <p:nvPr/>
          </p:nvSpPr>
          <p:spPr>
            <a:xfrm flipH="1">
              <a:off x="9873720" y="8958240"/>
              <a:ext cx="972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Line 532"/>
            <p:cNvSpPr/>
            <p:nvPr/>
          </p:nvSpPr>
          <p:spPr>
            <a:xfrm flipV="1">
              <a:off x="9680400" y="8957880"/>
              <a:ext cx="1800" cy="972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Line 533"/>
            <p:cNvSpPr/>
            <p:nvPr/>
          </p:nvSpPr>
          <p:spPr>
            <a:xfrm>
              <a:off x="9842400" y="8967960"/>
              <a:ext cx="180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534"/>
            <p:cNvSpPr/>
            <p:nvPr/>
          </p:nvSpPr>
          <p:spPr>
            <a:xfrm>
              <a:off x="9853560" y="8920080"/>
              <a:ext cx="9720" cy="97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535"/>
            <p:cNvSpPr/>
            <p:nvPr/>
          </p:nvSpPr>
          <p:spPr>
            <a:xfrm>
              <a:off x="9853560" y="8920080"/>
              <a:ext cx="9720" cy="97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536"/>
            <p:cNvSpPr/>
            <p:nvPr/>
          </p:nvSpPr>
          <p:spPr>
            <a:xfrm>
              <a:off x="9690120" y="8910720"/>
              <a:ext cx="61920" cy="19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537"/>
            <p:cNvSpPr/>
            <p:nvPr/>
          </p:nvSpPr>
          <p:spPr>
            <a:xfrm>
              <a:off x="9812160" y="8854920"/>
              <a:ext cx="51120" cy="47880"/>
            </a:xfrm>
            <a:prstGeom prst="pie">
              <a:avLst/>
            </a:prstGeom>
            <a:solidFill>
              <a:srgbClr val="647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538"/>
            <p:cNvSpPr/>
            <p:nvPr/>
          </p:nvSpPr>
          <p:spPr>
            <a:xfrm>
              <a:off x="9812160" y="8854920"/>
              <a:ext cx="51120" cy="47880"/>
            </a:xfrm>
            <a:prstGeom prst="pie">
              <a:avLst/>
            </a:prstGeom>
            <a:noFill/>
            <a:ln w="0">
              <a:solidFill>
                <a:srgbClr val="6476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539"/>
            <p:cNvSpPr/>
            <p:nvPr/>
          </p:nvSpPr>
          <p:spPr>
            <a:xfrm>
              <a:off x="10134720" y="8577360"/>
              <a:ext cx="254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подвижные экипажи УВД, ГИБД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Line 540"/>
            <p:cNvSpPr/>
            <p:nvPr/>
          </p:nvSpPr>
          <p:spPr>
            <a:xfrm>
              <a:off x="9952200" y="8651880"/>
              <a:ext cx="14256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541"/>
            <p:cNvSpPr/>
            <p:nvPr/>
          </p:nvSpPr>
          <p:spPr>
            <a:xfrm>
              <a:off x="10134360" y="8791560"/>
              <a:ext cx="267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сигнальные громкоговоритель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542"/>
            <p:cNvSpPr/>
            <p:nvPr/>
          </p:nvSpPr>
          <p:spPr>
            <a:xfrm>
              <a:off x="10145160" y="8955000"/>
              <a:ext cx="1136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24211d"/>
                  </a:solidFill>
                  <a:latin typeface="Arial"/>
                </a:rPr>
                <a:t>установки ГП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543"/>
            <p:cNvSpPr/>
            <p:nvPr/>
          </p:nvSpPr>
          <p:spPr>
            <a:xfrm>
              <a:off x="9952200" y="8948880"/>
              <a:ext cx="142560" cy="144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Rectangle 2"/>
          <p:cNvSpPr/>
          <p:nvPr/>
        </p:nvSpPr>
        <p:spPr>
          <a:xfrm>
            <a:off x="0" y="-76320"/>
            <a:ext cx="12801600" cy="183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440" rIns="12744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по  наличию и оснащению пункта упра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23720" y="47160"/>
            <a:ext cx="11522160" cy="1887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Данные по  наличию и оснащению пункта управлен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Rectangle 4"/>
          <p:cNvSpPr/>
          <p:nvPr/>
        </p:nvSpPr>
        <p:spPr>
          <a:xfrm>
            <a:off x="279360" y="2646360"/>
            <a:ext cx="12168360" cy="18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5"/>
          <p:cNvSpPr/>
          <p:nvPr/>
        </p:nvSpPr>
        <p:spPr>
          <a:xfrm>
            <a:off x="401760" y="2757600"/>
            <a:ext cx="171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Наимен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П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Rectangle 6"/>
          <p:cNvSpPr/>
          <p:nvPr/>
        </p:nvSpPr>
        <p:spPr>
          <a:xfrm>
            <a:off x="2351160" y="2757600"/>
            <a:ext cx="208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Тип сред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радиосвяз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7"/>
          <p:cNvSpPr/>
          <p:nvPr/>
        </p:nvSpPr>
        <p:spPr>
          <a:xfrm>
            <a:off x="4769640" y="274320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К-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8"/>
          <p:cNvSpPr/>
          <p:nvPr/>
        </p:nvSpPr>
        <p:spPr>
          <a:xfrm>
            <a:off x="6050160" y="2635200"/>
            <a:ext cx="91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Тип средст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9"/>
          <p:cNvSpPr/>
          <p:nvPr/>
        </p:nvSpPr>
        <p:spPr>
          <a:xfrm>
            <a:off x="5487840" y="2789280"/>
            <a:ext cx="192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проводной связи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10"/>
          <p:cNvSpPr/>
          <p:nvPr/>
        </p:nvSpPr>
        <p:spPr>
          <a:xfrm>
            <a:off x="6018840" y="2944800"/>
            <a:ext cx="89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аппарат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11"/>
          <p:cNvSpPr/>
          <p:nvPr/>
        </p:nvSpPr>
        <p:spPr>
          <a:xfrm>
            <a:off x="8074080" y="27622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К-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Rectangle 12"/>
          <p:cNvSpPr/>
          <p:nvPr/>
        </p:nvSpPr>
        <p:spPr>
          <a:xfrm>
            <a:off x="8828280" y="2635200"/>
            <a:ext cx="91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Тип средст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13"/>
          <p:cNvSpPr/>
          <p:nvPr/>
        </p:nvSpPr>
        <p:spPr>
          <a:xfrm>
            <a:off x="8808840" y="278928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аппаратур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14"/>
          <p:cNvSpPr/>
          <p:nvPr/>
        </p:nvSpPr>
        <p:spPr>
          <a:xfrm>
            <a:off x="8808120" y="293220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оповещ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Rectangle 15"/>
          <p:cNvSpPr/>
          <p:nvPr/>
        </p:nvSpPr>
        <p:spPr>
          <a:xfrm>
            <a:off x="10481400" y="269892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К-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Rectangle 16"/>
          <p:cNvSpPr/>
          <p:nvPr/>
        </p:nvSpPr>
        <p:spPr>
          <a:xfrm>
            <a:off x="11251800" y="2695680"/>
            <a:ext cx="94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100" spc="-1" strike="noStrike">
                <a:solidFill>
                  <a:srgbClr val="24282b"/>
                </a:solidFill>
                <a:latin typeface="Verdana"/>
              </a:rPr>
              <a:t>Примеч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17"/>
          <p:cNvSpPr/>
          <p:nvPr/>
        </p:nvSpPr>
        <p:spPr>
          <a:xfrm flipH="1">
            <a:off x="10988280" y="2646360"/>
            <a:ext cx="1908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8"/>
          <p:cNvSpPr/>
          <p:nvPr/>
        </p:nvSpPr>
        <p:spPr>
          <a:xfrm>
            <a:off x="279360" y="3151080"/>
            <a:ext cx="12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9"/>
          <p:cNvSpPr/>
          <p:nvPr/>
        </p:nvSpPr>
        <p:spPr>
          <a:xfrm>
            <a:off x="4529160" y="2646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20"/>
          <p:cNvSpPr/>
          <p:nvPr/>
        </p:nvSpPr>
        <p:spPr>
          <a:xfrm flipH="1">
            <a:off x="2649600" y="2646360"/>
            <a:ext cx="17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21"/>
          <p:cNvSpPr/>
          <p:nvPr/>
        </p:nvSpPr>
        <p:spPr>
          <a:xfrm>
            <a:off x="7888320" y="2646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22"/>
          <p:cNvSpPr/>
          <p:nvPr/>
        </p:nvSpPr>
        <p:spPr>
          <a:xfrm>
            <a:off x="8577360" y="2646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Line 23"/>
          <p:cNvSpPr/>
          <p:nvPr/>
        </p:nvSpPr>
        <p:spPr>
          <a:xfrm>
            <a:off x="5246640" y="2646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24"/>
          <p:cNvSpPr/>
          <p:nvPr/>
        </p:nvSpPr>
        <p:spPr>
          <a:xfrm>
            <a:off x="10134720" y="2639880"/>
            <a:ext cx="0" cy="18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5"/>
          <p:cNvSpPr/>
          <p:nvPr/>
        </p:nvSpPr>
        <p:spPr>
          <a:xfrm>
            <a:off x="4832280" y="3262320"/>
            <a:ext cx="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Rectangle 26"/>
          <p:cNvSpPr/>
          <p:nvPr/>
        </p:nvSpPr>
        <p:spPr>
          <a:xfrm>
            <a:off x="941760" y="3476520"/>
            <a:ext cx="106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27"/>
          <p:cNvSpPr/>
          <p:nvPr/>
        </p:nvSpPr>
        <p:spPr>
          <a:xfrm>
            <a:off x="347904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28"/>
          <p:cNvSpPr/>
          <p:nvPr/>
        </p:nvSpPr>
        <p:spPr>
          <a:xfrm>
            <a:off x="641772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29"/>
          <p:cNvSpPr/>
          <p:nvPr/>
        </p:nvSpPr>
        <p:spPr>
          <a:xfrm>
            <a:off x="824652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Rectangle 30"/>
          <p:cNvSpPr/>
          <p:nvPr/>
        </p:nvSpPr>
        <p:spPr>
          <a:xfrm>
            <a:off x="931320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31"/>
          <p:cNvSpPr/>
          <p:nvPr/>
        </p:nvSpPr>
        <p:spPr>
          <a:xfrm>
            <a:off x="1053252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tangle 32"/>
          <p:cNvSpPr/>
          <p:nvPr/>
        </p:nvSpPr>
        <p:spPr>
          <a:xfrm>
            <a:off x="1167624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3"/>
          <p:cNvSpPr/>
          <p:nvPr/>
        </p:nvSpPr>
        <p:spPr>
          <a:xfrm>
            <a:off x="4894200" y="3505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2428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-7920" y="-95400"/>
            <a:ext cx="12888720" cy="88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920" rIns="151920" tIns="75960" bIns="759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122560"/>
                <a:tab algn="l" pos="4245120"/>
                <a:tab algn="l" pos="6367320"/>
                <a:tab algn="l" pos="8489880"/>
                <a:tab algn="l" pos="10612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ковского сельсове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0" y="768240"/>
            <a:ext cx="128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920" rIns="151920" tIns="75960" bIns="75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22560"/>
                <a:tab algn="l" pos="4245120"/>
                <a:tab algn="l" pos="6367320"/>
                <a:tab algn="l" pos="8489880"/>
                <a:tab algn="l" pos="10612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04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200240"/>
            <a:ext cx="12801600" cy="8400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63"/>
          <p:cNvSpPr/>
          <p:nvPr/>
        </p:nvSpPr>
        <p:spPr>
          <a:xfrm>
            <a:off x="11080800" y="3505320"/>
            <a:ext cx="1720800" cy="97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Глава администрации сельского по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Гундарев Александр Сергееви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Телефон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8-383-4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-33-118 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94"/>
          <p:cNvSpPr/>
          <p:nvPr/>
        </p:nvSpPr>
        <p:spPr>
          <a:xfrm>
            <a:off x="6832440" y="7680240"/>
            <a:ext cx="1079640" cy="34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урк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600440" y="7896240"/>
            <a:ext cx="648000" cy="2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96"/>
          <p:cNvSpPr/>
          <p:nvPr/>
        </p:nvSpPr>
        <p:spPr>
          <a:xfrm flipV="1">
            <a:off x="2728800" y="7536960"/>
            <a:ext cx="3959280" cy="206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63"/>
          <p:cNvSpPr/>
          <p:nvPr/>
        </p:nvSpPr>
        <p:spPr>
          <a:xfrm>
            <a:off x="11037960" y="4584600"/>
            <a:ext cx="1763640" cy="82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Председатель КЧС и П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Перточенко Татьяна Аркадь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Телефон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8-383-40-33-118 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61"/>
          <p:cNvSpPr/>
          <p:nvPr/>
        </p:nvSpPr>
        <p:spPr>
          <a:xfrm>
            <a:off x="1287360" y="8832960"/>
            <a:ext cx="863640" cy="310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гу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62"/>
          <p:cNvGrpSpPr/>
          <p:nvPr/>
        </p:nvGrpSpPr>
        <p:grpSpPr>
          <a:xfrm>
            <a:off x="6832080" y="6529320"/>
            <a:ext cx="844560" cy="811080"/>
            <a:chOff x="6832080" y="6529320"/>
            <a:chExt cx="844560" cy="811080"/>
          </a:xfrm>
        </p:grpSpPr>
        <p:grpSp>
          <p:nvGrpSpPr>
            <p:cNvPr id="66" name="Group 170"/>
            <p:cNvGrpSpPr/>
            <p:nvPr/>
          </p:nvGrpSpPr>
          <p:grpSpPr>
            <a:xfrm>
              <a:off x="6841440" y="6880320"/>
              <a:ext cx="660960" cy="239040"/>
              <a:chOff x="6841440" y="6880320"/>
              <a:chExt cx="660960" cy="239040"/>
            </a:xfrm>
          </p:grpSpPr>
          <p:sp>
            <p:nvSpPr>
              <p:cNvPr id="67" name="Freeform 171"/>
              <p:cNvSpPr/>
              <p:nvPr/>
            </p:nvSpPr>
            <p:spPr>
              <a:xfrm>
                <a:off x="6841440" y="6940080"/>
                <a:ext cx="660960" cy="119520"/>
              </a:xfrm>
              <a:prstGeom prst="pie">
                <a:avLst/>
              </a:prstGeom>
              <a:solidFill>
                <a:srgbClr val="ff99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440" rIns="127440" tIns="56160" bIns="5616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72"/>
              <p:cNvSpPr/>
              <p:nvPr/>
            </p:nvSpPr>
            <p:spPr>
              <a:xfrm>
                <a:off x="6841440" y="6880320"/>
                <a:ext cx="60084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440" rIns="127440" tIns="63720" bIns="6372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К   Ч  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73"/>
              <p:cNvSpPr/>
              <p:nvPr/>
            </p:nvSpPr>
            <p:spPr>
              <a:xfrm>
                <a:off x="7398000" y="6940080"/>
                <a:ext cx="44280" cy="11952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7440" rIns="127440" tIns="56160" bIns="5616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175"/>
            <p:cNvSpPr/>
            <p:nvPr/>
          </p:nvSpPr>
          <p:spPr>
            <a:xfrm>
              <a:off x="6832440" y="6529320"/>
              <a:ext cx="0" cy="811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176"/>
            <p:cNvGrpSpPr/>
            <p:nvPr/>
          </p:nvGrpSpPr>
          <p:grpSpPr>
            <a:xfrm>
              <a:off x="6832080" y="6747840"/>
              <a:ext cx="844560" cy="186120"/>
              <a:chOff x="6832080" y="6747840"/>
              <a:chExt cx="844560" cy="186120"/>
            </a:xfrm>
          </p:grpSpPr>
          <p:grpSp>
            <p:nvGrpSpPr>
              <p:cNvPr id="72" name="Group 177"/>
              <p:cNvGrpSpPr/>
              <p:nvPr/>
            </p:nvGrpSpPr>
            <p:grpSpPr>
              <a:xfrm>
                <a:off x="6832080" y="6747840"/>
                <a:ext cx="844560" cy="106560"/>
                <a:chOff x="6832080" y="6747840"/>
                <a:chExt cx="844560" cy="106560"/>
              </a:xfrm>
            </p:grpSpPr>
            <p:grpSp>
              <p:nvGrpSpPr>
                <p:cNvPr id="73" name="Group 178"/>
                <p:cNvGrpSpPr/>
                <p:nvPr/>
              </p:nvGrpSpPr>
              <p:grpSpPr>
                <a:xfrm>
                  <a:off x="7435440" y="6798600"/>
                  <a:ext cx="241200" cy="55800"/>
                  <a:chOff x="7435440" y="6798600"/>
                  <a:chExt cx="241200" cy="55800"/>
                </a:xfrm>
              </p:grpSpPr>
              <p:sp>
                <p:nvSpPr>
                  <p:cNvPr id="74" name="AutoShape 179"/>
                  <p:cNvSpPr/>
                  <p:nvPr/>
                </p:nvSpPr>
                <p:spPr>
                  <a:xfrm rot="10795800">
                    <a:off x="7435080" y="6798600"/>
                    <a:ext cx="241200" cy="5328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33480" bIns="-3348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Oval 180"/>
                  <p:cNvSpPr/>
                  <p:nvPr/>
                </p:nvSpPr>
                <p:spPr>
                  <a:xfrm>
                    <a:off x="7435440" y="6838560"/>
                    <a:ext cx="241200" cy="15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52200" bIns="-5220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181"/>
                <p:cNvGrpSpPr/>
                <p:nvPr/>
              </p:nvGrpSpPr>
              <p:grpSpPr>
                <a:xfrm>
                  <a:off x="7274160" y="6776280"/>
                  <a:ext cx="321840" cy="68400"/>
                  <a:chOff x="7274160" y="6776280"/>
                  <a:chExt cx="321840" cy="68400"/>
                </a:xfrm>
              </p:grpSpPr>
              <p:sp>
                <p:nvSpPr>
                  <p:cNvPr id="77" name="AutoShape 182"/>
                  <p:cNvSpPr/>
                  <p:nvPr/>
                </p:nvSpPr>
                <p:spPr>
                  <a:xfrm rot="10795800">
                    <a:off x="7273800" y="6776280"/>
                    <a:ext cx="321480" cy="6480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27000" bIns="-2700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Oval 183"/>
                  <p:cNvSpPr/>
                  <p:nvPr/>
                </p:nvSpPr>
                <p:spPr>
                  <a:xfrm>
                    <a:off x="7274520" y="6825240"/>
                    <a:ext cx="321480" cy="19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50040" bIns="-5004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184"/>
                <p:cNvGrpSpPr/>
                <p:nvPr/>
              </p:nvGrpSpPr>
              <p:grpSpPr>
                <a:xfrm>
                  <a:off x="6832080" y="6747840"/>
                  <a:ext cx="643680" cy="87480"/>
                  <a:chOff x="6832080" y="6747840"/>
                  <a:chExt cx="643680" cy="87480"/>
                </a:xfrm>
              </p:grpSpPr>
              <p:sp>
                <p:nvSpPr>
                  <p:cNvPr id="80" name="AutoShape 185"/>
                  <p:cNvSpPr/>
                  <p:nvPr/>
                </p:nvSpPr>
                <p:spPr>
                  <a:xfrm rot="10795800">
                    <a:off x="6831720" y="6748200"/>
                    <a:ext cx="643320" cy="8244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16920" bIns="-1692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186"/>
                  <p:cNvSpPr/>
                  <p:nvPr/>
                </p:nvSpPr>
                <p:spPr>
                  <a:xfrm>
                    <a:off x="6832440" y="6810480"/>
                    <a:ext cx="643320" cy="2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440" rIns="12744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187"/>
              <p:cNvGrpSpPr/>
              <p:nvPr/>
            </p:nvGrpSpPr>
            <p:grpSpPr>
              <a:xfrm>
                <a:off x="6832080" y="6787440"/>
                <a:ext cx="844560" cy="106560"/>
                <a:chOff x="6832080" y="6787440"/>
                <a:chExt cx="844560" cy="106560"/>
              </a:xfrm>
            </p:grpSpPr>
            <p:sp>
              <p:nvSpPr>
                <p:cNvPr id="83" name="AutoShape 188"/>
                <p:cNvSpPr/>
                <p:nvPr/>
              </p:nvSpPr>
              <p:spPr>
                <a:xfrm rot="10795800">
                  <a:off x="7435080" y="6837840"/>
                  <a:ext cx="241200" cy="52920"/>
                </a:xfrm>
                <a:prstGeom prst="can">
                  <a:avLst>
                    <a:gd name="adj" fmla="val 28907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33480" bIns="-3348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Oval 189"/>
                <p:cNvSpPr/>
                <p:nvPr/>
              </p:nvSpPr>
              <p:spPr>
                <a:xfrm>
                  <a:off x="7435440" y="6878160"/>
                  <a:ext cx="241200" cy="1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52200" bIns="-5220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190"/>
                <p:cNvSpPr/>
                <p:nvPr/>
              </p:nvSpPr>
              <p:spPr>
                <a:xfrm rot="10795800">
                  <a:off x="7273800" y="6815520"/>
                  <a:ext cx="321480" cy="64440"/>
                </a:xfrm>
                <a:prstGeom prst="can">
                  <a:avLst>
                    <a:gd name="adj" fmla="val 28907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27360" bIns="-2736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191"/>
                <p:cNvSpPr/>
                <p:nvPr/>
              </p:nvSpPr>
              <p:spPr>
                <a:xfrm>
                  <a:off x="7274520" y="6865200"/>
                  <a:ext cx="32148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49680" bIns="-496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192"/>
                <p:cNvSpPr/>
                <p:nvPr/>
              </p:nvSpPr>
              <p:spPr>
                <a:xfrm rot="10795800">
                  <a:off x="6831720" y="6787800"/>
                  <a:ext cx="643320" cy="82440"/>
                </a:xfrm>
                <a:prstGeom prst="can">
                  <a:avLst>
                    <a:gd name="adj" fmla="val 28907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16920" bIns="-1692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Oval 193"/>
                <p:cNvSpPr/>
                <p:nvPr/>
              </p:nvSpPr>
              <p:spPr>
                <a:xfrm>
                  <a:off x="6832440" y="6850080"/>
                  <a:ext cx="643320" cy="2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46440" bIns="-4644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94"/>
              <p:cNvGrpSpPr/>
              <p:nvPr/>
            </p:nvGrpSpPr>
            <p:grpSpPr>
              <a:xfrm>
                <a:off x="6832080" y="6827400"/>
                <a:ext cx="844560" cy="106560"/>
                <a:chOff x="6832080" y="6827400"/>
                <a:chExt cx="844560" cy="106560"/>
              </a:xfrm>
            </p:grpSpPr>
            <p:sp>
              <p:nvSpPr>
                <p:cNvPr id="90" name="AutoShape 195"/>
                <p:cNvSpPr/>
                <p:nvPr/>
              </p:nvSpPr>
              <p:spPr>
                <a:xfrm rot="10795800">
                  <a:off x="7435080" y="6877800"/>
                  <a:ext cx="241200" cy="52920"/>
                </a:xfrm>
                <a:prstGeom prst="can">
                  <a:avLst>
                    <a:gd name="adj" fmla="val 2890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33480" bIns="-3348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Oval 196"/>
                <p:cNvSpPr/>
                <p:nvPr/>
              </p:nvSpPr>
              <p:spPr>
                <a:xfrm>
                  <a:off x="7435440" y="6918120"/>
                  <a:ext cx="241200" cy="1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52200" bIns="-5220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AutoShape 197"/>
                <p:cNvSpPr/>
                <p:nvPr/>
              </p:nvSpPr>
              <p:spPr>
                <a:xfrm rot="10795800">
                  <a:off x="7273800" y="6855480"/>
                  <a:ext cx="321480" cy="64440"/>
                </a:xfrm>
                <a:prstGeom prst="can">
                  <a:avLst>
                    <a:gd name="adj" fmla="val 2890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27360" bIns="-2736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Oval 198"/>
                <p:cNvSpPr/>
                <p:nvPr/>
              </p:nvSpPr>
              <p:spPr>
                <a:xfrm>
                  <a:off x="7274520" y="6905160"/>
                  <a:ext cx="32148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49680" bIns="-4968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199"/>
                <p:cNvSpPr/>
                <p:nvPr/>
              </p:nvSpPr>
              <p:spPr>
                <a:xfrm rot="10795800">
                  <a:off x="6831720" y="6827760"/>
                  <a:ext cx="643320" cy="82440"/>
                </a:xfrm>
                <a:prstGeom prst="can">
                  <a:avLst>
                    <a:gd name="adj" fmla="val 2890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16920" bIns="-16920" anchor="t" rot="10800000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200"/>
                <p:cNvSpPr/>
                <p:nvPr/>
              </p:nvSpPr>
              <p:spPr>
                <a:xfrm>
                  <a:off x="6832440" y="6890040"/>
                  <a:ext cx="643320" cy="2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440" rIns="127440" tIns="-46440" bIns="-4644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Group 1593"/>
          <p:cNvGrpSpPr/>
          <p:nvPr/>
        </p:nvGrpSpPr>
        <p:grpSpPr>
          <a:xfrm>
            <a:off x="2440080" y="8185320"/>
            <a:ext cx="851760" cy="1235880"/>
            <a:chOff x="2440080" y="8185320"/>
            <a:chExt cx="851760" cy="1235880"/>
          </a:xfrm>
        </p:grpSpPr>
        <p:grpSp>
          <p:nvGrpSpPr>
            <p:cNvPr id="97" name="Group 1594"/>
            <p:cNvGrpSpPr/>
            <p:nvPr/>
          </p:nvGrpSpPr>
          <p:grpSpPr>
            <a:xfrm>
              <a:off x="2450880" y="8185320"/>
              <a:ext cx="840960" cy="804600"/>
              <a:chOff x="2450880" y="8185320"/>
              <a:chExt cx="840960" cy="804600"/>
            </a:xfrm>
          </p:grpSpPr>
          <p:grpSp>
            <p:nvGrpSpPr>
              <p:cNvPr id="98" name="Group 170"/>
              <p:cNvGrpSpPr/>
              <p:nvPr/>
            </p:nvGrpSpPr>
            <p:grpSpPr>
              <a:xfrm>
                <a:off x="2460240" y="8533440"/>
                <a:ext cx="658080" cy="237240"/>
                <a:chOff x="2460240" y="8533440"/>
                <a:chExt cx="658080" cy="237240"/>
              </a:xfrm>
            </p:grpSpPr>
            <p:sp>
              <p:nvSpPr>
                <p:cNvPr id="99" name="Freeform 171"/>
                <p:cNvSpPr/>
                <p:nvPr/>
              </p:nvSpPr>
              <p:spPr>
                <a:xfrm>
                  <a:off x="2460240" y="8592480"/>
                  <a:ext cx="658080" cy="118800"/>
                </a:xfrm>
                <a:prstGeom prst="pie">
                  <a:avLst/>
                </a:prstGeom>
                <a:solidFill>
                  <a:srgbClr val="ff990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55440" bIns="5544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172"/>
                <p:cNvSpPr/>
                <p:nvPr/>
              </p:nvSpPr>
              <p:spPr>
                <a:xfrm>
                  <a:off x="2460240" y="8533440"/>
                  <a:ext cx="5983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63720" bIns="6372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ru-RU" sz="600" spc="-1" strike="noStrike">
                      <a:solidFill>
                        <a:srgbClr val="000000"/>
                      </a:solidFill>
                      <a:latin typeface="Arial"/>
                    </a:rPr>
                    <a:t>К   Ч  С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73"/>
                <p:cNvSpPr/>
                <p:nvPr/>
              </p:nvSpPr>
              <p:spPr>
                <a:xfrm>
                  <a:off x="3014280" y="8592480"/>
                  <a:ext cx="43920" cy="118800"/>
                </a:xfrm>
                <a:prstGeom prst="pie">
                  <a:avLst/>
                </a:pr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7800" rIns="127800" tIns="55440" bIns="55440" anchor="t">
                  <a:noAutofit/>
                </a:bodyPr>
                <a:p>
                  <a:pPr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Line 175"/>
              <p:cNvSpPr/>
              <p:nvPr/>
            </p:nvSpPr>
            <p:spPr>
              <a:xfrm>
                <a:off x="2451240" y="8185320"/>
                <a:ext cx="0" cy="804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Group 176"/>
              <p:cNvGrpSpPr/>
              <p:nvPr/>
            </p:nvGrpSpPr>
            <p:grpSpPr>
              <a:xfrm>
                <a:off x="2450880" y="8402040"/>
                <a:ext cx="840960" cy="184320"/>
                <a:chOff x="2450880" y="8402040"/>
                <a:chExt cx="840960" cy="184320"/>
              </a:xfrm>
            </p:grpSpPr>
            <p:grpSp>
              <p:nvGrpSpPr>
                <p:cNvPr id="104" name="Group 177"/>
                <p:cNvGrpSpPr/>
                <p:nvPr/>
              </p:nvGrpSpPr>
              <p:grpSpPr>
                <a:xfrm>
                  <a:off x="2450880" y="8402040"/>
                  <a:ext cx="840960" cy="105840"/>
                  <a:chOff x="2450880" y="8402040"/>
                  <a:chExt cx="840960" cy="105840"/>
                </a:xfrm>
              </p:grpSpPr>
              <p:grpSp>
                <p:nvGrpSpPr>
                  <p:cNvPr id="105" name="Group 178"/>
                  <p:cNvGrpSpPr/>
                  <p:nvPr/>
                </p:nvGrpSpPr>
                <p:grpSpPr>
                  <a:xfrm>
                    <a:off x="3051360" y="8452080"/>
                    <a:ext cx="240480" cy="55800"/>
                    <a:chOff x="3051360" y="8452080"/>
                    <a:chExt cx="240480" cy="55800"/>
                  </a:xfrm>
                </p:grpSpPr>
                <p:sp>
                  <p:nvSpPr>
                    <p:cNvPr id="106" name="AutoShape 179"/>
                    <p:cNvSpPr/>
                    <p:nvPr/>
                  </p:nvSpPr>
                  <p:spPr>
                    <a:xfrm rot="10795800">
                      <a:off x="3051000" y="8452080"/>
                      <a:ext cx="240120" cy="529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33480" bIns="-3348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180"/>
                    <p:cNvSpPr/>
                    <p:nvPr/>
                  </p:nvSpPr>
                  <p:spPr>
                    <a:xfrm>
                      <a:off x="3051720" y="8492040"/>
                      <a:ext cx="240120" cy="15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52200" bIns="-5220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181"/>
                  <p:cNvGrpSpPr/>
                  <p:nvPr/>
                </p:nvGrpSpPr>
                <p:grpSpPr>
                  <a:xfrm>
                    <a:off x="2891160" y="8430120"/>
                    <a:ext cx="320400" cy="68040"/>
                    <a:chOff x="2891160" y="8430120"/>
                    <a:chExt cx="320400" cy="68040"/>
                  </a:xfrm>
                </p:grpSpPr>
                <p:sp>
                  <p:nvSpPr>
                    <p:cNvPr id="109" name="AutoShape 182"/>
                    <p:cNvSpPr/>
                    <p:nvPr/>
                  </p:nvSpPr>
                  <p:spPr>
                    <a:xfrm rot="10795800">
                      <a:off x="2890800" y="8430120"/>
                      <a:ext cx="320040" cy="6444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27360" bIns="-2736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Oval 183"/>
                    <p:cNvSpPr/>
                    <p:nvPr/>
                  </p:nvSpPr>
                  <p:spPr>
                    <a:xfrm>
                      <a:off x="2891520" y="8479080"/>
                      <a:ext cx="320040" cy="1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49680" bIns="-496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184"/>
                  <p:cNvGrpSpPr/>
                  <p:nvPr/>
                </p:nvGrpSpPr>
                <p:grpSpPr>
                  <a:xfrm>
                    <a:off x="2450880" y="8402040"/>
                    <a:ext cx="640800" cy="86760"/>
                    <a:chOff x="2450880" y="8402040"/>
                    <a:chExt cx="640800" cy="86760"/>
                  </a:xfrm>
                </p:grpSpPr>
                <p:sp>
                  <p:nvSpPr>
                    <p:cNvPr id="112" name="AutoShape 185"/>
                    <p:cNvSpPr/>
                    <p:nvPr/>
                  </p:nvSpPr>
                  <p:spPr>
                    <a:xfrm rot="10795800">
                      <a:off x="2450520" y="8402400"/>
                      <a:ext cx="640440" cy="81720"/>
                    </a:xfrm>
                    <a:prstGeom prst="can">
                      <a:avLst>
                        <a:gd name="adj" fmla="val 2890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16920" bIns="-1692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186"/>
                    <p:cNvSpPr/>
                    <p:nvPr/>
                  </p:nvSpPr>
                  <p:spPr>
                    <a:xfrm>
                      <a:off x="2451240" y="8464320"/>
                      <a:ext cx="640440" cy="24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27800" rIns="1278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" name="Group 187"/>
                <p:cNvGrpSpPr/>
                <p:nvPr/>
              </p:nvGrpSpPr>
              <p:grpSpPr>
                <a:xfrm>
                  <a:off x="2450880" y="8441280"/>
                  <a:ext cx="840960" cy="105480"/>
                  <a:chOff x="2450880" y="8441280"/>
                  <a:chExt cx="840960" cy="105480"/>
                </a:xfrm>
              </p:grpSpPr>
              <p:sp>
                <p:nvSpPr>
                  <p:cNvPr id="115" name="AutoShape 188"/>
                  <p:cNvSpPr/>
                  <p:nvPr/>
                </p:nvSpPr>
                <p:spPr>
                  <a:xfrm rot="10795800">
                    <a:off x="3051000" y="8491680"/>
                    <a:ext cx="240120" cy="5256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33840" bIns="-3384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189"/>
                  <p:cNvSpPr/>
                  <p:nvPr/>
                </p:nvSpPr>
                <p:spPr>
                  <a:xfrm>
                    <a:off x="3051720" y="8531280"/>
                    <a:ext cx="240120" cy="1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52560" bIns="-5256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190"/>
                  <p:cNvSpPr/>
                  <p:nvPr/>
                </p:nvSpPr>
                <p:spPr>
                  <a:xfrm rot="10795800">
                    <a:off x="2890800" y="8469720"/>
                    <a:ext cx="320040" cy="6408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27000" bIns="-2700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191"/>
                  <p:cNvSpPr/>
                  <p:nvPr/>
                </p:nvSpPr>
                <p:spPr>
                  <a:xfrm>
                    <a:off x="2891520" y="8518320"/>
                    <a:ext cx="320040" cy="1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49680" bIns="-4968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AutoShape 192"/>
                  <p:cNvSpPr/>
                  <p:nvPr/>
                </p:nvSpPr>
                <p:spPr>
                  <a:xfrm rot="10795800">
                    <a:off x="2450520" y="8441640"/>
                    <a:ext cx="640440" cy="8172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16920" bIns="-1692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Oval 193"/>
                  <p:cNvSpPr/>
                  <p:nvPr/>
                </p:nvSpPr>
                <p:spPr>
                  <a:xfrm>
                    <a:off x="2451240" y="8503560"/>
                    <a:ext cx="640440" cy="24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194"/>
                <p:cNvGrpSpPr/>
                <p:nvPr/>
              </p:nvGrpSpPr>
              <p:grpSpPr>
                <a:xfrm>
                  <a:off x="2450880" y="8480880"/>
                  <a:ext cx="840960" cy="105480"/>
                  <a:chOff x="2450880" y="8480880"/>
                  <a:chExt cx="840960" cy="105480"/>
                </a:xfrm>
              </p:grpSpPr>
              <p:sp>
                <p:nvSpPr>
                  <p:cNvPr id="122" name="AutoShape 195"/>
                  <p:cNvSpPr/>
                  <p:nvPr/>
                </p:nvSpPr>
                <p:spPr>
                  <a:xfrm rot="10795800">
                    <a:off x="3051000" y="8531280"/>
                    <a:ext cx="240120" cy="5256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33840" bIns="-3384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Oval 196"/>
                  <p:cNvSpPr/>
                  <p:nvPr/>
                </p:nvSpPr>
                <p:spPr>
                  <a:xfrm>
                    <a:off x="3051720" y="8570880"/>
                    <a:ext cx="240120" cy="1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52560" bIns="-5256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utoShape 197"/>
                  <p:cNvSpPr/>
                  <p:nvPr/>
                </p:nvSpPr>
                <p:spPr>
                  <a:xfrm rot="10795800">
                    <a:off x="2890800" y="8509320"/>
                    <a:ext cx="320040" cy="6408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27000" bIns="-2700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98"/>
                  <p:cNvSpPr/>
                  <p:nvPr/>
                </p:nvSpPr>
                <p:spPr>
                  <a:xfrm>
                    <a:off x="2891520" y="8557920"/>
                    <a:ext cx="320040" cy="1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49680" bIns="-4968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199"/>
                  <p:cNvSpPr/>
                  <p:nvPr/>
                </p:nvSpPr>
                <p:spPr>
                  <a:xfrm rot="10795800">
                    <a:off x="2450520" y="8481240"/>
                    <a:ext cx="640440" cy="81720"/>
                  </a:xfrm>
                  <a:prstGeom prst="can">
                    <a:avLst>
                      <a:gd name="adj" fmla="val 28907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16920" bIns="-16920" anchor="t" rot="10800000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200"/>
                  <p:cNvSpPr/>
                  <p:nvPr/>
                </p:nvSpPr>
                <p:spPr>
                  <a:xfrm>
                    <a:off x="2451240" y="8543160"/>
                    <a:ext cx="640440" cy="24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7800" rIns="1278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1279440"/>
                        <a:tab algn="l" pos="2558880"/>
                        <a:tab algn="l" pos="3838680"/>
                        <a:tab algn="l" pos="5118120"/>
                        <a:tab algn="l" pos="6397560"/>
                        <a:tab algn="l" pos="7677000"/>
                        <a:tab algn="l" pos="8956800"/>
                        <a:tab algn="l" pos="1023624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" name="Group 1625"/>
            <p:cNvGrpSpPr/>
            <p:nvPr/>
          </p:nvGrpSpPr>
          <p:grpSpPr>
            <a:xfrm>
              <a:off x="2440080" y="8703360"/>
              <a:ext cx="575280" cy="717840"/>
              <a:chOff x="2440080" y="8703360"/>
              <a:chExt cx="575280" cy="717840"/>
            </a:xfrm>
          </p:grpSpPr>
          <p:sp>
            <p:nvSpPr>
              <p:cNvPr id="129" name="Rectangle 1626"/>
              <p:cNvSpPr/>
              <p:nvPr/>
            </p:nvSpPr>
            <p:spPr>
              <a:xfrm>
                <a:off x="2579040" y="8807760"/>
                <a:ext cx="291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ПЧ-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27"/>
              <p:cNvSpPr/>
              <p:nvPr/>
            </p:nvSpPr>
            <p:spPr>
              <a:xfrm>
                <a:off x="2440080" y="8759880"/>
                <a:ext cx="36360" cy="66132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28"/>
              <p:cNvSpPr/>
              <p:nvPr/>
            </p:nvSpPr>
            <p:spPr>
              <a:xfrm>
                <a:off x="2455920" y="8706240"/>
                <a:ext cx="559440" cy="9972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29"/>
              <p:cNvSpPr/>
              <p:nvPr/>
            </p:nvSpPr>
            <p:spPr>
              <a:xfrm>
                <a:off x="2978640" y="8787960"/>
                <a:ext cx="36720" cy="15804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30"/>
              <p:cNvSpPr/>
              <p:nvPr/>
            </p:nvSpPr>
            <p:spPr>
              <a:xfrm>
                <a:off x="2441520" y="8911080"/>
                <a:ext cx="557640" cy="11196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31"/>
              <p:cNvSpPr/>
              <p:nvPr/>
            </p:nvSpPr>
            <p:spPr>
              <a:xfrm>
                <a:off x="2441520" y="8703360"/>
                <a:ext cx="34920" cy="299520"/>
              </a:xfrm>
              <a:prstGeom prst="pie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5" name=""/>
          <p:cNvGraphicFramePr/>
          <p:nvPr/>
        </p:nvGraphicFramePr>
        <p:xfrm>
          <a:off x="0" y="2855880"/>
          <a:ext cx="6905520" cy="1852560"/>
        </p:xfrm>
        <a:graphic>
          <a:graphicData uri="http://schemas.openxmlformats.org/drawingml/2006/table">
            <a:tbl>
              <a:tblPr/>
              <a:tblGrid>
                <a:gridCol w="1139760"/>
                <a:gridCol w="1077840"/>
                <a:gridCol w="1236960"/>
                <a:gridCol w="1114200"/>
                <a:gridCol w="1125720"/>
                <a:gridCol w="121104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Ч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ашов С.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2-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брик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2-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ж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366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идн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2-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. «Тогучин» Р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ьк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7-2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жу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Э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ае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жу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7-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187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р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8-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х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оби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8-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18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21-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761160" y="8290080"/>
          <a:ext cx="6040440" cy="1312560"/>
        </p:xfrm>
        <a:graphic>
          <a:graphicData uri="http://schemas.openxmlformats.org/drawingml/2006/table">
            <a:tbl>
              <a:tblPr/>
              <a:tblGrid>
                <a:gridCol w="2055960"/>
                <a:gridCol w="880920"/>
                <a:gridCol w="1681200"/>
                <a:gridCol w="690480"/>
                <a:gridCol w="731880"/>
              </a:tblGrid>
              <a:tr h="737640"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ритория кв.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 тыс.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й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тность нас.на 1 кв.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280800"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к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26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>
                  <a:txBody>
                    <a:bodyPr lIns="127800" rIns="12780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,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</a:tr>
              <a:tr h="295920">
                <a:tc gridSpan="5">
                  <a:txBody>
                    <a:bodyPr lIns="127800" rIns="127800" tIns="64080" bIns="6408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6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0800000">
            <a:off x="639720" y="3830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-7920" y="-50760"/>
            <a:ext cx="12888720" cy="88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920" rIns="151920" tIns="75960" bIns="759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122560"/>
                <a:tab algn="l" pos="4245120"/>
                <a:tab algn="l" pos="6367320"/>
                <a:tab algn="l" pos="8489880"/>
                <a:tab algn="l" pos="10612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ковского сельсове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768240"/>
            <a:ext cx="12880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58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27"/>
          <p:cNvSpPr/>
          <p:nvPr/>
        </p:nvSpPr>
        <p:spPr>
          <a:xfrm>
            <a:off x="7121520" y="7753320"/>
            <a:ext cx="201600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896080" y="3432240"/>
          <a:ext cx="6905520" cy="1965240"/>
        </p:xfrm>
        <a:graphic>
          <a:graphicData uri="http://schemas.openxmlformats.org/drawingml/2006/table">
            <a:tbl>
              <a:tblPr/>
              <a:tblGrid>
                <a:gridCol w="1890720"/>
                <a:gridCol w="2395440"/>
                <a:gridCol w="261936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ЧС и П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ндарев Александр Сергееви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33-118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96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ивный штаб ликвидации Ч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олномоченная по делам ГО Ладошкина С.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(383)-40-33-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231-07-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96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 поселков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 ООО «Сиб-Колос» Невзоров Б.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40-33-139  моб. 8-923-249-91-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838-266-35-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8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 МЧС России по НС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ЧС Гавриленк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218-22-8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383-231-07-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Таблица рисков ЧС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5160" y="1200240"/>
          <a:ext cx="12736440" cy="8354880"/>
        </p:xfrm>
        <a:graphic>
          <a:graphicData uri="http://schemas.openxmlformats.org/drawingml/2006/table">
            <a:tbl>
              <a:tblPr/>
              <a:tblGrid>
                <a:gridCol w="955440"/>
                <a:gridCol w="617760"/>
                <a:gridCol w="657000"/>
                <a:gridCol w="658800"/>
                <a:gridCol w="617760"/>
                <a:gridCol w="596880"/>
                <a:gridCol w="698400"/>
                <a:gridCol w="698400"/>
                <a:gridCol w="597240"/>
                <a:gridCol w="581040"/>
                <a:gridCol w="595080"/>
                <a:gridCol w="619200"/>
                <a:gridCol w="596880"/>
                <a:gridCol w="658800"/>
                <a:gridCol w="577800"/>
                <a:gridCol w="755640"/>
                <a:gridCol w="600120"/>
                <a:gridCol w="655560"/>
                <a:gridCol w="998640"/>
              </a:tblGrid>
              <a:tr h="668160">
                <a:tc row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чники возникновения 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Янва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вра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р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пре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ю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003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(бытовые) пожа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справность печного отопления и электронагревательных прибор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равил пожарной безопас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резервов материальных средств, запасов ГС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бровольных пожарных дружин к реагированию  Проверка жилых домов в населенных пунктах на предмет П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объектов с/х назначения,  садовых и  дачных обществ,         объектов летнего отдыха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984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(лесные) пожа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 трениров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 резервов. Создание добр. пож. друж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 операт. планов. проверка ПБ нас.пунктов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КЧС. Смотр готовности  сил и средств.Готовность авиа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хозпал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ые пожар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264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К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1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арии на тепловых и энергосетях, выход из строя котлов, недостаточный запас  топлива (или отсутствие такового) на котельных и ТЭЦ; задолжности по оплате за электроэнергию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ование организаций, эксплуатирующих ТЭК и ЖКХ, аварийной техникой и нормативным запасом материалов для оперативного выполнения аварийно-восстановительных работ в осенне-зимний пери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716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о-эпид.обс-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З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 насе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>
                        <a:spcBef>
                          <a:spcPts val="1026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рицидные обработки территор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щевой энцефали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огическая обст-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ннее половодь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автотр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8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ложное дорожное покрытие (голлолед, снежный накат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контроль недопущения нарушения ПД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 населения  об обстанове на дорог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СМИ и автономные системы ОКСИОН ведется пропаганда необходимо-сти соблюдения правил дорожного движен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й 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8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катастроф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150"/>
          <p:cNvSpPr/>
          <p:nvPr/>
        </p:nvSpPr>
        <p:spPr>
          <a:xfrm>
            <a:off x="0" y="-23760"/>
            <a:ext cx="12801600" cy="1311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а рисков Ч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Таблица рисков ЧС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-23760"/>
            <a:ext cx="12801600" cy="166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ий сель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гучинского района Новосибирской обла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Таблица рисков Ч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704960"/>
          <a:ext cx="12801600" cy="7896240"/>
        </p:xfrm>
        <a:graphic>
          <a:graphicData uri="http://schemas.openxmlformats.org/drawingml/2006/table">
            <a:tbl>
              <a:tblPr/>
              <a:tblGrid>
                <a:gridCol w="1033560"/>
                <a:gridCol w="644400"/>
                <a:gridCol w="1139760"/>
                <a:gridCol w="711360"/>
                <a:gridCol w="750960"/>
                <a:gridCol w="311040"/>
                <a:gridCol w="377640"/>
                <a:gridCol w="711360"/>
                <a:gridCol w="622440"/>
                <a:gridCol w="711000"/>
                <a:gridCol w="603360"/>
                <a:gridCol w="538200"/>
                <a:gridCol w="558720"/>
                <a:gridCol w="622440"/>
                <a:gridCol w="560160"/>
                <a:gridCol w="560520"/>
                <a:gridCol w="579240"/>
                <a:gridCol w="560520"/>
                <a:gridCol w="581040"/>
                <a:gridCol w="623880"/>
              </a:tblGrid>
              <a:tr h="249120">
                <a:tc rowSpan="2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возникновения 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дека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8420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(бытовые) пожа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гототовности к занятиям общеобразовательных учреждений Проверка объектов ТЭК и ЖКХ при подготовке к             отопительному сезон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1080" rIns="91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объектов животноводства Проверка объектов и мест задействованных в проведении массовых         праздничных            мероприят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равил пожарной безопас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справность печного отопления и электронагревательных прибор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(лесные) пожа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1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ые пожар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хозпал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820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К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ование организаций, эксплуатирующих ТЭК и ЖКХ, аварийной техникой и нормативным запасом материалов для оперативного выполнения аварийно-восстановительных работ в осенне-зимний пери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ие плана завоза ТЭ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состояния ЛЭП,      теплос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готовности сил и средств, привлекаемых для ликуидации аварийных ситуаций на объектах ТЭК и ЖК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актов готовности жилищного фонда, котельных, коммунальных сетей к эксплуатации в новом отопительном сезон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ыполнения                                                     плана завоза ТЭ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8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арии на тепловых и энергосетях, выход из строя котлов, недостаточный запас  топлива (или отсутствие такового) на котельных и ТЭЦ; задолжности по оплате за электроэнергию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о-эпид.обс-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мест общественного питания, органами Роспотребнадзо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И, пищевые отрав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 насе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огическая обст-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автотр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ДД, большая загруженность трас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контроль недопущения нарушения ПД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ыпка и чистка дор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населения в СМИ о состоянии дорожного полот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ложное дорожное покрытие (голлолед, снежный накат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й 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9">
                  <a:txBody>
                    <a:bodyPr lIns="91080" rIns="91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катастроф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920960" y="5440320"/>
            <a:ext cx="8959680" cy="245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3122280"/>
            <a:ext cx="12801600" cy="33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РИСКИ ВОЗНИКНОВЕНИЯ ЧС НА ТРАНСПОРТ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48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Arial"/>
              </a:rPr>
              <a:t>Объекты железнодорожного транспорта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0" y="0"/>
            <a:ext cx="12801600" cy="1051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4560" rIns="2145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учинского района  Новосибирской област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49680"/>
                <a:tab algn="l" pos="729936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объектах автомобильного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149"/>
          <p:cNvGrpSpPr/>
          <p:nvPr/>
        </p:nvGrpSpPr>
        <p:grpSpPr>
          <a:xfrm>
            <a:off x="9705960" y="6672240"/>
            <a:ext cx="3095280" cy="2736720"/>
            <a:chOff x="9705960" y="6672240"/>
            <a:chExt cx="3095280" cy="2736720"/>
          </a:xfrm>
        </p:grpSpPr>
        <p:sp>
          <p:nvSpPr>
            <p:cNvPr id="156" name="Rectangle 46"/>
            <p:cNvSpPr/>
            <p:nvPr/>
          </p:nvSpPr>
          <p:spPr>
            <a:xfrm>
              <a:off x="9705960" y="6672240"/>
              <a:ext cx="3036600" cy="27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1"/>
            <p:cNvSpPr/>
            <p:nvPr/>
          </p:nvSpPr>
          <p:spPr>
            <a:xfrm>
              <a:off x="10208880" y="7905960"/>
              <a:ext cx="1603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560" rIns="178560" tIns="89280" bIns="892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стационарный пост ДП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3"/>
            <p:cNvSpPr/>
            <p:nvPr/>
          </p:nvSpPr>
          <p:spPr>
            <a:xfrm>
              <a:off x="9804240" y="9099000"/>
              <a:ext cx="549360" cy="1080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30600" bIns="30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10353600" y="8650800"/>
              <a:ext cx="213516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автотрассы федерального знач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4"/>
            <p:cNvSpPr/>
            <p:nvPr/>
          </p:nvSpPr>
          <p:spPr>
            <a:xfrm>
              <a:off x="10370880" y="9081000"/>
              <a:ext cx="19274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наиболее опасные участки дорог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10334520" y="7354800"/>
              <a:ext cx="1603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560" rIns="178560" tIns="89280" bIns="892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границы район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60" descr="менты"/>
            <p:cNvPicPr/>
            <p:nvPr/>
          </p:nvPicPr>
          <p:blipFill>
            <a:blip r:embed="rId2"/>
            <a:stretch/>
          </p:blipFill>
          <p:spPr>
            <a:xfrm>
              <a:off x="9777240" y="7899120"/>
              <a:ext cx="384120" cy="2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Line 165"/>
            <p:cNvSpPr/>
            <p:nvPr/>
          </p:nvSpPr>
          <p:spPr>
            <a:xfrm>
              <a:off x="9777240" y="7479720"/>
              <a:ext cx="36036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6"/>
            <p:cNvSpPr/>
            <p:nvPr/>
          </p:nvSpPr>
          <p:spPr>
            <a:xfrm>
              <a:off x="10208880" y="6672240"/>
              <a:ext cx="23860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440" rIns="127440" tIns="63720" bIns="63720" anchor="t">
              <a:sp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ловные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озна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1159"/>
            <p:cNvGrpSpPr/>
            <p:nvPr/>
          </p:nvGrpSpPr>
          <p:grpSpPr>
            <a:xfrm>
              <a:off x="9777240" y="8227080"/>
              <a:ext cx="720360" cy="372240"/>
              <a:chOff x="9777240" y="8227080"/>
              <a:chExt cx="720360" cy="372240"/>
            </a:xfrm>
          </p:grpSpPr>
          <p:sp>
            <p:nvSpPr>
              <p:cNvPr id="166" name="Rectangle 1160"/>
              <p:cNvSpPr/>
              <p:nvPr/>
            </p:nvSpPr>
            <p:spPr>
              <a:xfrm>
                <a:off x="10140480" y="8280360"/>
                <a:ext cx="3571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№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7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Group 1161"/>
              <p:cNvGrpSpPr/>
              <p:nvPr/>
            </p:nvGrpSpPr>
            <p:grpSpPr>
              <a:xfrm>
                <a:off x="9777240" y="8227080"/>
                <a:ext cx="480960" cy="248400"/>
                <a:chOff x="9777240" y="8227080"/>
                <a:chExt cx="480960" cy="248400"/>
              </a:xfrm>
            </p:grpSpPr>
            <p:grpSp>
              <p:nvGrpSpPr>
                <p:cNvPr id="168" name="Group 1162"/>
                <p:cNvGrpSpPr/>
                <p:nvPr/>
              </p:nvGrpSpPr>
              <p:grpSpPr>
                <a:xfrm>
                  <a:off x="9777240" y="8227080"/>
                  <a:ext cx="318240" cy="248400"/>
                  <a:chOff x="9777240" y="8227080"/>
                  <a:chExt cx="318240" cy="248400"/>
                </a:xfrm>
              </p:grpSpPr>
              <p:sp>
                <p:nvSpPr>
                  <p:cNvPr id="169" name="Rectangle 1163"/>
                  <p:cNvSpPr/>
                  <p:nvPr/>
                </p:nvSpPr>
                <p:spPr>
                  <a:xfrm>
                    <a:off x="9777240" y="8323200"/>
                    <a:ext cx="318240" cy="152280"/>
                  </a:xfrm>
                  <a:prstGeom prst="rect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164"/>
                  <p:cNvSpPr/>
                  <p:nvPr/>
                </p:nvSpPr>
                <p:spPr>
                  <a:xfrm flipV="1">
                    <a:off x="9779760" y="8227080"/>
                    <a:ext cx="162000" cy="964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165"/>
                  <p:cNvSpPr/>
                  <p:nvPr/>
                </p:nvSpPr>
                <p:spPr>
                  <a:xfrm>
                    <a:off x="9943920" y="8227080"/>
                    <a:ext cx="149040" cy="907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2" name="Group 1166"/>
                  <p:cNvGrpSpPr/>
                  <p:nvPr/>
                </p:nvGrpSpPr>
                <p:grpSpPr>
                  <a:xfrm>
                    <a:off x="9919800" y="8264160"/>
                    <a:ext cx="37080" cy="42120"/>
                    <a:chOff x="9919800" y="8264160"/>
                    <a:chExt cx="37080" cy="42120"/>
                  </a:xfrm>
                </p:grpSpPr>
                <p:sp>
                  <p:nvSpPr>
                    <p:cNvPr id="173" name="Line 1167"/>
                    <p:cNvSpPr/>
                    <p:nvPr/>
                  </p:nvSpPr>
                  <p:spPr>
                    <a:xfrm>
                      <a:off x="9937800" y="8264160"/>
                      <a:ext cx="0" cy="4212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1168"/>
                    <p:cNvSpPr/>
                    <p:nvPr/>
                  </p:nvSpPr>
                  <p:spPr>
                    <a:xfrm>
                      <a:off x="9919800" y="8288640"/>
                      <a:ext cx="3708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5" name="Line 1169"/>
                <p:cNvSpPr/>
                <p:nvPr/>
              </p:nvSpPr>
              <p:spPr>
                <a:xfrm>
                  <a:off x="10159920" y="838656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Line 59"/>
            <p:cNvSpPr/>
            <p:nvPr/>
          </p:nvSpPr>
          <p:spPr>
            <a:xfrm>
              <a:off x="9777240" y="87249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>
              <a:off x="9777240" y="8909640"/>
              <a:ext cx="609480" cy="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4"/>
            <p:cNvSpPr/>
            <p:nvPr/>
          </p:nvSpPr>
          <p:spPr>
            <a:xfrm>
              <a:off x="10353600" y="8785080"/>
              <a:ext cx="2135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автотрассы территориального знач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73"/>
            <p:cNvSpPr/>
            <p:nvPr/>
          </p:nvSpPr>
          <p:spPr>
            <a:xfrm>
              <a:off x="10339200" y="8225640"/>
              <a:ext cx="246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Больница с указанием количества мест (ЦРБ – центральная районная; УБ – участковая; ГБ – городская);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74"/>
            <p:cNvSpPr/>
            <p:nvPr/>
          </p:nvSpPr>
          <p:spPr>
            <a:xfrm rot="3090000">
              <a:off x="9870120" y="7531920"/>
              <a:ext cx="324720" cy="470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4"/>
            <p:cNvSpPr/>
            <p:nvPr/>
          </p:nvSpPr>
          <p:spPr>
            <a:xfrm>
              <a:off x="10367640" y="7670520"/>
              <a:ext cx="2075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Маршрут авиационной развед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76"/>
            <p:cNvSpPr/>
            <p:nvPr/>
          </p:nvSpPr>
          <p:spPr>
            <a:xfrm>
              <a:off x="9921600" y="6983280"/>
              <a:ext cx="576360" cy="371520"/>
            </a:xfrm>
            <a:prstGeom prst="pie">
              <a:avLst/>
            </a:prstGeom>
            <a:noFill/>
            <a:ln w="316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61"/>
            <p:cNvSpPr/>
            <p:nvPr/>
          </p:nvSpPr>
          <p:spPr>
            <a:xfrm>
              <a:off x="10550520" y="6983280"/>
              <a:ext cx="1603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8560" rIns="178560" tIns="89280" bIns="8928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зона ответственности батальона ДПС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" name="Object 31"/>
          <p:cNvGraphicFramePr/>
          <p:nvPr/>
        </p:nvGraphicFramePr>
        <p:xfrm>
          <a:off x="9810720" y="5808600"/>
          <a:ext cx="2990880" cy="8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720" y="5808600"/>
                    <a:ext cx="2990880" cy="804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Oval 63"/>
          <p:cNvSpPr/>
          <p:nvPr/>
        </p:nvSpPr>
        <p:spPr>
          <a:xfrm rot="12935400">
            <a:off x="6544800" y="7321320"/>
            <a:ext cx="360360" cy="36036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 rot="10800000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27"/>
          <p:cNvSpPr/>
          <p:nvPr/>
        </p:nvSpPr>
        <p:spPr>
          <a:xfrm>
            <a:off x="6832440" y="789624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52440" y="1200240"/>
          <a:ext cx="12169800" cy="1296720"/>
        </p:xfrm>
        <a:graphic>
          <a:graphicData uri="http://schemas.openxmlformats.org/drawingml/2006/table">
            <a:tbl>
              <a:tblPr/>
              <a:tblGrid>
                <a:gridCol w="2259000"/>
                <a:gridCol w="1944720"/>
                <a:gridCol w="1946160"/>
                <a:gridCol w="1940040"/>
                <a:gridCol w="1941480"/>
                <a:gridCol w="2138400"/>
              </a:tblGrid>
              <a:tr h="280080">
                <a:tc gridSpan="5"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и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иска возникновения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80080"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200"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района зафиксировано 119 ДТП, 200 пострадавших из них 36 - погибших, 164 -спасен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района зафиксировано 104 ДТП, 172 пострадавших из них 29 - погибших, 143 -спасен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района зафиксировано 79 ДТП, 131 пострадавших из них 19 - погибших, 112 -спасен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района зафиксировано 75 ДТП, 126 пострадавших из них 29 - погибших, 97 -спасен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 района зафиксировано 78 ДТП, 113 пострадавших из них 20 - погибших, 93 -спасен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27440" rIns="127440" tIns="63720" bIns="63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ходя из частоты возникновения ДТП, следует, что в Тогучинском  районе сохраняется вероятность возникновения ДТП на участке 36,77-51,67 км и на 74,06-129,4 км  автотрассы К-19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7440" marR="12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0" y="6240600"/>
          <a:ext cx="5464080" cy="1577880"/>
        </p:xfrm>
        <a:graphic>
          <a:graphicData uri="http://schemas.openxmlformats.org/drawingml/2006/table">
            <a:tbl>
              <a:tblPr/>
              <a:tblGrid>
                <a:gridCol w="533520"/>
                <a:gridCol w="2251080"/>
                <a:gridCol w="815760"/>
                <a:gridCol w="890640"/>
                <a:gridCol w="973080"/>
              </a:tblGrid>
              <a:tr h="19188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3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ы и сред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ый состав (че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ка (е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 гарнизона пожарной охра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Д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8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бы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ы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го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ая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 gridSpan="2">
                  <a:txBody>
                    <a:bodyPr lIns="68400" rIns="68400" tIns="34200" bIns="34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Text Box 1269"/>
          <p:cNvSpPr/>
          <p:nvPr/>
        </p:nvSpPr>
        <p:spPr>
          <a:xfrm>
            <a:off x="0" y="2784600"/>
            <a:ext cx="3384720" cy="1051200"/>
          </a:xfrm>
          <a:prstGeom prst="rect">
            <a:avLst/>
          </a:prstGeom>
          <a:solidFill>
            <a:srgbClr val="ff99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ВТОДОРО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рритор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урковского сельсовета Тогучинского района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едеральная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сс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ходит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втодорог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ег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льзования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– 108.5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м 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исле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крытиям щебень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– 108.5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ст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– 0 шт,трубы-20 ш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008600"/>
          <a:ext cx="8345520" cy="2207880"/>
        </p:xfrm>
        <a:graphic>
          <a:graphicData uri="http://schemas.openxmlformats.org/drawingml/2006/table">
            <a:tbl>
              <a:tblPr/>
              <a:tblGrid>
                <a:gridCol w="547560"/>
                <a:gridCol w="1595520"/>
                <a:gridCol w="1117800"/>
                <a:gridCol w="925200"/>
                <a:gridCol w="920880"/>
                <a:gridCol w="934920"/>
                <a:gridCol w="1025640"/>
                <a:gridCol w="1278000"/>
              </a:tblGrid>
              <a:tr h="963000">
                <a:tc gridSpan="8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РИТОРИАЛЬ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НИЗО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ГУЧИНСК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ЙО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ОСИБИР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rowSpan="2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rowSpan="2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низ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gridSpan="2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>
                        <a:alpha val="60000"/>
                      </a:srgbClr>
                    </a:solidFill>
                  </a:tcPr>
                </a:tc>
              </a:tr>
              <a:tr h="293040"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ко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  <a:tc>
                  <a:txBody>
                    <a:bodyPr lIns="110160" rIns="110160" tIns="55080" bIns="55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160" marR="11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9999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56"/>
          <p:cNvGrpSpPr/>
          <p:nvPr/>
        </p:nvGrpSpPr>
        <p:grpSpPr>
          <a:xfrm>
            <a:off x="6256440" y="6816240"/>
            <a:ext cx="361800" cy="317880"/>
            <a:chOff x="6256440" y="6816240"/>
            <a:chExt cx="361800" cy="317880"/>
          </a:xfrm>
        </p:grpSpPr>
        <p:sp>
          <p:nvSpPr>
            <p:cNvPr id="193" name="Rectangle 57"/>
            <p:cNvSpPr/>
            <p:nvPr/>
          </p:nvSpPr>
          <p:spPr>
            <a:xfrm>
              <a:off x="6256440" y="6939720"/>
              <a:ext cx="361800" cy="194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8"/>
            <p:cNvSpPr/>
            <p:nvPr/>
          </p:nvSpPr>
          <p:spPr>
            <a:xfrm flipV="1">
              <a:off x="6259320" y="6816240"/>
              <a:ext cx="183960" cy="12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59"/>
            <p:cNvSpPr/>
            <p:nvPr/>
          </p:nvSpPr>
          <p:spPr>
            <a:xfrm>
              <a:off x="6445800" y="6816600"/>
              <a:ext cx="169200" cy="115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60"/>
            <p:cNvGrpSpPr/>
            <p:nvPr/>
          </p:nvGrpSpPr>
          <p:grpSpPr>
            <a:xfrm>
              <a:off x="6418440" y="6864120"/>
              <a:ext cx="42120" cy="54000"/>
              <a:chOff x="6418440" y="6864120"/>
              <a:chExt cx="42120" cy="54000"/>
            </a:xfrm>
          </p:grpSpPr>
          <p:sp>
            <p:nvSpPr>
              <p:cNvPr id="197" name="Line 61"/>
              <p:cNvSpPr/>
              <p:nvPr/>
            </p:nvSpPr>
            <p:spPr>
              <a:xfrm>
                <a:off x="6438600" y="6864120"/>
                <a:ext cx="0" cy="54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62"/>
              <p:cNvSpPr/>
              <p:nvPr/>
            </p:nvSpPr>
            <p:spPr>
              <a:xfrm>
                <a:off x="6418440" y="6895440"/>
                <a:ext cx="42120" cy="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Rectangle 54"/>
          <p:cNvSpPr/>
          <p:nvPr/>
        </p:nvSpPr>
        <p:spPr>
          <a:xfrm>
            <a:off x="7408800" y="7248600"/>
            <a:ext cx="35892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71"/>
          <p:cNvGraphicFramePr/>
          <p:nvPr/>
        </p:nvGraphicFramePr>
        <p:xfrm>
          <a:off x="10642680" y="2568600"/>
          <a:ext cx="2158920" cy="806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Object 1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42680" y="2568600"/>
                    <a:ext cx="2158920" cy="806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Object 102"/>
          <p:cNvGraphicFramePr/>
          <p:nvPr/>
        </p:nvGraphicFramePr>
        <p:xfrm>
          <a:off x="9693360" y="3508200"/>
          <a:ext cx="3097080" cy="1613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3" name="Object 10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93360" y="3508200"/>
                    <a:ext cx="3097080" cy="16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25" descr=""/>
          <p:cNvPicPr/>
          <p:nvPr/>
        </p:nvPicPr>
        <p:blipFill>
          <a:blip r:embed="rId1"/>
          <a:srcRect l="22594" t="14044" r="20961" b="9209"/>
          <a:stretch/>
        </p:blipFill>
        <p:spPr>
          <a:xfrm>
            <a:off x="0" y="1055520"/>
            <a:ext cx="12801600" cy="8545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27"/>
          <p:cNvSpPr/>
          <p:nvPr/>
        </p:nvSpPr>
        <p:spPr>
          <a:xfrm>
            <a:off x="6832440" y="7032600"/>
            <a:ext cx="2016360" cy="34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a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Times New Roman"/>
                <a:ea typeface="Arial"/>
              </a:rPr>
              <a:t>Сур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Риски возникновения ЧС на автомобильном транспорте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71"/>
          <p:cNvGraphicFramePr/>
          <p:nvPr/>
        </p:nvGraphicFramePr>
        <p:xfrm>
          <a:off x="9496440" y="2855880"/>
          <a:ext cx="3048120" cy="93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7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96440" y="2855880"/>
                    <a:ext cx="3048120" cy="936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31"/>
          <p:cNvGraphicFramePr/>
          <p:nvPr/>
        </p:nvGraphicFramePr>
        <p:xfrm>
          <a:off x="9496440" y="1776240"/>
          <a:ext cx="2990880" cy="882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0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96440" y="1776240"/>
                    <a:ext cx="2990880" cy="882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941"/>
          <p:cNvGraphicFramePr/>
          <p:nvPr/>
        </p:nvGraphicFramePr>
        <p:xfrm>
          <a:off x="784080" y="2784600"/>
          <a:ext cx="3961080" cy="9842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2" name="Object 94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080" y="2784600"/>
                    <a:ext cx="3961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"/>
          <p:cNvSpPr/>
          <p:nvPr/>
        </p:nvSpPr>
        <p:spPr>
          <a:xfrm>
            <a:off x="-7920" y="-23760"/>
            <a:ext cx="12809520" cy="172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8560" rIns="17856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порт территории Сурк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гучинского района  Новосибирской обла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и возникновения ЧС на объектах железнодорожного тран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56"/>
          <p:cNvGrpSpPr/>
          <p:nvPr/>
        </p:nvGrpSpPr>
        <p:grpSpPr>
          <a:xfrm>
            <a:off x="9640800" y="5952960"/>
            <a:ext cx="3315960" cy="3599640"/>
            <a:chOff x="9640800" y="5952960"/>
            <a:chExt cx="3315960" cy="3599640"/>
          </a:xfrm>
        </p:grpSpPr>
        <p:grpSp>
          <p:nvGrpSpPr>
            <p:cNvPr id="215" name="Group 6"/>
            <p:cNvGrpSpPr/>
            <p:nvPr/>
          </p:nvGrpSpPr>
          <p:grpSpPr>
            <a:xfrm>
              <a:off x="10131120" y="7137360"/>
              <a:ext cx="2673000" cy="2407320"/>
              <a:chOff x="10131120" y="7137360"/>
              <a:chExt cx="2673000" cy="2407320"/>
            </a:xfrm>
          </p:grpSpPr>
          <p:sp>
            <p:nvSpPr>
              <p:cNvPr id="216" name="Rectangle 7"/>
              <p:cNvSpPr/>
              <p:nvPr/>
            </p:nvSpPr>
            <p:spPr>
              <a:xfrm>
                <a:off x="10131120" y="7137360"/>
                <a:ext cx="2673000" cy="240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8"/>
              <p:cNvGrpSpPr/>
              <p:nvPr/>
            </p:nvGrpSpPr>
            <p:grpSpPr>
              <a:xfrm>
                <a:off x="10433160" y="8439840"/>
                <a:ext cx="342360" cy="379080"/>
                <a:chOff x="10433160" y="8439840"/>
                <a:chExt cx="342360" cy="379080"/>
              </a:xfrm>
            </p:grpSpPr>
            <p:sp>
              <p:nvSpPr>
                <p:cNvPr id="218" name="Rectangle 9"/>
                <p:cNvSpPr/>
                <p:nvPr/>
              </p:nvSpPr>
              <p:spPr>
                <a:xfrm>
                  <a:off x="10433160" y="8439840"/>
                  <a:ext cx="342360" cy="379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10"/>
                <p:cNvSpPr/>
                <p:nvPr/>
              </p:nvSpPr>
              <p:spPr>
                <a:xfrm>
                  <a:off x="10547640" y="8439840"/>
                  <a:ext cx="114120" cy="19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Text Box 11"/>
              <p:cNvSpPr/>
              <p:nvPr/>
            </p:nvSpPr>
            <p:spPr>
              <a:xfrm>
                <a:off x="10937880" y="8439840"/>
                <a:ext cx="161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790640"/>
                    <a:tab algn="l" pos="3581280"/>
                    <a:tab algn="l" pos="5372280"/>
                    <a:tab algn="l" pos="7162920"/>
                    <a:tab algn="l" pos="8953560"/>
                    <a:tab algn="l" pos="1074420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зловые станции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2"/>
              <p:cNvSpPr/>
              <p:nvPr/>
            </p:nvSpPr>
            <p:spPr>
              <a:xfrm>
                <a:off x="10635840" y="7284240"/>
                <a:ext cx="1974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7440" bIns="37440" anchor="t">
                <a:noAutofit/>
              </a:bodyPr>
              <a:p>
                <a:pPr algn="ctr">
                  <a:tabLst>
                    <a:tab algn="l" pos="0"/>
                    <a:tab algn="l" pos="74916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словные обозна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74916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Group 13"/>
              <p:cNvGrpSpPr/>
              <p:nvPr/>
            </p:nvGrpSpPr>
            <p:grpSpPr>
              <a:xfrm>
                <a:off x="10408680" y="8028000"/>
                <a:ext cx="504360" cy="56880"/>
                <a:chOff x="10408680" y="8028000"/>
                <a:chExt cx="504360" cy="56880"/>
              </a:xfrm>
            </p:grpSpPr>
            <p:sp>
              <p:nvSpPr>
                <p:cNvPr id="223" name="Line 14"/>
                <p:cNvSpPr/>
                <p:nvPr/>
              </p:nvSpPr>
              <p:spPr>
                <a:xfrm>
                  <a:off x="10408680" y="808488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5"/>
                <p:cNvSpPr/>
                <p:nvPr/>
              </p:nvSpPr>
              <p:spPr>
                <a:xfrm>
                  <a:off x="10408680" y="802800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6"/>
                <p:cNvSpPr/>
                <p:nvPr/>
              </p:nvSpPr>
              <p:spPr>
                <a:xfrm>
                  <a:off x="10432800" y="805608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7"/>
                <p:cNvSpPr/>
                <p:nvPr/>
              </p:nvSpPr>
              <p:spPr>
                <a:xfrm>
                  <a:off x="10623600" y="8056080"/>
                  <a:ext cx="100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8"/>
                <p:cNvSpPr/>
                <p:nvPr/>
              </p:nvSpPr>
              <p:spPr>
                <a:xfrm>
                  <a:off x="10801800" y="805320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Rectangle 19"/>
              <p:cNvSpPr/>
              <p:nvPr/>
            </p:nvSpPr>
            <p:spPr>
              <a:xfrm>
                <a:off x="11013480" y="7951680"/>
                <a:ext cx="1143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Железная дорог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9"/>
            <p:cNvGrpSpPr/>
            <p:nvPr/>
          </p:nvGrpSpPr>
          <p:grpSpPr>
            <a:xfrm>
              <a:off x="10131120" y="7143480"/>
              <a:ext cx="2673000" cy="2409120"/>
              <a:chOff x="10131120" y="7143480"/>
              <a:chExt cx="2673000" cy="2409120"/>
            </a:xfrm>
          </p:grpSpPr>
          <p:sp>
            <p:nvSpPr>
              <p:cNvPr id="230" name="Rectangle 80"/>
              <p:cNvSpPr/>
              <p:nvPr/>
            </p:nvSpPr>
            <p:spPr>
              <a:xfrm>
                <a:off x="10131120" y="7143480"/>
                <a:ext cx="2673000" cy="24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81"/>
              <p:cNvGrpSpPr/>
              <p:nvPr/>
            </p:nvGrpSpPr>
            <p:grpSpPr>
              <a:xfrm>
                <a:off x="10433160" y="8447040"/>
                <a:ext cx="342360" cy="379440"/>
                <a:chOff x="10433160" y="8447040"/>
                <a:chExt cx="342360" cy="379440"/>
              </a:xfrm>
            </p:grpSpPr>
            <p:sp>
              <p:nvSpPr>
                <p:cNvPr id="232" name="Rectangle 82"/>
                <p:cNvSpPr/>
                <p:nvPr/>
              </p:nvSpPr>
              <p:spPr>
                <a:xfrm>
                  <a:off x="10433160" y="8447040"/>
                  <a:ext cx="342360" cy="379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83"/>
                <p:cNvSpPr/>
                <p:nvPr/>
              </p:nvSpPr>
              <p:spPr>
                <a:xfrm>
                  <a:off x="10547640" y="8447040"/>
                  <a:ext cx="114120" cy="191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Text Box 84"/>
              <p:cNvSpPr/>
              <p:nvPr/>
            </p:nvSpPr>
            <p:spPr>
              <a:xfrm>
                <a:off x="10937880" y="8447040"/>
                <a:ext cx="161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Узловые станции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5"/>
              <p:cNvSpPr/>
              <p:nvPr/>
            </p:nvSpPr>
            <p:spPr>
              <a:xfrm>
                <a:off x="10635840" y="7290360"/>
                <a:ext cx="1974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Times New Roman"/>
                  </a:rPr>
                  <a:t>Условные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Times New Roman"/>
                  </a:rPr>
                  <a:t>обозна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86"/>
              <p:cNvGrpSpPr/>
              <p:nvPr/>
            </p:nvGrpSpPr>
            <p:grpSpPr>
              <a:xfrm>
                <a:off x="10408680" y="8034480"/>
                <a:ext cx="504360" cy="57240"/>
                <a:chOff x="10408680" y="8034480"/>
                <a:chExt cx="504360" cy="57240"/>
              </a:xfrm>
            </p:grpSpPr>
            <p:sp>
              <p:nvSpPr>
                <p:cNvPr id="237" name="Line 87"/>
                <p:cNvSpPr/>
                <p:nvPr/>
              </p:nvSpPr>
              <p:spPr>
                <a:xfrm>
                  <a:off x="10408680" y="809172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88"/>
                <p:cNvSpPr/>
                <p:nvPr/>
              </p:nvSpPr>
              <p:spPr>
                <a:xfrm>
                  <a:off x="10408680" y="803448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9"/>
                <p:cNvSpPr/>
                <p:nvPr/>
              </p:nvSpPr>
              <p:spPr>
                <a:xfrm>
                  <a:off x="10432800" y="806256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0"/>
                <p:cNvSpPr/>
                <p:nvPr/>
              </p:nvSpPr>
              <p:spPr>
                <a:xfrm>
                  <a:off x="10623600" y="8062560"/>
                  <a:ext cx="100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1"/>
                <p:cNvSpPr/>
                <p:nvPr/>
              </p:nvSpPr>
              <p:spPr>
                <a:xfrm>
                  <a:off x="10801800" y="805968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92"/>
              <p:cNvSpPr/>
              <p:nvPr/>
            </p:nvSpPr>
            <p:spPr>
              <a:xfrm>
                <a:off x="11013480" y="7958520"/>
                <a:ext cx="1143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Железная дорог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3"/>
            <p:cNvGrpSpPr/>
            <p:nvPr/>
          </p:nvGrpSpPr>
          <p:grpSpPr>
            <a:xfrm>
              <a:off x="10131120" y="7143480"/>
              <a:ext cx="2673000" cy="2409120"/>
              <a:chOff x="10131120" y="7143480"/>
              <a:chExt cx="2673000" cy="2409120"/>
            </a:xfrm>
          </p:grpSpPr>
          <p:sp>
            <p:nvSpPr>
              <p:cNvPr id="244" name="Rectangle 94"/>
              <p:cNvSpPr/>
              <p:nvPr/>
            </p:nvSpPr>
            <p:spPr>
              <a:xfrm>
                <a:off x="10131120" y="7143480"/>
                <a:ext cx="2673000" cy="24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 algn="ctr"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95"/>
              <p:cNvGrpSpPr/>
              <p:nvPr/>
            </p:nvGrpSpPr>
            <p:grpSpPr>
              <a:xfrm>
                <a:off x="10433160" y="8447040"/>
                <a:ext cx="342360" cy="379440"/>
                <a:chOff x="10433160" y="8447040"/>
                <a:chExt cx="342360" cy="379440"/>
              </a:xfrm>
            </p:grpSpPr>
            <p:sp>
              <p:nvSpPr>
                <p:cNvPr id="246" name="Rectangle 96"/>
                <p:cNvSpPr/>
                <p:nvPr/>
              </p:nvSpPr>
              <p:spPr>
                <a:xfrm>
                  <a:off x="10433160" y="8447040"/>
                  <a:ext cx="342360" cy="379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97"/>
                <p:cNvSpPr/>
                <p:nvPr/>
              </p:nvSpPr>
              <p:spPr>
                <a:xfrm>
                  <a:off x="10547640" y="8447040"/>
                  <a:ext cx="114120" cy="191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ctr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 Box 98"/>
              <p:cNvSpPr/>
              <p:nvPr/>
            </p:nvSpPr>
            <p:spPr>
              <a:xfrm>
                <a:off x="10937880" y="8447040"/>
                <a:ext cx="161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Узловые станции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99"/>
              <p:cNvSpPr/>
              <p:nvPr/>
            </p:nvSpPr>
            <p:spPr>
              <a:xfrm>
                <a:off x="10635840" y="7290360"/>
                <a:ext cx="1974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Times New Roman"/>
                  </a:rPr>
                  <a:t>Условные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Times New Roman"/>
                  </a:rPr>
                  <a:t>обозна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Group 100"/>
              <p:cNvGrpSpPr/>
              <p:nvPr/>
            </p:nvGrpSpPr>
            <p:grpSpPr>
              <a:xfrm>
                <a:off x="10408680" y="8034480"/>
                <a:ext cx="504360" cy="57240"/>
                <a:chOff x="10408680" y="8034480"/>
                <a:chExt cx="504360" cy="57240"/>
              </a:xfrm>
            </p:grpSpPr>
            <p:sp>
              <p:nvSpPr>
                <p:cNvPr id="251" name="Line 101"/>
                <p:cNvSpPr/>
                <p:nvPr/>
              </p:nvSpPr>
              <p:spPr>
                <a:xfrm>
                  <a:off x="10408680" y="809172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2"/>
                <p:cNvSpPr/>
                <p:nvPr/>
              </p:nvSpPr>
              <p:spPr>
                <a:xfrm>
                  <a:off x="10408680" y="8034480"/>
                  <a:ext cx="50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3"/>
                <p:cNvSpPr/>
                <p:nvPr/>
              </p:nvSpPr>
              <p:spPr>
                <a:xfrm>
                  <a:off x="10432800" y="806256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4"/>
                <p:cNvSpPr/>
                <p:nvPr/>
              </p:nvSpPr>
              <p:spPr>
                <a:xfrm>
                  <a:off x="10623600" y="8062560"/>
                  <a:ext cx="100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5"/>
                <p:cNvSpPr/>
                <p:nvPr/>
              </p:nvSpPr>
              <p:spPr>
                <a:xfrm>
                  <a:off x="10801800" y="8059680"/>
                  <a:ext cx="9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Rectangle 106"/>
              <p:cNvSpPr/>
              <p:nvPr/>
            </p:nvSpPr>
            <p:spPr>
              <a:xfrm>
                <a:off x="11013480" y="7958520"/>
                <a:ext cx="1143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Железная дорог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108"/>
            <p:cNvSpPr/>
            <p:nvPr/>
          </p:nvSpPr>
          <p:spPr>
            <a:xfrm>
              <a:off x="9640800" y="5952960"/>
              <a:ext cx="3163680" cy="35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09"/>
            <p:cNvGrpSpPr/>
            <p:nvPr/>
          </p:nvGrpSpPr>
          <p:grpSpPr>
            <a:xfrm>
              <a:off x="9870840" y="6873840"/>
              <a:ext cx="422280" cy="223200"/>
              <a:chOff x="9870840" y="6873840"/>
              <a:chExt cx="422280" cy="223200"/>
            </a:xfrm>
          </p:grpSpPr>
          <p:sp>
            <p:nvSpPr>
              <p:cNvPr id="259" name="Rectangle 110"/>
              <p:cNvSpPr/>
              <p:nvPr/>
            </p:nvSpPr>
            <p:spPr>
              <a:xfrm>
                <a:off x="9870840" y="6873840"/>
                <a:ext cx="422280" cy="223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11"/>
              <p:cNvSpPr/>
              <p:nvPr/>
            </p:nvSpPr>
            <p:spPr>
              <a:xfrm>
                <a:off x="10011960" y="6873840"/>
                <a:ext cx="140760" cy="11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112"/>
            <p:cNvSpPr/>
            <p:nvPr/>
          </p:nvSpPr>
          <p:spPr>
            <a:xfrm>
              <a:off x="10669320" y="6873840"/>
              <a:ext cx="19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ЖД станц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3"/>
            <p:cNvSpPr/>
            <p:nvPr/>
          </p:nvSpPr>
          <p:spPr>
            <a:xfrm>
              <a:off x="10119960" y="5952960"/>
              <a:ext cx="2444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Условные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обознач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14"/>
            <p:cNvGrpSpPr/>
            <p:nvPr/>
          </p:nvGrpSpPr>
          <p:grpSpPr>
            <a:xfrm>
              <a:off x="9840600" y="6675120"/>
              <a:ext cx="623520" cy="84960"/>
              <a:chOff x="9840600" y="6675120"/>
              <a:chExt cx="623520" cy="84960"/>
            </a:xfrm>
          </p:grpSpPr>
          <p:sp>
            <p:nvSpPr>
              <p:cNvPr id="264" name="Line 115"/>
              <p:cNvSpPr/>
              <p:nvPr/>
            </p:nvSpPr>
            <p:spPr>
              <a:xfrm>
                <a:off x="9840600" y="6760080"/>
                <a:ext cx="6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16"/>
              <p:cNvSpPr/>
              <p:nvPr/>
            </p:nvSpPr>
            <p:spPr>
              <a:xfrm>
                <a:off x="9840600" y="6675120"/>
                <a:ext cx="6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17"/>
              <p:cNvSpPr/>
              <p:nvPr/>
            </p:nvSpPr>
            <p:spPr>
              <a:xfrm>
                <a:off x="9870480" y="67168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18"/>
              <p:cNvSpPr/>
              <p:nvPr/>
            </p:nvSpPr>
            <p:spPr>
              <a:xfrm>
                <a:off x="10106280" y="67168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19"/>
              <p:cNvSpPr/>
              <p:nvPr/>
            </p:nvSpPr>
            <p:spPr>
              <a:xfrm>
                <a:off x="10326240" y="671256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120"/>
            <p:cNvSpPr/>
            <p:nvPr/>
          </p:nvSpPr>
          <p:spPr>
            <a:xfrm>
              <a:off x="10588320" y="6656040"/>
              <a:ext cx="141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- Железная дорог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63"/>
            <p:cNvSpPr/>
            <p:nvPr/>
          </p:nvSpPr>
          <p:spPr>
            <a:xfrm>
              <a:off x="9785160" y="6346800"/>
              <a:ext cx="669960" cy="1458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10840680" y="7596000"/>
              <a:ext cx="196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1"/>
            <p:cNvSpPr/>
            <p:nvPr/>
          </p:nvSpPr>
          <p:spPr>
            <a:xfrm>
              <a:off x="10361520" y="6216480"/>
              <a:ext cx="23065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арийно-опасные участки железной дорог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4"/>
            <p:cNvSpPr/>
            <p:nvPr/>
          </p:nvSpPr>
          <p:spPr>
            <a:xfrm>
              <a:off x="10145520" y="7499160"/>
              <a:ext cx="2811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ртолетные площадки (участок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стности способный принять вертоле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53"/>
            <p:cNvGrpSpPr/>
            <p:nvPr/>
          </p:nvGrpSpPr>
          <p:grpSpPr>
            <a:xfrm>
              <a:off x="9929520" y="7201800"/>
              <a:ext cx="722520" cy="327600"/>
              <a:chOff x="9929520" y="7201800"/>
              <a:chExt cx="722520" cy="327600"/>
            </a:xfrm>
          </p:grpSpPr>
          <p:sp>
            <p:nvSpPr>
              <p:cNvPr id="275" name="Rectangle 54"/>
              <p:cNvSpPr/>
              <p:nvPr/>
            </p:nvSpPr>
            <p:spPr>
              <a:xfrm>
                <a:off x="10293840" y="7248960"/>
                <a:ext cx="35820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№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55"/>
              <p:cNvGrpSpPr/>
              <p:nvPr/>
            </p:nvGrpSpPr>
            <p:grpSpPr>
              <a:xfrm>
                <a:off x="9929520" y="7201800"/>
                <a:ext cx="481680" cy="219600"/>
                <a:chOff x="9929520" y="7201800"/>
                <a:chExt cx="481680" cy="219600"/>
              </a:xfrm>
            </p:grpSpPr>
            <p:grpSp>
              <p:nvGrpSpPr>
                <p:cNvPr id="277" name="Group 56"/>
                <p:cNvGrpSpPr/>
                <p:nvPr/>
              </p:nvGrpSpPr>
              <p:grpSpPr>
                <a:xfrm>
                  <a:off x="9929520" y="7201800"/>
                  <a:ext cx="318960" cy="219600"/>
                  <a:chOff x="9929520" y="7201800"/>
                  <a:chExt cx="318960" cy="219600"/>
                </a:xfrm>
              </p:grpSpPr>
              <p:sp>
                <p:nvSpPr>
                  <p:cNvPr id="278" name="Rectangle 57"/>
                  <p:cNvSpPr/>
                  <p:nvPr/>
                </p:nvSpPr>
                <p:spPr>
                  <a:xfrm>
                    <a:off x="9929520" y="7287120"/>
                    <a:ext cx="318960" cy="134280"/>
                  </a:xfrm>
                  <a:prstGeom prst="rect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720" rIns="9072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2960"/>
                        <a:tab algn="l" pos="1825560"/>
                        <a:tab algn="l" pos="2738520"/>
                        <a:tab algn="l" pos="3651120"/>
                        <a:tab algn="l" pos="4564080"/>
                        <a:tab algn="l" pos="5477040"/>
                        <a:tab algn="l" pos="6389640"/>
                        <a:tab algn="l" pos="7302600"/>
                        <a:tab algn="l" pos="8215200"/>
                        <a:tab algn="l" pos="9128160"/>
                        <a:tab algn="l" pos="10040760"/>
                        <a:tab algn="l" pos="10953720"/>
                      </a:tabLst>
                    </a:pP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58"/>
                  <p:cNvSpPr/>
                  <p:nvPr/>
                </p:nvSpPr>
                <p:spPr>
                  <a:xfrm flipV="1">
                    <a:off x="9932040" y="7201800"/>
                    <a:ext cx="162360" cy="85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59"/>
                  <p:cNvSpPr/>
                  <p:nvPr/>
                </p:nvSpPr>
                <p:spPr>
                  <a:xfrm>
                    <a:off x="10096560" y="7202160"/>
                    <a:ext cx="149400" cy="799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" name="Group 60"/>
                  <p:cNvGrpSpPr/>
                  <p:nvPr/>
                </p:nvGrpSpPr>
                <p:grpSpPr>
                  <a:xfrm>
                    <a:off x="10072440" y="7234920"/>
                    <a:ext cx="37080" cy="37080"/>
                    <a:chOff x="10072440" y="7234920"/>
                    <a:chExt cx="37080" cy="37080"/>
                  </a:xfrm>
                </p:grpSpPr>
                <p:sp>
                  <p:nvSpPr>
                    <p:cNvPr id="282" name="Line 61"/>
                    <p:cNvSpPr/>
                    <p:nvPr/>
                  </p:nvSpPr>
                  <p:spPr>
                    <a:xfrm>
                      <a:off x="10090440" y="7234920"/>
                      <a:ext cx="0" cy="3708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62"/>
                    <p:cNvSpPr/>
                    <p:nvPr/>
                  </p:nvSpPr>
                  <p:spPr>
                    <a:xfrm>
                      <a:off x="10072440" y="7256520"/>
                      <a:ext cx="3708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4" name="Line 63"/>
                <p:cNvSpPr/>
                <p:nvPr/>
              </p:nvSpPr>
              <p:spPr>
                <a:xfrm>
                  <a:off x="10312920" y="734220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Text Box 61"/>
            <p:cNvSpPr/>
            <p:nvPr/>
          </p:nvSpPr>
          <p:spPr>
            <a:xfrm>
              <a:off x="10840680" y="8449920"/>
              <a:ext cx="19638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1"/>
            <p:cNvSpPr/>
            <p:nvPr/>
          </p:nvSpPr>
          <p:spPr>
            <a:xfrm>
              <a:off x="10504080" y="7137360"/>
              <a:ext cx="2237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йонная городская больниц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65"/>
            <p:cNvSpPr/>
            <p:nvPr/>
          </p:nvSpPr>
          <p:spPr>
            <a:xfrm>
              <a:off x="9713520" y="796896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1"/>
            <p:cNvSpPr/>
            <p:nvPr/>
          </p:nvSpPr>
          <p:spPr>
            <a:xfrm>
              <a:off x="10288440" y="7813440"/>
              <a:ext cx="19638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границы район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59" descr="ЖД мост"/>
            <p:cNvPicPr/>
            <p:nvPr/>
          </p:nvPicPr>
          <p:blipFill>
            <a:blip r:embed="rId8"/>
            <a:stretch/>
          </p:blipFill>
          <p:spPr>
            <a:xfrm>
              <a:off x="9713520" y="8064360"/>
              <a:ext cx="3603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61"/>
            <p:cNvSpPr/>
            <p:nvPr/>
          </p:nvSpPr>
          <p:spPr>
            <a:xfrm>
              <a:off x="10288440" y="8029440"/>
              <a:ext cx="19638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ЖД мост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86" descr="Пож поезд"/>
            <p:cNvPicPr/>
            <p:nvPr/>
          </p:nvPicPr>
          <p:blipFill>
            <a:blip r:embed="rId9"/>
            <a:stretch/>
          </p:blipFill>
          <p:spPr>
            <a:xfrm>
              <a:off x="9751680" y="8437320"/>
              <a:ext cx="320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1"/>
            <p:cNvSpPr/>
            <p:nvPr/>
          </p:nvSpPr>
          <p:spPr>
            <a:xfrm>
              <a:off x="10361520" y="8532720"/>
              <a:ext cx="1963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Восстановительный поез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86" descr="Пож поезд"/>
            <p:cNvPicPr/>
            <p:nvPr/>
          </p:nvPicPr>
          <p:blipFill>
            <a:blip r:embed="rId10"/>
            <a:stretch/>
          </p:blipFill>
          <p:spPr>
            <a:xfrm>
              <a:off x="9785160" y="8872200"/>
              <a:ext cx="32076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61"/>
            <p:cNvSpPr/>
            <p:nvPr/>
          </p:nvSpPr>
          <p:spPr>
            <a:xfrm>
              <a:off x="10361520" y="8893080"/>
              <a:ext cx="1963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Пожарный поезд поез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37"/>
            <p:cNvGrpSpPr/>
            <p:nvPr/>
          </p:nvGrpSpPr>
          <p:grpSpPr>
            <a:xfrm>
              <a:off x="9785160" y="7540560"/>
              <a:ext cx="216000" cy="212760"/>
              <a:chOff x="9785160" y="7540560"/>
              <a:chExt cx="216000" cy="212760"/>
            </a:xfrm>
          </p:grpSpPr>
          <p:sp>
            <p:nvSpPr>
              <p:cNvPr id="296" name="Oval 72"/>
              <p:cNvSpPr/>
              <p:nvPr/>
            </p:nvSpPr>
            <p:spPr>
              <a:xfrm>
                <a:off x="9785160" y="7540560"/>
                <a:ext cx="216000" cy="212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73"/>
              <p:cNvGrpSpPr/>
              <p:nvPr/>
            </p:nvGrpSpPr>
            <p:grpSpPr>
              <a:xfrm>
                <a:off x="9845640" y="7598880"/>
                <a:ext cx="98640" cy="119160"/>
                <a:chOff x="9845640" y="7598880"/>
                <a:chExt cx="98640" cy="119160"/>
              </a:xfrm>
            </p:grpSpPr>
            <p:sp>
              <p:nvSpPr>
                <p:cNvPr id="298" name="Line 74"/>
                <p:cNvSpPr/>
                <p:nvPr/>
              </p:nvSpPr>
              <p:spPr>
                <a:xfrm>
                  <a:off x="9892800" y="7613280"/>
                  <a:ext cx="0" cy="104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75"/>
                <p:cNvSpPr/>
                <p:nvPr/>
              </p:nvSpPr>
              <p:spPr>
                <a:xfrm>
                  <a:off x="9845640" y="7598880"/>
                  <a:ext cx="98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71"/>
            <p:cNvSpPr/>
            <p:nvPr/>
          </p:nvSpPr>
          <p:spPr>
            <a:xfrm>
              <a:off x="9713520" y="9337320"/>
              <a:ext cx="432000" cy="0"/>
            </a:xfrm>
            <a:prstGeom prst="line">
              <a:avLst/>
            </a:prstGeom>
            <a:ln w="28440">
              <a:solidFill>
                <a:srgbClr val="ff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10216800" y="9181800"/>
              <a:ext cx="2370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88920" bIns="8892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Маршрут эвакуации пострадавши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912"/>
          <p:cNvGrpSpPr/>
          <p:nvPr/>
        </p:nvGrpSpPr>
        <p:grpSpPr>
          <a:xfrm>
            <a:off x="423720" y="1847880"/>
            <a:ext cx="7775280" cy="863640"/>
            <a:chOff x="423720" y="1847880"/>
            <a:chExt cx="7775280" cy="863640"/>
          </a:xfrm>
        </p:grpSpPr>
        <p:sp>
          <p:nvSpPr>
            <p:cNvPr id="303" name="Rectangle 913"/>
            <p:cNvSpPr/>
            <p:nvPr/>
          </p:nvSpPr>
          <p:spPr>
            <a:xfrm>
              <a:off x="423720" y="1847880"/>
              <a:ext cx="5199840" cy="234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ти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14"/>
            <p:cNvSpPr/>
            <p:nvPr/>
          </p:nvSpPr>
          <p:spPr>
            <a:xfrm>
              <a:off x="5623560" y="1847880"/>
              <a:ext cx="2575440" cy="46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риска возникновения Ч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15"/>
            <p:cNvSpPr/>
            <p:nvPr/>
          </p:nvSpPr>
          <p:spPr>
            <a:xfrm>
              <a:off x="423720" y="2081880"/>
              <a:ext cx="1108800" cy="23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916"/>
            <p:cNvSpPr/>
            <p:nvPr/>
          </p:nvSpPr>
          <p:spPr>
            <a:xfrm>
              <a:off x="1532520" y="2081880"/>
              <a:ext cx="1090440" cy="23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17"/>
            <p:cNvSpPr/>
            <p:nvPr/>
          </p:nvSpPr>
          <p:spPr>
            <a:xfrm>
              <a:off x="2622960" y="2081880"/>
              <a:ext cx="1000080" cy="23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18"/>
            <p:cNvSpPr/>
            <p:nvPr/>
          </p:nvSpPr>
          <p:spPr>
            <a:xfrm>
              <a:off x="3623400" y="2081880"/>
              <a:ext cx="999720" cy="23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919"/>
            <p:cNvSpPr/>
            <p:nvPr/>
          </p:nvSpPr>
          <p:spPr>
            <a:xfrm>
              <a:off x="4623120" y="2081880"/>
              <a:ext cx="1000080" cy="23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20"/>
            <p:cNvSpPr/>
            <p:nvPr/>
          </p:nvSpPr>
          <p:spPr>
            <a:xfrm>
              <a:off x="423720" y="2315520"/>
              <a:ext cx="110880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21"/>
            <p:cNvSpPr/>
            <p:nvPr/>
          </p:nvSpPr>
          <p:spPr>
            <a:xfrm>
              <a:off x="1532520" y="2315520"/>
              <a:ext cx="109044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2"/>
            <p:cNvSpPr/>
            <p:nvPr/>
          </p:nvSpPr>
          <p:spPr>
            <a:xfrm>
              <a:off x="2622960" y="2315520"/>
              <a:ext cx="100008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23"/>
            <p:cNvSpPr/>
            <p:nvPr/>
          </p:nvSpPr>
          <p:spPr>
            <a:xfrm>
              <a:off x="3623400" y="2315520"/>
              <a:ext cx="99972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24"/>
            <p:cNvSpPr/>
            <p:nvPr/>
          </p:nvSpPr>
          <p:spPr>
            <a:xfrm>
              <a:off x="4623120" y="2315520"/>
              <a:ext cx="100008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25"/>
            <p:cNvSpPr/>
            <p:nvPr/>
          </p:nvSpPr>
          <p:spPr>
            <a:xfrm>
              <a:off x="5623560" y="2315520"/>
              <a:ext cx="2575440" cy="395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иск возникновения ЧС существу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26"/>
            <p:cNvSpPr/>
            <p:nvPr/>
          </p:nvSpPr>
          <p:spPr>
            <a:xfrm>
              <a:off x="1532520" y="2081880"/>
              <a:ext cx="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27"/>
            <p:cNvSpPr/>
            <p:nvPr/>
          </p:nvSpPr>
          <p:spPr>
            <a:xfrm>
              <a:off x="2622960" y="2081880"/>
              <a:ext cx="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28"/>
            <p:cNvSpPr/>
            <p:nvPr/>
          </p:nvSpPr>
          <p:spPr>
            <a:xfrm>
              <a:off x="3623400" y="2081880"/>
              <a:ext cx="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29"/>
            <p:cNvSpPr/>
            <p:nvPr/>
          </p:nvSpPr>
          <p:spPr>
            <a:xfrm>
              <a:off x="4623120" y="2081880"/>
              <a:ext cx="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930"/>
            <p:cNvSpPr/>
            <p:nvPr/>
          </p:nvSpPr>
          <p:spPr>
            <a:xfrm>
              <a:off x="5623560" y="184788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31"/>
            <p:cNvSpPr/>
            <p:nvPr/>
          </p:nvSpPr>
          <p:spPr>
            <a:xfrm>
              <a:off x="423720" y="2081880"/>
              <a:ext cx="519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932"/>
            <p:cNvSpPr/>
            <p:nvPr/>
          </p:nvSpPr>
          <p:spPr>
            <a:xfrm>
              <a:off x="423720" y="2315520"/>
              <a:ext cx="777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33"/>
            <p:cNvSpPr/>
            <p:nvPr/>
          </p:nvSpPr>
          <p:spPr>
            <a:xfrm>
              <a:off x="423720" y="184788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34"/>
            <p:cNvSpPr/>
            <p:nvPr/>
          </p:nvSpPr>
          <p:spPr>
            <a:xfrm>
              <a:off x="8199000" y="184788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35"/>
            <p:cNvSpPr/>
            <p:nvPr/>
          </p:nvSpPr>
          <p:spPr>
            <a:xfrm>
              <a:off x="423720" y="1847880"/>
              <a:ext cx="777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36"/>
            <p:cNvSpPr/>
            <p:nvPr/>
          </p:nvSpPr>
          <p:spPr>
            <a:xfrm>
              <a:off x="423720" y="2711520"/>
              <a:ext cx="777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Object 943"/>
          <p:cNvGraphicFramePr/>
          <p:nvPr/>
        </p:nvGraphicFramePr>
        <p:xfrm>
          <a:off x="638280" y="7972560"/>
          <a:ext cx="4029120" cy="1628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28" name="Object 9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8280" y="7972560"/>
                    <a:ext cx="40291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824440" y="7537320"/>
          <a:ext cx="3386160" cy="1971720"/>
        </p:xfrm>
        <a:graphic>
          <a:graphicData uri="http://schemas.openxmlformats.org/drawingml/2006/table">
            <a:tbl>
              <a:tblPr/>
              <a:tblGrid>
                <a:gridCol w="331920"/>
                <a:gridCol w="1395360"/>
                <a:gridCol w="504720"/>
                <a:gridCol w="551160"/>
                <a:gridCol w="603000"/>
              </a:tblGrid>
              <a:tr h="19044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gridSpan="3"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ы и сред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дразде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й состав (че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(е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1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гарнизона пожарной охра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Д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48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жбы охраны общественного поря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121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ая медицинская 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90440">
                <a:tc gridSpan="2">
                  <a:txBody>
                    <a:bodyPr lIns="68400" rIns="68400" tIns="34200" bIns="34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751032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30" name="Text Box 1022"/>
          <p:cNvSpPr/>
          <p:nvPr/>
        </p:nvSpPr>
        <p:spPr>
          <a:xfrm>
            <a:off x="208080" y="3863880"/>
            <a:ext cx="12671280" cy="890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иски возникновения аварий на железнодорожном транспорте отсутствуют в связи с отсутствием железных дорог проходящих через территорию сельского пос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6:13:27Z</dcterms:created>
  <dc:creator>operator_cus</dc:creator>
  <dc:description/>
  <dc:language>en-US</dc:language>
  <cp:lastModifiedBy>009</cp:lastModifiedBy>
  <dcterms:modified xsi:type="dcterms:W3CDTF">2013-04-05T08:27:32Z</dcterms:modified>
  <cp:revision>467</cp:revision>
  <dc:subject/>
  <dc:title>Слайд 1</dc:title>
</cp:coreProperties>
</file>